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358C9-A017-41EB-A4AC-C14FEBD2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06EEF-ECEB-4A86-84D7-D1964AB2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CAAF3-28AF-4B0F-8D50-C33A0C46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BADA6-6ECC-4131-B591-EF3618E6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F518C-B33A-42EC-948B-1411B8AF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33D91-28C1-43A9-A865-41A4396F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16CB5-D2FA-477F-9B36-B771E30B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8BFB0-4E67-4D89-8D62-C13D0A15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2D3DE-C265-41C5-9391-90B13DE7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AAE2D-BB2F-405F-92D6-72C0363A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59F57-BFB6-4F86-813D-D42AF9AE9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A4FEB-9D0B-44EE-AB71-96D760C5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C2FFD3-0F02-4299-A01D-4E8FC716F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EF2E76-50A1-4B06-85A3-4C9DAEDC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457F7B-7A26-4A4F-87E2-8DDEB3BE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4BB630-2657-4151-BFEE-B75AA7C5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8C16E8-161E-4DF2-8D5B-0E68F966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5B0DC6-B345-499F-A299-EDD6BFFB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68525B-65B6-4F93-BF3B-E5A796D1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72ABA0-0371-4266-8FE8-0F43E786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0A5F38-9029-4D65-A063-0918C36D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4D0D80-702D-4D9F-8805-418505B8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3C9991-DB62-4FC8-B844-36FF1D37D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0D6D3A-A881-42AD-8104-D431A13A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4C83A9-839E-43F0-A02B-B0DB221F5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D55F79-9831-42FC-8A89-90B00027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2E90E0-2C84-4865-AA5F-2F68061C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32AA5B-A896-44A6-AC11-3F3824D2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413F1F-2467-4D73-AA31-A2CDDD3B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FDFD7F-2A08-4AA3-A24F-2C53C8FD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A44CEC-4850-4692-8429-58D10347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77D4D1-7A84-4DE5-A7BC-C429776C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71685C-6F90-41CA-80CC-1CAFEC69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A35C12-3912-4946-9B50-06C22F9C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9B3C4D-0D05-4E19-871E-97F6C784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F6CD81-C60D-42C3-AFFA-D8F319FDA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86EB3B-14C2-48AC-B01F-CDEE4148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8BAA05-2E0C-4A36-B61F-EC516A52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3DD8FE-A274-4F3E-9FA8-541CA4A3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A0C8DE-FDBB-45DC-B681-338AD5AA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04D6C1-D1D0-4CBB-AECD-606248E8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E0B65B-CCCB-440D-A16D-7061951D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1CDB5E-EEAE-4EA8-B4A4-0C8A7370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C3E178-BE4A-4DC6-94F4-D5AA35EA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CB8036-35DF-4BFA-88C9-9FB235AA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0868DB-A242-4980-8313-795D7EC6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A70BA7-297C-48BA-896C-9E4D6ED8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579FF4-0A55-4ACF-9C77-FF5554556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615E-C632-456C-B77B-0044383B52CC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istemi Distribui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6F99-B637-47E1-9A42-C63502C73F2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953D-82DE-41A2-BAEC-1DA2C8AF5E4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5899-A651-4910-A5C4-2AC38822C1F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BA94-2AAB-4BEE-92AF-DD763690FA96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1544760" y="2103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orso d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   Ingegneria del Web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e Applicazioni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 A. 2017-2018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omenico Rosaci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  Sistemi Distribuiti: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RMI Avanz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826920" y="1413000"/>
            <a:ext cx="144720" cy="544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7812000" y="1413000"/>
            <a:ext cx="13320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Distributed Garbage Collector -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9850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Distributed Garbage Collector -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7632720" cy="39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Esempio DC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6335640" cy="34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Esempio DCG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8407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terface Hel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705636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HelloImpl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5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626436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HelloImpl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5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719928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terface MessageOb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84072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MessageObjectImpl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5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616720" cy="38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MessageObjectImpl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5" descr=""/>
          <p:cNvPicPr/>
          <p:nvPr/>
        </p:nvPicPr>
        <p:blipFill>
          <a:blip r:embed="rId1"/>
          <a:stretch/>
        </p:blipFill>
        <p:spPr>
          <a:xfrm>
            <a:off x="1447920" y="1484280"/>
            <a:ext cx="64371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40872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 Server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5" descr=""/>
          <p:cNvPicPr/>
          <p:nvPr/>
        </p:nvPicPr>
        <p:blipFill>
          <a:blip r:embed="rId1"/>
          <a:stretch/>
        </p:blipFill>
        <p:spPr>
          <a:xfrm>
            <a:off x="1835280" y="1413000"/>
            <a:ext cx="5761080" cy="39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 Server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5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76108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 Server -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Picture 5" descr=""/>
          <p:cNvPicPr/>
          <p:nvPr/>
        </p:nvPicPr>
        <p:blipFill>
          <a:blip r:embed="rId1"/>
          <a:stretch/>
        </p:blipFill>
        <p:spPr>
          <a:xfrm>
            <a:off x="1763640" y="1370160"/>
            <a:ext cx="655344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 Client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48036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 Client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698328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ocketFac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8" descr=""/>
          <p:cNvPicPr/>
          <p:nvPr/>
        </p:nvPicPr>
        <p:blipFill>
          <a:blip r:embed="rId1"/>
          <a:stretch/>
        </p:blipFill>
        <p:spPr>
          <a:xfrm>
            <a:off x="1476360" y="1438200"/>
            <a:ext cx="7056360" cy="42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ClientSocketFactory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5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712800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ClientSocketFactory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5" descr=""/>
          <p:cNvPicPr/>
          <p:nvPr/>
        </p:nvPicPr>
        <p:blipFill>
          <a:blip r:embed="rId1"/>
          <a:stretch/>
        </p:blipFill>
        <p:spPr>
          <a:xfrm>
            <a:off x="1514520" y="1341360"/>
            <a:ext cx="672948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ServerSocketFac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5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712800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ustom RMI SocketFac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8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4818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RMI e Firew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1467000" y="1268280"/>
            <a:ext cx="720864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Esempio di Custom RMI SocketFac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5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626436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Esempio di Custom RMI SocketFactory -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84036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InputStream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91200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InputStream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5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756108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OutputStre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8" descr=""/>
          <p:cNvPicPr/>
          <p:nvPr/>
        </p:nvPicPr>
        <p:blipFill>
          <a:blip r:embed="rId1"/>
          <a:stretch/>
        </p:blipFill>
        <p:spPr>
          <a:xfrm>
            <a:off x="1362240" y="1413000"/>
            <a:ext cx="7170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ServerSock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5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26436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Socket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69120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Socket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741672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ClientSocketFactory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8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84036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ClientSocketFactory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5" descr=""/>
          <p:cNvPicPr/>
          <p:nvPr/>
        </p:nvPicPr>
        <p:blipFill>
          <a:blip r:embed="rId1"/>
          <a:stretch/>
        </p:blipFill>
        <p:spPr>
          <a:xfrm>
            <a:off x="1365120" y="1413000"/>
            <a:ext cx="731052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Client che opera dietro un Firewal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32800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ORServerSocketFac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Picture 5" descr=""/>
          <p:cNvPicPr/>
          <p:nvPr/>
        </p:nvPicPr>
        <p:blipFill>
          <a:blip r:embed="rId1"/>
          <a:stretch/>
        </p:blipFill>
        <p:spPr>
          <a:xfrm>
            <a:off x="1555920" y="1484280"/>
            <a:ext cx="68324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Client che opera dietro un Firewall -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63374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irewall sia lato client che lato ser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90544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irewall sia lato client che lato ser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tretch/>
        </p:blipFill>
        <p:spPr>
          <a:xfrm>
            <a:off x="1620720" y="1498680"/>
            <a:ext cx="676764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64800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istributed Garbage Collect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720072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5:01:40Z</dcterms:created>
  <dc:creator>Domenico Rosaci</dc:creator>
  <dc:description/>
  <dc:language>en-US</dc:language>
  <cp:lastModifiedBy>Domenico Rosaci</cp:lastModifiedBy>
  <dcterms:modified xsi:type="dcterms:W3CDTF">2017-09-24T20:56:09Z</dcterms:modified>
  <cp:revision>67</cp:revision>
  <dc:subject/>
  <dc:title>Diapositiva 1</dc:title>
</cp:coreProperties>
</file>