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D58368-E55E-421B-BAC4-3A5C950306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D4D1A4-FFA9-4FE7-BC5C-D9102C33B4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1CF458-245F-452E-8AD8-4EE1A038F6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9330B4-2696-4ACB-A038-6172965916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39AB0E-0890-4762-8E97-19E74CC2AD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15EEE0-249D-4CCE-B44C-1C1C86C54F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7EF9CE-5541-4798-A9DF-72026BE787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481F26-1863-4EC1-9281-C325DAC3FB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271F5D-C2DF-4146-9B77-C2C812559A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C2A6D3-B792-48B6-8025-16F01DF8FA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75948F-1A3E-41E5-9BD1-8DC5405926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236197-F9C6-45A8-9D7E-6F1DC13B49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F01E058-B7F3-4E9E-8122-71817B4A608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D8D60B-5978-4747-8595-5300BC8A542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5B0A10-E068-4EC4-A3EE-0400F108448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7F7790-DFE7-4C29-B7A1-BCC27ADEE6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EDAC53D-4658-475C-BB05-C85269A505D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0EB979-51E4-4E91-92C7-23A7F4C792B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323C052-C32D-4777-8A37-5CAF1AD957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F223DDD-75C5-4A8D-820B-F44CB3634E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ECE634-E8F3-4114-A99C-F823C40350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460B36-8E8D-4CF4-AEAE-39B60B6813B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64FFB73-87C0-43E4-8299-1D4AE7C7464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50D9A25-0EAB-471D-BFF8-77822A7CD1F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87B7D2C-BAAF-4731-B352-2980807A6C2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27949BD-26ED-41E2-B968-E80571E8304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0C8E6FA-3D3D-4B99-BD01-5E6A527C8E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94E76A4-DD96-44F3-BDD8-519BEF52A5F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0A3B57A-44FF-4633-9803-2FED605C28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B7EEF71-2A2B-4D3A-8D80-E4C8001631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D7AAE81-2405-427E-8645-ECD687B590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B13844-BC25-4B60-8163-170A78E1DE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131856-4C38-4B24-84A0-5309CA0FD7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90C00FC-8327-4AEC-85FB-786838827C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61022A6-0403-44E4-96FE-CBA709F0072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910F146-6D12-460D-9F5D-A5446C7AD5B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2AF3BA1-0D64-4733-839E-1CAE3B5B458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FF15831-1F82-4FB5-948F-706DE461F23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C8E2437-E9C7-44EC-9357-0646F62797F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36B35D4-7935-4E84-BE30-3E00B84C5A9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309A032-3CD0-4F40-8EDC-FFF2C1DF2FA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5C5BA6E-5071-4862-8DC3-B35A9221209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2362B16-8617-48A7-AB60-1555777B551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411470C-4A4B-4A14-A704-216B95AA47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12F1152-CFE8-4E0B-A252-B7E32D871F5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FCC3473-43FD-4858-B260-D7E1DFF496F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3F11282-0787-4F4E-80D3-A11BFD420E9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D8D6E60-E465-47D0-824C-5964E5A1509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F97A-C50D-4056-82F7-40FC79323C2E}"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DD49-3503-4F93-B417-0DECEE56FE2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DDAC-FF18-4BF8-B559-1323FF81F938}"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F429-3AE1-425D-BF67-B08FCF37782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FC261-BCC2-4DE0-9433-1DB3AF9CC6D4}"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tp://ftp.cs.vu.nl/" TargetMode="External"/><Relationship Id="rId2" Type="http://schemas.openxmlformats.org/officeDocument/2006/relationships/hyperlink" Target="ftp://ftp.cs.vu.nl/"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a:t>
            </a:r>
            <a:br>
              <a:rPr sz="2400"/>
            </a:br>
            <a:r>
              <a:rPr b="1" lang="it-IT" sz="2400" spc="-1" strike="noStrike">
                <a:solidFill>
                  <a:srgbClr val="ffffff"/>
                </a:solidFill>
                <a:latin typeface="Tahoma"/>
              </a:rPr>
              <a:t>Naming</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4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aming semplice</a:t>
            </a:r>
            <a:endParaRPr b="0" lang="en-US" sz="4400" spc="-1" strike="noStrike">
              <a:solidFill>
                <a:srgbClr val="ffffff"/>
              </a:solidFill>
              <a:latin typeface="Arial"/>
            </a:endParaRPr>
          </a:p>
        </p:txBody>
      </p:sp>
      <p:sp>
        <p:nvSpPr>
          <p:cNvPr id="24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questi sistemi i nomi sono stringhe di bit casuali, non struttura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stinguiam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luzioni semplic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rocci home-ba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Hash Table distrib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4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soluzioni semplici</a:t>
            </a:r>
            <a:endParaRPr b="0" lang="en-US" sz="4000" spc="-1" strike="noStrike">
              <a:solidFill>
                <a:srgbClr val="ffffff"/>
              </a:solidFill>
              <a:latin typeface="Arial"/>
            </a:endParaRPr>
          </a:p>
        </p:txBody>
      </p:sp>
      <p:sp>
        <p:nvSpPr>
          <p:cNvPr id="24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ido per localizzare un’entità su reti local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tale ambito, un messaggio contenente l’identificatore del mittente è messo in rete, ed è richiesto ad ogni macchina di controllare se possiede l’identificato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incipio usato nel protocollo di risoluzione degli indirizzi ARP per trovare l’indirizzo a livello data-link di una macchina dato il solo indirizzo I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ARP, una macchina mette in rete un messaggio chiedendo chi sia il proprietario di un certo indirizzo IP. Il destinatario risponde col suo indirizzo data-link (l’indirizzo Etherne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broadcasting diventa inefficiente man mano che la rete cres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ternativa: Multicasting. Solo un numero ristretto di macchine riceve il messaggi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 un impiegato di un’azienda, quando entra in rete, riceve oltre all’IP un’assegnazione ad un gruppo multicast. Se qualcuno lo cerca, manda la richiesta al gruppo multicast, specificando 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soluzioni semplici</a:t>
            </a:r>
            <a:endParaRPr b="0" lang="en-US" sz="40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ltra soluzione semplice sono i puntatori forwar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un’entità si sposta da A a B, lascia su A un forward alla sua nuova posizione su 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indi un client può rintracciare l’entità seguendo la catena di puntatori forwar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convenienti:</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catene possono diventare molto lungh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i punto intermedio deve mantenere le informazioni di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a vulnerabile all’interruzione della cate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5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illustriamo tramite il sistema Chor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ord usa uno spazio degli identificatori a m bit per assegnare identificatori casuali ai nodi e chiavi a specifiche entità</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numero di bit è di solito 128 o 160, a seconda di quale funzione di hash viene usa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entità con chiave k cade sotto la giurisdizione del nodo con il più piccolo identificatore id maggiore o uguale a 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o nodo è chiamato suc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5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estione fondamentale: come risolvere la chiave k nell’indirizzo di suc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proccio ovvio (e non scalabile): ogni nodo p tiene traccia del suo predecessore pred(p) e del suo successore succ(p+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questo caso, quando un nodo p riceve una richiesta con chiave k, vede se pred(p)&lt;k&lt;=p. In caso positivo, restituisce il suo stesso indirizzo come risposta alla richiesta. In caso negativo, inoltra la richiesta al suo predecessore o al suo successore, a seconda del valore di 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plessità di questa ricerca è line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63"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ord non usa l’approccio lineare, ma un approccio finger-t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nodo di Chord mantiene una tabella (finger table) di al massimo m eleme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 finger table F</a:t>
            </a:r>
            <a:r>
              <a:rPr b="0" lang="it-IT" sz="2000" spc="-1" strike="noStrike" baseline="-25000">
                <a:solidFill>
                  <a:srgbClr val="000000"/>
                </a:solidFill>
                <a:latin typeface="Arial"/>
              </a:rPr>
              <a:t>p </a:t>
            </a:r>
            <a:r>
              <a:rPr b="0" lang="it-IT" sz="2000" spc="-1" strike="noStrike">
                <a:solidFill>
                  <a:srgbClr val="000000"/>
                </a:solidFill>
                <a:latin typeface="Arial"/>
              </a:rPr>
              <a:t>del nodo p ci sono memorizzati gli indirizzi  di alcuni nodi successivi a p, dove la distanza tra i nodi cresce esponenzialm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t>
            </a:r>
            <a:r>
              <a:rPr b="0" lang="it-IT" sz="2000" spc="-1" strike="noStrike" baseline="-25000">
                <a:solidFill>
                  <a:srgbClr val="000000"/>
                </a:solidFill>
                <a:latin typeface="Arial"/>
              </a:rPr>
              <a:t>p</a:t>
            </a:r>
            <a:r>
              <a:rPr b="0" lang="it-IT" sz="2000" spc="-1" strike="noStrike">
                <a:solidFill>
                  <a:srgbClr val="000000"/>
                </a:solidFill>
                <a:latin typeface="Arial"/>
              </a:rPr>
              <a:t>[i]=succ(p+2</a:t>
            </a:r>
            <a:r>
              <a:rPr b="0" lang="it-IT" sz="2000" spc="-1" strike="noStrike" baseline="30000">
                <a:solidFill>
                  <a:srgbClr val="000000"/>
                </a:solidFill>
                <a:latin typeface="Arial"/>
              </a:rPr>
              <a:t>i-1</a:t>
            </a:r>
            <a:r>
              <a:rPr b="0" lang="it-IT" sz="2000" spc="-1" strike="noStrike">
                <a:solidFill>
                  <a:srgbClr val="000000"/>
                </a:solidFill>
                <a:latin typeface="Arial"/>
              </a:rPr>
              <a:t>), i=1,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indi l’i-esimo elemento punta al nodo successivo a p di almeno 2</a:t>
            </a:r>
            <a:r>
              <a:rPr b="0" lang="it-IT" sz="2000" spc="-1" strike="noStrike" baseline="30000">
                <a:solidFill>
                  <a:srgbClr val="000000"/>
                </a:solidFill>
                <a:latin typeface="Arial"/>
              </a:rPr>
              <a:t>i-1 </a:t>
            </a:r>
            <a:r>
              <a:rPr b="0" lang="it-IT" sz="2000" spc="-1" strike="noStrike">
                <a:solidFill>
                  <a:srgbClr val="000000"/>
                </a:solidFill>
                <a:latin typeface="Arial"/>
              </a:rPr>
              <a:t>posizion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individuare una chiave k, il nodo p stabilisce se è lui stesso a gestire k, altrimenti vede se k ricade tra p e F</a:t>
            </a:r>
            <a:r>
              <a:rPr b="0" lang="it-IT" sz="2000" spc="-1" strike="noStrike" baseline="-25000">
                <a:solidFill>
                  <a:srgbClr val="000000"/>
                </a:solidFill>
                <a:latin typeface="Arial"/>
              </a:rPr>
              <a:t>p</a:t>
            </a:r>
            <a:r>
              <a:rPr b="0" lang="it-IT" sz="2000" spc="-1" strike="noStrike">
                <a:solidFill>
                  <a:srgbClr val="000000"/>
                </a:solidFill>
                <a:latin typeface="Arial"/>
              </a:rPr>
              <a:t>[1] e in tal caso gira la richiesta a F</a:t>
            </a:r>
            <a:r>
              <a:rPr b="0" lang="it-IT" sz="2000" spc="-1" strike="noStrike" baseline="-25000">
                <a:solidFill>
                  <a:srgbClr val="000000"/>
                </a:solidFill>
                <a:latin typeface="Arial"/>
              </a:rPr>
              <a:t>p</a:t>
            </a:r>
            <a:r>
              <a:rPr b="0" lang="it-IT" sz="2000" spc="-1" strike="noStrike">
                <a:solidFill>
                  <a:srgbClr val="000000"/>
                </a:solidFill>
                <a:latin typeface="Arial"/>
              </a:rPr>
              <a:t>[1], altrimenti inoltra una richiesta al nodo q con indice j nella finger table tale ch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F</a:t>
            </a:r>
            <a:r>
              <a:rPr b="0" lang="it-IT" sz="2000" spc="-1" strike="noStrike" baseline="-25000">
                <a:solidFill>
                  <a:srgbClr val="000000"/>
                </a:solidFill>
                <a:latin typeface="Arial"/>
              </a:rPr>
              <a:t>p</a:t>
            </a:r>
            <a:r>
              <a:rPr b="0" lang="it-IT" sz="2000" spc="-1" strike="noStrike">
                <a:solidFill>
                  <a:srgbClr val="000000"/>
                </a:solidFill>
                <a:latin typeface="Arial"/>
              </a:rPr>
              <a:t>[j-1]&lt;k&lt;=F</a:t>
            </a:r>
            <a:r>
              <a:rPr b="0" lang="it-IT" sz="2000" spc="-1" strike="noStrike" baseline="-25000">
                <a:solidFill>
                  <a:srgbClr val="000000"/>
                </a:solidFill>
                <a:latin typeface="Arial"/>
              </a:rPr>
              <a:t>p</a:t>
            </a:r>
            <a:r>
              <a:rPr b="0" lang="it-IT" sz="2000" spc="-1" strike="noStrike">
                <a:solidFill>
                  <a:srgbClr val="000000"/>
                </a:solidFill>
                <a:latin typeface="Arial"/>
              </a:rPr>
              <a:t>[j]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67"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ricerca in Chord richiede solo log(N) passi, dove N è il numero di nodi nel siste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un grande sistema distribuito i nodi generalmente entrano ed escono dal sistema continuam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ntrata di un nodo in Chord è semplice. Quando p vuole unirsi al sistema, esso contatta un nodo arbitrario nel sistema e chiede la ricerca di succ(p+1). Una volta che questo nodo è stato identificato, p si inserisce nell’anello. Anche l’uscita ha analoga semplicità</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plessità sta nel tenere aggiornate le finger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emplice: Hash Table Distribuite</a:t>
            </a:r>
            <a:endParaRPr b="0" lang="en-US" sz="4000" spc="-1" strike="noStrike">
              <a:solidFill>
                <a:srgbClr val="ffffff"/>
              </a:solidFill>
              <a:latin typeface="Arial"/>
            </a:endParaRPr>
          </a:p>
        </p:txBody>
      </p:sp>
      <p:sp>
        <p:nvSpPr>
          <p:cNvPr id="271"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ccorre che ogni nodo q controlli la correttezza di F</a:t>
            </a:r>
            <a:r>
              <a:rPr b="0" lang="it-IT" sz="2400" spc="-1" strike="noStrike" baseline="-25000">
                <a:solidFill>
                  <a:srgbClr val="000000"/>
                </a:solidFill>
                <a:latin typeface="Arial"/>
              </a:rPr>
              <a:t>q</a:t>
            </a:r>
            <a:r>
              <a:rPr b="0" lang="it-IT" sz="2400" spc="-1" strike="noStrike">
                <a:solidFill>
                  <a:srgbClr val="000000"/>
                </a:solidFill>
                <a:latin typeface="Arial"/>
              </a:rPr>
              <a:t>[1], in quanto questo elemento si riferisce al nodo successivo a q nell’anello, ovvero a succ(q+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 deve periodicamente contattare succ(q+1) ed eseguire una ricerca di pred(succ(q+1)). Se q=pred(succ(q+1)) si ha consistenza, altrimenti vuol dire che un nuovo nodo p è entrato nell’anello, e quindi q deve aggiornare F</a:t>
            </a:r>
            <a:r>
              <a:rPr b="0" lang="it-IT" sz="2400" spc="-1" strike="noStrike" baseline="-25000">
                <a:solidFill>
                  <a:srgbClr val="000000"/>
                </a:solidFill>
                <a:latin typeface="Arial"/>
              </a:rPr>
              <a:t>q</a:t>
            </a:r>
            <a:r>
              <a:rPr b="0" lang="it-IT" sz="2400" spc="-1" strike="noStrike">
                <a:solidFill>
                  <a:srgbClr val="000000"/>
                </a:solidFill>
                <a:latin typeface="Arial"/>
              </a:rPr>
              <a:t>[1]= a 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questo punto occorre controllare che a anche p abbia aggiornato il proprio predecessore a q.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trolli simili dovranno poi essere effettuati per tutti gli altri nodi della hash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aming strutturato</a:t>
            </a:r>
            <a:endParaRPr b="0" lang="en-US" sz="4400" spc="-1" strike="noStrike">
              <a:solidFill>
                <a:srgbClr val="ffffff"/>
              </a:solidFill>
              <a:latin typeface="Arial"/>
            </a:endParaRPr>
          </a:p>
        </p:txBody>
      </p:sp>
      <p:sp>
        <p:nvSpPr>
          <p:cNvPr id="275"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nomi semplici si adattano bene alle macchine, ma non all’uomo che deve usarli con facilità e quindi memorizzarl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 naming strutturato, i nomi sono organizzati nel cosiddetto spazio dei nom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o spazio dei nomi può essere rappresentato con un grafo orientato e etichettato con due tipi di nod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di fogl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di direc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trutturato: nodi foglia</a:t>
            </a:r>
            <a:endParaRPr b="0" lang="en-US" sz="4000" spc="-1" strike="noStrike">
              <a:solidFill>
                <a:srgbClr val="ffffff"/>
              </a:solidFill>
              <a:latin typeface="Arial"/>
            </a:endParaRPr>
          </a:p>
        </p:txBody>
      </p:sp>
      <p:sp>
        <p:nvSpPr>
          <p:cNvPr id="279"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nodo foglia rappresenta una data entità e non ha archi in usci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genere contiene informazioni sull’entità (ad esempio il suo indirizzo) da fornire ai cli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uò contenere anche lo stato dell’entità, come nel caso dei file system dove i nodi foglia contengono i file veri e prop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ruolo dei nomi nei SD</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i nomi sono usati per condividere le risorse, identificare univocamente le entità e far riferimento alla loro posi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 risovere i nomi è necessario implementare un sistema di nam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naming nei SD si differenzia da quello per sistemi non distribuiti per l’implementazion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aming strutturato: nodi directory</a:t>
            </a:r>
            <a:endParaRPr b="0" lang="en-US" sz="4000" spc="-1" strike="noStrike">
              <a:solidFill>
                <a:srgbClr val="ffffff"/>
              </a:solidFill>
              <a:latin typeface="Arial"/>
            </a:endParaRPr>
          </a:p>
        </p:txBody>
      </p:sp>
      <p:sp>
        <p:nvSpPr>
          <p:cNvPr id="283" name="PlaceHolder 2"/>
          <p:cNvSpPr>
            <a:spLocks noGrp="1"/>
          </p:cNvSpPr>
          <p:nvPr>
            <p:ph/>
          </p:nvPr>
        </p:nvSpPr>
        <p:spPr>
          <a:xfrm>
            <a:off x="1116000" y="1599840"/>
            <a:ext cx="7570800" cy="463716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odo directory ha vari archi in uscita, ognuno etichettato con un no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nodo directory contiene quindi una directory table, in cui ogni elemento rappresenta il nodo finale di un arco in uscita e l’etichetta dell’ar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odo che ha solo archi in uscita e nessuno in entrata è chiamato nodo ro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naming strutturato</a:t>
            </a:r>
            <a:endParaRPr b="0" lang="en-US" sz="4000" spc="-1" strike="noStrike">
              <a:solidFill>
                <a:srgbClr val="ffffff"/>
              </a:solidFill>
              <a:latin typeface="Arial"/>
            </a:endParaRPr>
          </a:p>
        </p:txBody>
      </p:sp>
      <p:pic>
        <p:nvPicPr>
          <p:cNvPr id="287" name="Picture 3" descr=""/>
          <p:cNvPicPr/>
          <p:nvPr/>
        </p:nvPicPr>
        <p:blipFill>
          <a:blip r:embed="rId1"/>
          <a:stretch/>
        </p:blipFill>
        <p:spPr>
          <a:xfrm>
            <a:off x="1116000" y="1600200"/>
            <a:ext cx="75708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ercorsi di naming</a:t>
            </a:r>
            <a:endParaRPr b="0" lang="en-US" sz="44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percorso N in un grafo dei nomi può essere chiamato con la sequenza delle etichette degli archi corrispondenti al percors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 &lt;label-1,label-2,..,label-n&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odo N è il primo nodo del percors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il primo nodo in un pathname è il nodo root il percorso è detto percorso assoluto, altrimenti è detto percorso relat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lti spazi dei nomi sono organizzati come un albero, con un unico nodo radice e ammettendo un solo arco in entrata per ogni no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questi spazi, ogni nodo ha un unico pathname assolu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altri spazi, è consentito che un nodo abbia più archi in entrata, ma non vengono ammessi cicli (grafi orientati acicli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oluzione dei nomi</a:t>
            </a:r>
            <a:endParaRPr b="0" lang="en-US" sz="44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o un pathna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N: &lt;label-1,label-2,..,label-n&g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ccorre recuperare tutte le informazioni associate al nodo a cui il pathname pun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a dal nodo N del grafo dei nodi, dove si cerca nella directory table l’etichetta label-1 e che restituisce l’identificatore del nodo n1 a cui si riferisce label-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isoluzione quindi continua col nodo n1, cercando nella table di n1 l’etichetta label-2 e restituendo il nodo associa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arriva alla fine a restituire l’ultimo nodo del path, che è quello cercato, insieme alle informazioni ad esso associ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eccanismo di chiusura</a:t>
            </a:r>
            <a:endParaRPr b="0" lang="en-US" sz="4400" spc="-1" strike="noStrike">
              <a:solidFill>
                <a:srgbClr val="ffffff"/>
              </a:solidFill>
              <a:latin typeface="Arial"/>
            </a:endParaRPr>
          </a:p>
        </p:txBody>
      </p:sp>
      <p:sp>
        <p:nvSpPr>
          <p:cNvPr id="2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meccanismo di chiusura specifica come e dove iniziare la risoluzione di un n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 esempio, la risoluzione di un nome nel file system di UNIX fa uso del fatto che la posizione del nodo root nel disco logico che rappresenta il file system è implicitamente conosciu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mplementazione di uno spazio dei nomi</a:t>
            </a:r>
            <a:endParaRPr b="0" lang="en-US" sz="4000" spc="-1" strike="noStrike">
              <a:solidFill>
                <a:srgbClr val="ffffff"/>
              </a:solidFill>
              <a:latin typeface="Arial"/>
            </a:endParaRPr>
          </a:p>
        </p:txBody>
      </p:sp>
      <p:sp>
        <p:nvSpPr>
          <p:cNvPr id="3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o spazio dei nomi costituisce il cuore di un naming servi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aming service è un servizio che consente agli utenti di aggiungere, eliminare e cercare nom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naming service è implementato attraverso uno o più name serv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la rete è locale, basta un solo name serv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il servizio è per reti geografiche, occorre distribuirlo su più name serv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a:t>
            </a:r>
            <a:endParaRPr b="0" lang="en-US" sz="4000" spc="-1" strike="noStrike">
              <a:solidFill>
                <a:srgbClr val="ffffff"/>
              </a:solidFill>
              <a:latin typeface="Arial"/>
            </a:endParaRPr>
          </a:p>
        </p:txBody>
      </p:sp>
      <p:sp>
        <p:nvSpPr>
          <p:cNvPr id="3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opportuno suddividere lo spazio dei nomi in livelli logic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a:t>
            </a:r>
            <a:r>
              <a:rPr b="1" lang="it-IT" sz="2400" spc="-1" strike="noStrike">
                <a:solidFill>
                  <a:srgbClr val="000000"/>
                </a:solidFill>
                <a:latin typeface="Arial"/>
              </a:rPr>
              <a:t>livello globale</a:t>
            </a:r>
            <a:r>
              <a:rPr b="0" lang="it-IT" sz="2400" spc="-1" strike="noStrike">
                <a:solidFill>
                  <a:srgbClr val="000000"/>
                </a:solidFill>
                <a:latin typeface="Arial"/>
              </a:rPr>
              <a:t> è costituito dal nodo root e dai nodi immediatamente vicini alla root, caratterizzati da un alto livello di stabilità della directory table. Tali nodi rappresentano in genere istituzioni, aziende o gruppi di azien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a:t>
            </a:r>
            <a:r>
              <a:rPr b="1" lang="it-IT" sz="2400" spc="-1" strike="noStrike">
                <a:solidFill>
                  <a:srgbClr val="000000"/>
                </a:solidFill>
                <a:latin typeface="Arial"/>
              </a:rPr>
              <a:t>livello amministrativo</a:t>
            </a:r>
            <a:r>
              <a:rPr b="0" lang="it-IT" sz="2400" spc="-1" strike="noStrike">
                <a:solidFill>
                  <a:srgbClr val="000000"/>
                </a:solidFill>
                <a:latin typeface="Arial"/>
              </a:rPr>
              <a:t> è costituito dai nodi che rappresentano singole entità (es. dipartimenti) che appartengono alla stessa unità amministrativ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a:t>
            </a:r>
            <a:r>
              <a:rPr b="1" lang="it-IT" sz="2400" spc="-1" strike="noStrike">
                <a:solidFill>
                  <a:srgbClr val="000000"/>
                </a:solidFill>
                <a:latin typeface="Arial"/>
              </a:rPr>
              <a:t>livello gestionale</a:t>
            </a:r>
            <a:r>
              <a:rPr b="0" lang="it-IT" sz="2400" spc="-1" strike="noStrike">
                <a:solidFill>
                  <a:srgbClr val="000000"/>
                </a:solidFill>
                <a:latin typeface="Arial"/>
              </a:rPr>
              <a:t> è costituito dai nodi che cambiano più frequentemente, ad es. associati agli host di una rete loca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 spazio dei nomi nel DNS</a:t>
            </a:r>
            <a:endParaRPr b="0" lang="en-US" sz="4400" spc="-1" strike="noStrike">
              <a:solidFill>
                <a:srgbClr val="ffffff"/>
              </a:solidFill>
              <a:latin typeface="Arial"/>
            </a:endParaRPr>
          </a:p>
        </p:txBody>
      </p:sp>
      <p:sp>
        <p:nvSpPr>
          <p:cNvPr id="311" name="PlaceHolder 2"/>
          <p:cNvSpPr>
            <a:spLocks noGrp="1"/>
          </p:cNvSpPr>
          <p:nvPr>
            <p:ph/>
          </p:nvPr>
        </p:nvSpPr>
        <p:spPr>
          <a:xfrm>
            <a:off x="1116000" y="1599840"/>
            <a:ext cx="7570800" cy="470844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 spazio dei nomi è suddiviso in parti non sovrapponibili, chiamate zone del D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2" name="Picture 4" descr=""/>
          <p:cNvPicPr/>
          <p:nvPr/>
        </p:nvPicPr>
        <p:blipFill>
          <a:blip r:embed="rId1"/>
          <a:stretch/>
        </p:blipFill>
        <p:spPr>
          <a:xfrm>
            <a:off x="2124000" y="2282760"/>
            <a:ext cx="6048360" cy="402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1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livello globale</a:t>
            </a:r>
            <a:endParaRPr b="0" lang="en-US" sz="4000" spc="-1" strike="noStrike">
              <a:solidFill>
                <a:srgbClr val="ffffff"/>
              </a:solidFill>
              <a:latin typeface="Arial"/>
            </a:endParaRPr>
          </a:p>
        </p:txBody>
      </p:sp>
      <p:sp>
        <p:nvSpPr>
          <p:cNvPr id="31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a zona è implementata in un name server separa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name server di ogni livello devono soddisfare requisiti diver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name server del livello globale devono essere altamente disponibili (se uno di questi name server si guasta un’ampia parte dello spazio dei nomi diventa irragiungib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isto che le directory table del livello globale non cambiano spesso, i client possono memorizzare in memorie cache i risultati delle ricerche. I name server possono quindi non rispondere in tempi molto veloci alle richieste. E’ invece necessario avere un alto throughp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livello globale, disponibilità e prestazioni possono essere ottenute combinando meccanismi di caching con politiche di replicazione dei server (entrano qui in gioco problematiche di consistenza dei da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1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livello amministrativo</a:t>
            </a:r>
            <a:endParaRPr b="0" lang="en-US" sz="4000" spc="-1" strike="noStrike">
              <a:solidFill>
                <a:srgbClr val="ffffff"/>
              </a:solidFill>
              <a:latin typeface="Arial"/>
            </a:endParaRPr>
          </a:p>
        </p:txBody>
      </p:sp>
      <p:sp>
        <p:nvSpPr>
          <p:cNvPr id="32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isponibilità di un name server a livello amministrativo è importante per i client della stessa azienda, ma non ha ripercussioni per gli utenti al di fuori dell’aziend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merito alle prestazioni, si può fare un discorso simili a quello fatto per i name server del livello globa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avia, a livello amministrativo le risposte alle ricerche devono essere più rapidi, così come gli aggiornamenti. E’ inaccettabile ad es. che un account per un nuovo utente richieda delle ore prima di essere attiva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solito a livello amministrativo si usano macchine ad alte prestazio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omi, identificatori e indirizzi</a:t>
            </a: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Un nome è una stringa di bit o caratteri utilizzati per riferirsi a un’entità</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entità è una qualsiasi risorsa: un host, una stampante, un file, un ogget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operare su un’entità in genere occorre accedervi attraverso un access po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nome del punto d’accesso di un’entità è chiamato </a:t>
            </a:r>
            <a:r>
              <a:rPr b="1" lang="it-IT" sz="2800" spc="-1" strike="noStrike">
                <a:solidFill>
                  <a:srgbClr val="000000"/>
                </a:solidFill>
                <a:latin typeface="Arial"/>
              </a:rPr>
              <a:t>indirizzo dell’entità</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2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livello gestionale</a:t>
            </a:r>
            <a:endParaRPr b="0" lang="en-US" sz="4000" spc="-1" strike="noStrike">
              <a:solidFill>
                <a:srgbClr val="ffffff"/>
              </a:solidFill>
              <a:latin typeface="Arial"/>
            </a:endParaRPr>
          </a:p>
        </p:txBody>
      </p:sp>
      <p:sp>
        <p:nvSpPr>
          <p:cNvPr id="32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 livello gestionale, i requisiti relativi alla disponibilità sono in genere meno impegnativ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spesso sufficiente usare una singola macchina dedicata come name server, correndo il rischio di temporanee indisponibilit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prestazioni a questo livello sono invece un punto cruciale, e a causa dei continui aggiornamenti delle directory table, le politiche di caching sono spesso inefficac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2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istribuzione dello spazio dei nomi: riepilogo</a:t>
            </a:r>
            <a:endParaRPr b="0" lang="en-US" sz="4000" spc="-1" strike="noStrike">
              <a:solidFill>
                <a:srgbClr val="ffffff"/>
              </a:solidFill>
              <a:latin typeface="Arial"/>
            </a:endParaRPr>
          </a:p>
        </p:txBody>
      </p:sp>
      <p:graphicFrame>
        <p:nvGraphicFramePr>
          <p:cNvPr id="328" name=""/>
          <p:cNvGraphicFramePr/>
          <p:nvPr/>
        </p:nvGraphicFramePr>
        <p:xfrm>
          <a:off x="1249200" y="1816200"/>
          <a:ext cx="7570800" cy="3700440"/>
        </p:xfrm>
        <a:graphic>
          <a:graphicData uri="http://schemas.openxmlformats.org/drawingml/2006/table">
            <a:tbl>
              <a:tblPr/>
              <a:tblGrid>
                <a:gridCol w="1892520"/>
                <a:gridCol w="1893960"/>
                <a:gridCol w="1892160"/>
                <a:gridCol w="1892160"/>
              </a:tblGrid>
              <a:tr h="647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Elemen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Globa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Amministrativ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Gestiona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1c168c"/>
                    </a:solidFill>
                  </a:tcPr>
                </a:tc>
              </a:tr>
              <a:tr h="388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cal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oba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ziend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ipartimen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umero nod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och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l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ltissim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462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mpi di risposta alle ricerch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cond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llisecond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mmediat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47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opagazione aggiornament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n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mmedi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mmediat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2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umero di replich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l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ssuna o poch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ssun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pplicazione caching lato cli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 volt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3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mplementazione della risoluzione dei nomi</a:t>
            </a:r>
            <a:endParaRPr b="0" lang="en-US" sz="4000" spc="-1" strike="noStrike">
              <a:solidFill>
                <a:srgbClr val="ffffff"/>
              </a:solidFill>
              <a:latin typeface="Arial"/>
            </a:endParaRPr>
          </a:p>
        </p:txBody>
      </p:sp>
      <p:sp>
        <p:nvSpPr>
          <p:cNvPr id="33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upponiamo per semplicità che non vi sia replicazione dei name server né uso di caching lato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client ha accesso ad un name resolver locale, responsabile di avviare il processo di risoluzi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empio di path da risolve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oot:&lt;nl,vu,cs,ftp,pub,globe,index.html&g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RL corrispondente: ftp://ftp.cs.vu.nl/pub/globe/index.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3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mplementazione della risoluzione dei nomi</a:t>
            </a:r>
            <a:endParaRPr b="0" lang="en-US" sz="4000" spc="-1" strike="noStrike">
              <a:solidFill>
                <a:srgbClr val="ffffff"/>
              </a:solidFill>
              <a:latin typeface="Arial"/>
            </a:endParaRPr>
          </a:p>
        </p:txBody>
      </p:sp>
      <p:sp>
        <p:nvSpPr>
          <p:cNvPr id="33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ue meccanismi di risoluzione possibil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oluzione iterativ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oluzione ricors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3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oluzione iterativa</a:t>
            </a:r>
            <a:endParaRPr b="0" lang="en-US" sz="4400" spc="-1" strike="noStrike">
              <a:solidFill>
                <a:srgbClr val="ffffff"/>
              </a:solidFill>
              <a:latin typeface="Arial"/>
            </a:endParaRPr>
          </a:p>
        </p:txBody>
      </p:sp>
      <p:sp>
        <p:nvSpPr>
          <p:cNvPr id="34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ame resolver passa al root name server (di cui conosce l’indirizzo) il nome comple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nostro esempio, il root name server risolve l’indirizzo del nome nl e restituisce questo indirizzo al name resolv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bane resolver passa il resto del pathname, cioè nl:&lt;vu,cs,ftp,pub,globe,index.html&gt; a quel name server n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l può risolvere solo l’indirizzo di vu, e restituisce al name resolver il nome del name server di v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ame resover contatterà il name server di vu, che risolverà sia l’etichetta cs sia successivamente quella ftp, e quindi restituirà l’indirizzo del name server ft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questo punto il name resolver contatterà il name server ftp, che risolverà le etichette pub,globe e index.html, e restituendo al name resolver l’indirizzo della risorsa (un file html) che potrà venire trasferita dal client mediante protocollo FT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4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oluzione ricorsiva</a:t>
            </a:r>
            <a:endParaRPr b="0" lang="en-US" sz="4400" spc="-1" strike="noStrike">
              <a:solidFill>
                <a:srgbClr val="ffffff"/>
              </a:solidFill>
              <a:latin typeface="Arial"/>
            </a:endParaRPr>
          </a:p>
        </p:txBody>
      </p:sp>
      <p:sp>
        <p:nvSpPr>
          <p:cNvPr id="34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vece di restituire ogni risultato intermedio al name resolver del client, il name server contattato restituisce il risultato direttamente al name server successi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conveniente di questa risoluzione è che viene richiesto a ciascun name server un grado di prestazioni superio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 solito questo carico è pesante, ed a livello globale i name server supportano solo la risoluzione iterativ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Risoluzione ricorsiva: vantaggi</a:t>
            </a:r>
            <a:endParaRPr b="0" lang="en-US" sz="4000" spc="-1" strike="noStrike">
              <a:solidFill>
                <a:srgbClr val="ffffff"/>
              </a:solidFill>
              <a:latin typeface="Arial"/>
            </a:endParaRPr>
          </a:p>
        </p:txBody>
      </p:sp>
      <p:sp>
        <p:nvSpPr>
          <p:cNvPr id="34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name server può gradualmente imparare, e salvare nella sua cache, gli indirizzi dei name server di livello più bas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 livello globale e a livello amministrativo gli indirizzi cambiano poco spesso, quindi il caching è molto effic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oltre la comunicazione con la risoluzione ricorsiva è in genere più veloce, perché il name server contattato non deve restituire il risultato al name resolv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5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main Name System (DNS)</a:t>
            </a:r>
            <a:endParaRPr b="0" lang="en-US" sz="4400" spc="-1" strike="noStrike">
              <a:solidFill>
                <a:srgbClr val="ffffff"/>
              </a:solidFill>
              <a:latin typeface="Arial"/>
            </a:endParaRPr>
          </a:p>
        </p:txBody>
      </p:sp>
      <p:sp>
        <p:nvSpPr>
          <p:cNvPr id="35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DNS di Internet è uno dei più diffusi servizi di naming distribuiti oggi in u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usato per ricercare gli indirizzi IP degli host e dei mail serv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organizzato gerarchicamente come un albero con radi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etichetta è una stringa case insensitive, alfanumerica, della lunghezza massima di 63 caratter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lunghezza di un pathname completo è limitata a 255 caratter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ppresentazione in forma di stringa di un nome è costituita dall’elenco delle sue stringhe, da sinistra verso destra. La root è rappresentata da un pu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flits.cs.vu.nl. (il punto per semplicità si omet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o che un nodo ha esattamente un arco in entrata, l’etichetta di questo arco viene usata come nome del no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sottoalbero è chiamato dominio. Il path del nodo radice del sottoalbero è chiamato nome del domini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ontenuto di un nodo è costituito da un insieme di resouce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5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ffffff"/>
                </a:solidFill>
                <a:latin typeface="Arial"/>
              </a:rPr>
              <a:t>Tipi di resource record</a:t>
            </a:r>
            <a:endParaRPr b="0" lang="en-US" sz="4000" spc="-1" strike="noStrike">
              <a:solidFill>
                <a:srgbClr val="ffffff"/>
              </a:solidFill>
              <a:latin typeface="Arial"/>
            </a:endParaRPr>
          </a:p>
        </p:txBody>
      </p:sp>
      <p:graphicFrame>
        <p:nvGraphicFramePr>
          <p:cNvPr id="356" name=""/>
          <p:cNvGraphicFramePr/>
          <p:nvPr/>
        </p:nvGraphicFramePr>
        <p:xfrm>
          <a:off x="1116000" y="1600200"/>
          <a:ext cx="7777080" cy="4673520"/>
        </p:xfrm>
        <a:graphic>
          <a:graphicData uri="http://schemas.openxmlformats.org/drawingml/2006/table">
            <a:tbl>
              <a:tblPr/>
              <a:tblGrid>
                <a:gridCol w="1008000"/>
                <a:gridCol w="1656000"/>
                <a:gridCol w="5113080"/>
              </a:tblGrid>
              <a:tr h="3906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Tip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Entità associ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Descrizio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1c168c"/>
                    </a:solidFill>
                  </a:tcPr>
                </a:tc>
              </a:tr>
              <a:tr h="4572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O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Zo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ntiene informazioni sulla zona rappresentata (es. indirizzo email dell’amministrato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4572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tiene l’indirizzo IP dell’host (se l’host ha più IP, avremo un record per ogni I)</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4572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Domin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i riferisce al mail server associato al nodo (tutte le email indirizzate a questo nodo verranno recapitate al mail server specificat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4572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RV</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Domin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i riferisce a un server che gestisce uno specifico servizio (es. Web serve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39204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N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Zo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i riferisce a un name server che implementa la zona rappresent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63972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NAM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No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ink simbolico con il nome primario del nodo rappresentato (un host può avere anche molti alias, che vengono implementati memorizzando in CNAME il nome primari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63972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T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tiene il nome canonico dell’host. E’ usato dal DNS in nodi creati per permettere di rintracciare il nome canonico di un host a partire dall’IP. Questi nodi si creano aggiungeno all’IP il suffisso in-addr.arp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39204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INF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ntiene informazioni sull’host associat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c168c"/>
                    </a:solidFill>
                  </a:tcPr>
                </a:tc>
              </a:tr>
              <a:tr h="390600">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HOS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Qualunq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1c168c"/>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tiene qualunque informazione util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1c168c"/>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5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mplementazione del DNS</a:t>
            </a:r>
            <a:endParaRPr b="0" lang="en-US" sz="4400" spc="-1" strike="noStrike">
              <a:solidFill>
                <a:srgbClr val="ffffff"/>
              </a:solidFill>
              <a:latin typeface="Arial"/>
            </a:endParaRPr>
          </a:p>
        </p:txBody>
      </p:sp>
      <p:sp>
        <p:nvSpPr>
          <p:cNvPr id="36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DNS è suddiviso solo in livello globale e livello amministrativo. Il livello gestionale è costituito dai file system locali e quindi non fa parte del D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i zona è gestita da un name server primario, di solito replicato, che gestisce gli aggiornamenti, modificando la base di dati locale al DNS primari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name server secondari di una zona non possono accedere alla base di dati, ma chiedono il trasferimento del contenuto al name server primario (trasferimento di zo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base di dati del name server è implementata come un insieme di file, il più importante dei quali contiene i resource records di tutti i nodi della zon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Nomi, identificatori e indirizzi</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entità può avere più punti di accesso, quindi più indirizz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entità può cambiare indirizzo nel temp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ortante: un’entità che cambia punto di accesso nel tempo, come viene identif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istono entità (ad esempio servizi Web) che sono associate a punti di accesso variabili nel tempo (ad esempio cambia la locazione della macchina server che li ospi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nomi di queste entità dovrebbero essere indipendenti dagli indirizzi (variabili) dei punti di accesso di volta in volta associa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6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base di dati DNS</a:t>
            </a:r>
            <a:endParaRPr b="0" lang="en-US" sz="4400" spc="-1" strike="noStrike">
              <a:solidFill>
                <a:srgbClr val="ffffff"/>
              </a:solidFill>
              <a:latin typeface="Arial"/>
            </a:endParaRPr>
          </a:p>
        </p:txBody>
      </p:sp>
      <p:pic>
        <p:nvPicPr>
          <p:cNvPr id="364" name="Picture 4" descr=""/>
          <p:cNvPicPr/>
          <p:nvPr/>
        </p:nvPicPr>
        <p:blipFill>
          <a:blip r:embed="rId1"/>
          <a:stretch/>
        </p:blipFill>
        <p:spPr>
          <a:xfrm>
            <a:off x="2075040" y="1184400"/>
            <a:ext cx="5521320" cy="5052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36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ottodomini implementati in zone diverse</a:t>
            </a:r>
            <a:endParaRPr b="0" lang="en-US" sz="4000" spc="-1" strike="noStrike">
              <a:solidFill>
                <a:srgbClr val="ffffff"/>
              </a:solidFill>
              <a:latin typeface="Arial"/>
            </a:endParaRPr>
          </a:p>
        </p:txBody>
      </p:sp>
      <p:pic>
        <p:nvPicPr>
          <p:cNvPr id="368" name="Picture 4" descr=""/>
          <p:cNvPicPr/>
          <p:nvPr/>
        </p:nvPicPr>
        <p:blipFill>
          <a:blip r:embed="rId1"/>
          <a:stretch/>
        </p:blipFill>
        <p:spPr>
          <a:xfrm>
            <a:off x="1690560" y="1844640"/>
            <a:ext cx="6697800" cy="209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roblematiche sul naming</a:t>
            </a:r>
            <a:endParaRPr b="0" lang="en-US" sz="44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 un’entità ha più punti d’accesso, quale nome associare all’entità?</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s. un Web service di un’azienda è distribuito su più Web server, con differenti indirizzi. Quale indirizzo è il miglio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ccorre un nome (nell’esempio, un nome per il Web service) </a:t>
            </a:r>
            <a:r>
              <a:rPr b="1" lang="it-IT" sz="3200" spc="-1" strike="noStrike">
                <a:solidFill>
                  <a:srgbClr val="000000"/>
                </a:solidFill>
                <a:latin typeface="Arial"/>
              </a:rPr>
              <a:t>indipendente dalla posizione</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dentificatori</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no nomi aventi particolari caratteristich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identificatore si riferisce al massimo ad una entità</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entità è referenziata al massimo da un identificat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identificatore si riferisce sempre alla stessa entità (cioè non è mai rius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dirizzi e identificatori</a:t>
            </a:r>
            <a:endParaRPr b="0" lang="en-US" sz="4400" spc="-1" strike="noStrike">
              <a:solidFill>
                <a:srgbClr val="ffffff"/>
              </a:solidFill>
              <a:latin typeface="Arial"/>
            </a:endParaRPr>
          </a:p>
        </p:txBody>
      </p:sp>
      <p:sp>
        <p:nvSpPr>
          <p:cNvPr id="2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iché un indirizzo può essere assegnato a più entità, non è un nome adatto per fungere da identificat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cuni nomi sono particolarmente adatti per essere ricordati, e quindi usati facilmente, dalle persone: nomi </a:t>
            </a:r>
            <a:r>
              <a:rPr b="1" lang="it-IT" sz="2800" spc="-1" strike="noStrike">
                <a:solidFill>
                  <a:srgbClr val="000000"/>
                </a:solidFill>
                <a:latin typeface="Arial"/>
              </a:rPr>
              <a:t>human-friend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i nomi sono in genere rappresentati da stringhe di caratteri (es. nomi D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3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egame identificatore-indirizzo</a:t>
            </a:r>
            <a:endParaRPr b="0" lang="en-US" sz="4000" spc="-1" strike="noStrike">
              <a:solidFill>
                <a:srgbClr val="ffffff"/>
              </a:solidFill>
              <a:latin typeface="Arial"/>
            </a:endParaRPr>
          </a:p>
        </p:txBody>
      </p:sp>
      <p:sp>
        <p:nvSpPr>
          <p:cNvPr id="23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è uno stretto legame tra la risoluzione dei nomi nei SD ed il routing dei messagg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sistema di naming mantiene un collegamento nome-indirizzo per le entità</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tabella di coppie (nome,indirizzo)  non è però adatta a realizzare il naming dei sistemi distribuiti, che spesso si espandono in grandi reti di calcolator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ò che succede è che invece un nome viene scomposto in molte parti, come </a:t>
            </a:r>
            <a:r>
              <a:rPr b="0" lang="it-IT" sz="1800" spc="-1" strike="noStrike" u="sng">
                <a:solidFill>
                  <a:srgbClr val="009999"/>
                </a:solidFill>
                <a:uFillTx/>
                <a:latin typeface="Arial"/>
                <a:hlinkClick r:id="rId1"/>
              </a:rPr>
              <a:t>ftp.cs.vu.n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client che ha bisogno di conoscere l’indirizzo del punto di accesso di </a:t>
            </a:r>
            <a:r>
              <a:rPr b="0" lang="it-IT" sz="1800" spc="-1" strike="noStrike" u="sng">
                <a:solidFill>
                  <a:srgbClr val="009999"/>
                </a:solidFill>
                <a:uFillTx/>
                <a:latin typeface="Arial"/>
                <a:hlinkClick r:id="rId2"/>
              </a:rPr>
              <a:t>ftp.cs.vu.nl</a:t>
            </a:r>
            <a:r>
              <a:rPr b="0" lang="it-IT" sz="1800" spc="-1" strike="noStrike">
                <a:solidFill>
                  <a:srgbClr val="000000"/>
                </a:solidFill>
                <a:latin typeface="Arial"/>
              </a:rPr>
              <a:t> risolverà prima nl per trovare il server NS(nl) responsabile dei nomi relativi a nl, quindi passerà il resto del nome a NS(n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est’ultimo risolverà il nome vu identificando il server NS(vu.nl) responsabile dei nomi che terminano con vu.nl, e passerà il resto del nome a NS(vu.n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continua così a procedere come sop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aming</a:t>
            </a:r>
            <a:endParaRPr b="0" lang="en-US" sz="1400" spc="-1" strike="noStrike">
              <a:solidFill>
                <a:srgbClr val="000000"/>
              </a:solidFill>
              <a:latin typeface="Arial"/>
            </a:endParaRPr>
          </a:p>
        </p:txBody>
      </p:sp>
      <p:sp>
        <p:nvSpPr>
          <p:cNvPr id="23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re tipologie di naming</a:t>
            </a:r>
            <a:endParaRPr b="0" lang="en-US" sz="4400" spc="-1" strike="noStrike">
              <a:solidFill>
                <a:srgbClr val="ffffff"/>
              </a:solidFill>
              <a:latin typeface="Arial"/>
            </a:endParaRPr>
          </a:p>
        </p:txBody>
      </p:sp>
      <p:sp>
        <p:nvSpPr>
          <p:cNvPr id="23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aming Sempl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aming Gerarch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aming basato sugli attribu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5:18Z</dcterms:modified>
  <cp:revision>91</cp:revision>
  <dc:subject/>
  <dc:title>Diapositiva 1</dc:title>
</cp:coreProperties>
</file>