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BD7B-F931-4F5A-9152-6DE38C15D4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7E51-18E0-404B-8031-3C9CEB0348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8D18-9D48-43A9-9224-7149AC47D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2E77-A796-4F28-9B5D-590A0C846D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5552-72CE-4CB0-972B-F100CD58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7114-C30C-4757-9AAA-273BA77CDD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E92A-1A52-4F5D-9BB7-5F93EB62F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0D6F-9594-4B18-B68E-A1CE0AE308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E1F4-7C85-43D0-B8E1-399DE3287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CC35-AD34-49F9-90D6-99994B48A4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0435-9843-4AF3-8598-C8F5442C1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D1D7-3831-408A-BB99-2D79F48BB7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3B64-0BA3-4767-A825-9962670DF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ACE2-273C-4544-B729-73FCC9DB3E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5A6C-57DF-47C4-82FD-BB47A17A7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0147-2EC7-4396-80E4-3878A086744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00FC-5FEC-4191-BFBC-2CD71735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EC13-6556-4DB4-9A3A-F2BF671C87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0E04-B1EB-4CD2-A94C-31EAC7FC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F23F-5491-4757-A5A7-0E260B855A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D19A-50A1-444F-9582-CB2AC4AE2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FFA6-18DF-403D-BA86-7E6DF1EDB4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3647-5181-457F-8076-A10DAF2DD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E7AD-D357-41D2-BBCF-7A09BE3564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17A5-9871-4C38-87C9-C4CE715CB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A420-CAA4-49E1-9F53-9760247AF30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213E-625B-4239-A8EA-B0F7EA72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5B04-E3C8-4355-B833-705EC9A370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E009-F88A-4DC9-82AF-B1BE03EFB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B469-0B63-44E7-A227-B49BD58D8C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94BA-A0B1-440C-8A69-282E14C4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916D-EC26-4393-A1F7-0BAB2C62AFC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E794-7E88-4E37-B780-BFA4D6CE2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45A4-7467-43D7-8A11-687F32B9EE9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AD1B-2303-455B-ABBF-AA09B7F69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A3C5-FCD6-43E8-A5ED-28D813DB29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C17E-A27B-4F8F-A3EE-BE14A21BA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B717-9A3F-4505-90C4-782DE99561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DCAC-8326-4D92-9520-E384C100E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15D2-CAFB-4118-A554-5C955399036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0613-947E-476E-9BDF-02F75EF90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9522-CA9E-4768-A2FC-B60BAADB08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00CC-809D-4B18-88CE-EAF5787E4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053F-3909-4F78-B90A-91FAE3BE95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E13C-6960-4D92-8812-D72EFC50D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A78C-A6FB-4DDA-9623-FD841C6128B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F729-E27F-4EA3-9B6D-845F174E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765C-E1E5-4CC2-A158-1C0E3E4070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DFD8-BABA-4EDE-B4D1-3AC74C45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A7CB-BC9E-4809-B63D-5524795349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D91F-57AC-4C45-AD71-986AFA314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4D49-6371-4A65-A8DD-8E658CD9C3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BA53-23C6-4A3C-93F4-E3CB2E3F4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F7E5-4B99-4CC2-949A-F1B671D833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15DE-7170-4522-A8DA-1A2699D3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2451-5141-402D-A6F6-A77198A0BC8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C148-E704-4615-ACFE-072E8A50F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38FC-628A-47BE-96C0-35BA31719C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977E-7F5D-4EB7-87F2-83E4DE71D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861-6D42-4845-A340-95833B00A9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1C3A-41A6-48D2-9B96-F8F989A3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B848-41D4-456D-9176-B8C291572E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E49A-D92B-4D3A-B2E3-45C8D05A7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0427-B6E6-4BAA-9CCC-CEC103E8CD6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31C3-0678-488F-96DC-F1078D28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E8EF-F636-4C2B-B4FE-D5DD0D82DA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3C94-ED72-4944-B956-7A4C32FB2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16D0-069F-4A06-819D-395151DEDD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C4BE-F8E7-48CA-8240-00E88BDD2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930D-A16A-4B39-A05A-719F541C87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186A-F3FB-4F00-B8EF-407E70901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690F-056E-4404-B6A8-26F59F7928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F38C-F088-423E-9273-67F0368FC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2D97-169F-4BEC-B1ED-80A250D729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4962-3D57-44C5-A5A0-46DE1E7B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4E51-9E16-4782-8B7E-23E39A15B3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B12F-AFC5-4A13-825C-1053E4547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BBA1-C622-4089-A0B4-F5F6A6164B4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65A1-1DCC-4EFE-AC61-1A8373AEA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E4DE-A0B0-4071-8663-181C517F79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0EF1-82B0-4054-81F3-360C6D6E7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C3ED-1733-4C03-9829-E28B502D4C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B93E-5321-4A6A-90DC-DFB65BFD8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16ED-838E-4E01-A733-70F479D4750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81DE-7A55-45F3-9EB0-C0767087D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B728-7294-4D87-A4B3-C8075D14CB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0FD5-43AF-4B22-96F8-34C0A97F0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AA49-2A33-4150-B80F-F7589B997B2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5F90-4FEA-46F7-8007-43E774BB3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4FCC-AC32-4687-AA11-ECC828CA0FF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486C-F412-499F-BD7B-039C1556E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5A00-0E46-4DB7-ABDD-346A1AB93F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3132-E7DF-4F4D-9FC6-0A9DAAFC1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662A-BAA7-4526-B289-48B8C3C7D1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5D94-E2A4-4651-B749-05B25D332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83A5-5B15-41E4-941B-49400A9970B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6370-541B-4AF0-8E62-AB8BC15C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DD45-8546-4F1D-B00F-BAA2589F53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1759-F8DC-437F-9B12-6852B8359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C09E6-030F-4E6A-B117-B902AF27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BBC87-A881-432F-8AA9-297035C0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B68F4-D04E-4545-BA2D-618C9E1A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F4B93-805E-4F7A-BC47-5C793796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8A3F2-044B-4C56-B5BC-03EECB05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7A496-FC7C-493E-9255-68A02B55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2D1E2-529C-42FF-8117-347419F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88D39-AB5F-43F0-95B0-8C7AF85C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C73F9-8142-4614-B7F2-A98D6FCE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69DCF-AF5E-48E3-BB4F-EB0637E3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FFF86-6D15-4ABF-960F-202B758A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48B49-21FC-4C09-97B3-97B2163A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22091-0027-4F6C-AD3F-5AE46895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5E014-E544-473A-AB87-F2D3A14B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D9226-AC41-432A-901C-F18C53CE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AC9CC-7970-476F-A8DE-D785D3F7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5B35D-5B7A-4A6C-B7AA-8C5CF4C9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669DE-17E8-4F3C-8D5B-DEF03C6E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0DE37-F0D2-4CC1-9EEF-AC3CE2AD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C5FC0-28DD-44A0-9021-F571C0FD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81328-5746-45F8-9EA0-2985CDD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F4DB1-61C5-43E5-87C5-2B344113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79274-BAEB-4CE1-A9E1-711B961C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AB784-6E45-42BD-B0A0-FD060646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06D21-DDC2-4396-BD3B-B8435A19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090C0-E62D-4C2F-B2FA-D9E11BF0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B2358-9950-4971-916B-1C4D0C1D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29B7A-EF23-4107-982E-01C68AC3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95A1B-3DCE-4B24-A7F0-E1B2E0B2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5A060-893B-4BBF-B96E-32532A06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DF1D3-C5C5-400E-919D-E00199B9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FCFBEB-384E-44FD-B909-268DBA29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299AC-304C-4A62-B55A-3BC39EA0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CCDCD2-E10E-4C51-A8BD-0DA79799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0F5C8-5A89-4782-B364-90AF647A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AF7102-E07E-4CA2-A6D6-5D2F6B6F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E28E3-8638-4109-AD1B-14827876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15BCE-8335-449F-BE10-CAF64088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3A748-F66D-43DB-B2D7-4CC3053D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8268B5-B5EE-4303-BDE6-84093901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D1570D-326A-4D95-A18A-187E5F82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89695-E8CD-4D4E-8B2C-84845149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2D1B1-94C0-4DEF-9F54-43F96CD7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C351B-8634-4546-BAB6-EAB698BA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B73A0-AEA0-49EE-AC6E-5CA6E2B1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768FA-043E-49B3-8A09-862F511D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EEAB0-D82E-44EC-9D16-583C7035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759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5560" y="160020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1600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759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5560" y="396432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10C50-D712-4619-9194-1FC8E6E5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6432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60020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6432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RMI: Caratteristiche Avanz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101080" y="6237360"/>
            <a:ext cx="94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50C3-DD3D-448F-B12C-87CFF90F1AEB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. Rosa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stemi Distribu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D1F0-B9B6-4FA6-8131-24786F1E2A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BF25-BBFB-41AA-BFFE-723D6BE1E3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78A3-699A-4A36-BBC1-5E7762709D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B1EE-0AA6-490A-B97D-F47C60A06646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5447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orso di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 Ingegneria del Web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 Applicazio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 A. 2017-2018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omenico Rosac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XML   Sch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26920" y="1413000"/>
            <a:ext cx="73080" cy="5445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812000" y="1413000"/>
            <a:ext cx="13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XML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2812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una delle attività del working group su XML. Ha prodotto 7 generazioni di working draft, per poi divenire recommendation nel maggio del 20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diviso in tre par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0: Primer (un’introdu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1: Structures (struttura del documento XML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 Part 2: Datatypes (modello dei dati e meccanismi di estensione dei ti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Formato di un XML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71640" y="1295280"/>
            <a:ext cx="79437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documento di XML Schema è racchiuso in un elemento &lt;schema&gt;, e può contenere, in varia forma ed ordine, i seguenti elemen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mport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nclud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inserire, in varia forma, altri frammenti di schema da altri docu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simpleTyp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complexTyp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a definizione di tipi denominati usabili in seg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element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ttribute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la definizione di elementi ed attribut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docu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ttributeGroup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group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definire serie di attributi e gruppi di content model complessi e denomi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notation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definire notazioni non XML all’interno di un document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annotation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esprimere commenti per esseri umani o per applicazioni diverse dal parser di XML Sch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tipi in XML Sch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799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usa i tipi per esprimere vincoli sul contenuto di elementi ed attribu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tipo semplice è un tipo di dati che non può contenere markup e non può avere attributi. In pratica è una sequenza di caratteri. E' una specificazione (e restrizione) di CDATA o #PC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tipo complesso è un tipo di dati che può contenere markup e avere attributi. E' l'equivalente di un tipo strutturato o mi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predefinisce un grande numero di tipi semplici: string, decimal, float, boolean, uriReference, date, time, ec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tipo semplice è caratterizzato da alcune proprietà, dett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cet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he ne descrivono vincoli e formati (permessi ed obbligh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data possibilità di derivare nuovi tipi, sia per restrizione che per estensione di permessi ed obblighi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sempli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5640" y="1294920"/>
            <a:ext cx="77994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elementi e gli attributi sono istanze di un tipo. I tipi semplici sono tipi stringa non ulteriormente strutturati, e possono essere usati per entramb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ML Schema non fa nessuna distinzione tra attributi ed elementi con content model te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 name="price" type="xsd:decima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attribute name="code" type="xsd:I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predefiniti molti tipi semplici, che possono essere usati liberamente nelle definizioni. Il nome di un tipo semplice predefinito appartiene allo stesso namespace di XML Sch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possibile derivare i tipi semplici per restrizione, unione o 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a lista parziale di tipi sempl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523880"/>
            <a:ext cx="787248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caratter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i valori  'true ' e 'false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numeri con segno: +653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di numeri (con segno e punto): '-34.15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 reale in notazione scientifica: '12.78E-12 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a stringa per una durata temporale nel formato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PnYnMnDTnHnMn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Ad esempio  'P1Y2M3DT10H30M ' è la durata di 1 anno, 2 mesi, 3 giorni, 10 ore, e 30 minu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a data nel formato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CCYY-MM-DD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'2001-04-25 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: un valore di orario nel formato hh:mm:ss con una appendice opzionale per l'indicazione del fuso orario. Es.: '13:20:00+01:00 ' significa 1:20 PM in Middle European Time (+01:0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hexBinary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dati binari arbitrari in formato esadecimale: '0FB7'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yUR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la stringa di un URI, come "http://www.w3.org/ ". Accetta sia URI relativi che assolu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D , IDREF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Una stringa senza whitespace con le stesse proprietà e vincoli di ID e IDREF nei D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rivazione per restrizi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arte da un tipo già definito e ne si restringe il set di valori leciti attraverso l'uso di fac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ditore" type="Teditor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Teditor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"Mondador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Rizzol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Einaud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data" type="Tdatarecent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 Tdatarecent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dat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minInclusive value="2006-01-01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c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43760" cy="434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tipo io posso precisare dei facets, delle caratteristiche indipendenti tra di loro che specificano aspetti del tip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ngth, minLength, maxLength: numero richiesto, minimo e massimo di caratt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nExclusive, minInclusive, maxExclusive, maxInclusive: valore massimo e minimo, inclusivo ed esclu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ision, scale: numero di cifre significative e di decimali signific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ttern: espressione regolare che il valore deve soddis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numeration: lista all’interno dei quali scegliere il valore (simile alla lista di valori leciti degli attributi nei DT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iod, duration, encoding, e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-45900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un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71640" y="765000"/>
            <a:ext cx="79437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insieme dei valori leciti è data dall'unione dei valori leciti di due tipi sempl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prezzo" type="Tprezzo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 name="Tprezzo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un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decimal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minExclusive value="0.0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"grati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un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lis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9437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valori leciti una lista separata da virgole di valori del tipo semplice specific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impleType name="TListaDiNumeri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list itemType='xsd:integer'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attribute name="coord" type="TListaDiNumeri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area coord="25,30,75,90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anonimi e tipi denomina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42920" y="1523880"/>
            <a:ext cx="78724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 i tipi possono essere predefiniti (solo x tipi semplici), denominati (con una definizione esplicita, come nei casi precedenti) o anonimi (interni alla definizione di un ele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ditor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restriction base="xsd:strin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Mondador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Rizzol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numeration value=”Einaudi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restrict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imple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4760" y="1341360"/>
            <a:ext cx="6807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i per introdurre XML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imitazione dei D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roduzione di tipi ed ele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finizione di elementi ed attrib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tri aspetti rilev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Tipi comples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00200"/>
            <a:ext cx="78724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tipi comples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ANY ed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struttu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m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ent model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unque tip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a con attrib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esistono tipi complessi predefiniti (o quas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erivazione può avvenire per restrizione o estens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ANY ed EMP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5760" y="1341360"/>
            <a:ext cx="7734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anything" type="xsd:an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mpty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 name="emptyTypeWithAttribute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attribute name="first" 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attribute name="second" type="xsd:decima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empty2" type="emptyTypeWithAttributes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struttura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1294920"/>
            <a:ext cx="784836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DTD si usano virgole e barre per specificare obblighi e scelte tra gli elementi di un content model comples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 si usano &lt;choice&gt;, &lt;sequence&gt; e &lt;all&gt;. Questi sostituiscono anche le parente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equenza (A, B, C) di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celta (A | B | C) di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choi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compless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787248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riprende l'operatore &amp; di SGML: tutti gli elementi debbono essere presenti, ma in qualunque ordine. (A &amp; B &amp; C)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all&gt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all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.B.: ci sono restrizioni: la struttura all può solo essere l'unica struttura di un tipo complesso (non posso usarla in espressioni più comple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aggruppamento non ha bisogno di parentesi: (A, ( B | C)) div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&gt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/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petibilità e facoltatività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usano gli attributi minOccurs e maxOcc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Schema permette non solo i valori 0, 1 e infinito, ma qualunque numero int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inito è "unbounded", e può essere usato solo per maxOccu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default entrambi valgono 1. Inoltre, minOccurs ≤ max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optional" type="x" minOccurs="0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repeat" type="x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free" type="x"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counted" type="x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     minOccurs="2" maxOccurs="4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petibilità e facoltatività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413000"/>
            <a:ext cx="815328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 specificare questi attributi non solo per gli elementi, ma anche per le strutture (choice, sequence, al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 esempio, (A,B,C)* diven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 minOccurs="0" maxOccurs="unbounded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ppure, (A,(B|C)+) diven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xsd:choice minOccurs=”1" maxOccurs="unbounded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&lt;/xsd:choi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mis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ntent model misto aggiunge semplicemente l’attributo mixed con valore “true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alunque espressione di elementi viene rispettata, ma il PCDATA può comparire ovunque, prima o dopo questi eleme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!ELEMENT para   (#PCDATA | em | strong)*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 name="paraContent" mixed="tru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hoice minOccurs="0" maxOccurs="unbounde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em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strong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ara" type="paraContent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mist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80010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si possono fare cose più comples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review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complexType mixed="tru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o caso il #PCDATA può comparire ovunque prima e dopo questi elementi, ma questi debbono essere posti esattamente in quell'ordine e in quel num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model con attributi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8724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 tipi complessi, gli attributi vengono sempre posti alla fine del content model, in una lista aperta di elementi &lt;attribute&gt;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po complesso strutturato con attribu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ELEMENT Z (A,B,C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ATTLIST Z y CDATA #IMPLIE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element name=“Z” type=“Tz”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complexType name=“Tz”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xsd:sequence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A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B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&lt;xsd:element name=”C” type="xsd:string"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xsd:attribute name=“y” type=“xsd:string”/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ontent model con attribut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5640" y="1219320"/>
            <a:ext cx="779940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tipi semplici non possono avere attributi. Qualunque elemento preveda attributi è necessariamente di un tipo comples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differenzia allora tra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ipi complessi con contenuto semplic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tipi complessi con contenuto comples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a è la definizione di un tipo il cui contenuto è semplice ma che prevede un attribu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 name=”Tprezz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imple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xtension base="xsd:decimal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attribute name="valuta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imple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rice" type=”Tprezz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"/&gt;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izialmente si pensava che XML servisse solo per i docu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ML è più semplice di SGML, è più generale ed aperto di HTML, è lo strumento ideale per esprimere documenti di testo, siano essi libri, manuali o pagine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indi l’enfasi iniziale era su internazionalizzazione, strutturazione, facilità di conversione, ecc. Raccoglieva in pieno l’eredità di SGML. Lo sviluppo di XML era difatti condotto da membri della comunità SGM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rivare tipi comples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 sono due modi per derivare tipi comples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restri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i limitano ulteriormente i vincoli espressi: modificando minOccurs e maxOccurs, fissando dei valori per certi elementi o attributi, o imponendo ad un elemento un sottotipo del tipo origina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 esten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aggiungendo al content model nuovi elementi o nuovi attributi. Attenzione: i nuovi elementi sono posti necessariamente alla fine degli alt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restrizion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640" y="981000"/>
            <a:ext cx="794376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 deriva per restrizione imponendo maggiori vincoli sui vincoli già imposti dal tipo base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estriction by subsum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nome" type="xsd:string”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restriction bas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rivazione per restrizion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ché questa non va be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complexType nam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nome" type="xsd:string”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           minOccurs="0" maxOccurs="unbounde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xsd:element name="cog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complexType name="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restriction base="nomecognom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xsd:element name="nom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restric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-3164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Derivazione per estensi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907920"/>
            <a:ext cx="78724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estrizione per estensione aggiunge element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la fi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content model preced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nuovi attributi non ci sono problemi, mentre per nuovi elementi bisogna assumere l’esistenza di una sequence tra il vecchio e il nuovo content model.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complexType name='nomecognome'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element name='nome’ type=‘xsd:string’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minOccurs='0’ maxOccurs=’unbounded'/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element name='cognome' type=‘xsd:string’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complexType name=’nomecontitolo’ 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&lt;xsd:complexCont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xsd:extension base=“nomecognome”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&lt;xsd:element name='title’ minOccurs='0’ type=“xsd:string”/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&lt;/xsd:sequence&gt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&lt;/xsd:extens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re elementi ed attribu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94376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usano gli elementi &lt;element&gt; e &lt;attribute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sono posti all’interno del tag schema sono elementi ed attribu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glob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possono essere root di document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imenti sono usabili solo all’interno di elementi che li prevedono come ti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hanno vari attributi importan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me: il nome del tag o dell’attribut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efinizione loc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f: il nome di un elemento o attributo definito altrove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efinizione glob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ype: il nome del tipo, se non esplicitato com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xOccurs, minOccurs: il numero minimo e massimo di occorr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xed, default, nillable, ecc.: specificano valori fissi, di default e determinano la possibilità di elementi nul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i locali o globali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872480" cy="46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definizione si dic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lob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è posta all'interno del tag &lt;schema&gt;. In questo caso l'elemento o l'attributo è definito in maniera assoluta. L'elemento può essere un elemento radice del doc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definizione si dic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oc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è inserita all'interno di un tag &lt;complexType&gt;. In questo caso l'elemento o l'attributo esiste solo se esiste un'istanza di quel tipo, e l'elemento non può essere un elemento radice del doc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Definizioni locali o globali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80154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possibile all'interno di un tipo complesso fare riferimento ad un elemento globale, usando l'attributo ref invece che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chema...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 name="librierivis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choice maxOccurs="unbounde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ref="libro"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element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ref="rivista"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choi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&lt;xsd:element name="libro"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808080"/>
                </a:solidFill>
                <a:latin typeface="Courier New"/>
              </a:rPr>
              <a:t>&lt;xsd:element name="rivista"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Gruppi e gruppi di attrib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280" y="764640"/>
            <a:ext cx="7848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’ possibile raccogliere gli elementi e gli attributi in grupp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element name=”A”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xsd:complexTyp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group ref=”elemA”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attributeGroup ref=”attrsA” 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/xsd:complex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group name=“elemA”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element name=”B” type="xsd:string"/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xsd:element name=”C” type="xsd:string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Group name=”attrsA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 name=”p” type=”xsd:string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attribute name=”q” type=”xsd:string”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attribute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nnotazion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71640" y="1295280"/>
            <a:ext cx="794376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i DTD l’unico posto dove mettere note e istruzioni di compilazione sono i commenti. Però i commenti sono a perdere: possono essere mangiati in qualunque fase dell’elabora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XML Schema, invece, esiste un posto specifico dove mettere note ed istruzioni, l’elemento &lt;annotation&gt;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elemento &lt;annotation&gt; può contenere elementi &lt;documentation&gt; (pensati per essere letti da esseri umani) oppure elementi &lt;appInfo&gt;, pensati per essere digeriti da applicazioni speci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xsd:element name=’pippo'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anno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&lt;documentation&gt;elemento pippo&lt;/documen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&lt;/annotation&g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... Il resto della definizio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Arial"/>
              </a:rPr>
              <a:t>I namespac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5640" y="1294920"/>
            <a:ext cx="779940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La dichiarazione di targetNamespace definisce il namespace del documento da valid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Gli attributi elementFormDefault e attributeFormDefault permettono di controllare se l’uso del prefisso è necessario per i tipi non globali. </a:t>
            </a:r>
            <a:r>
              <a:rPr b="0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chema xmlns="http://www.w3.org/2000/08/XMLSchem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xmlns:po="http://www.example.com/PO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targetNamespace="http://www.example.com/PO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elementFormDefault="unqualifi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ttributeFormDefault="unqualifie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”A”   type="po:prova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”C”   type="stri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complexType name=”po:prova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“B” type=“string”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ref=“C”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ch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asce poi l’idea che XML possa servire per qualcosa di più: XML è (anche) un linguaggio di markup per trasferire dati: un meccanismo per convertire dati dal formato interno dell’applicazione ad un formato di trasporto, facile da convertire in altri formati inter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pensato per la visione umana, ma per essere prodotto ed usato da program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è un’interfaccia (Adam Bosworth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faccia tra autore e lettore, attraverso XSL e XLink, per portare significato tra creatore ed u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’interfaccia tra applicazione ed applicazione, attraverso XML Schema, per esprimere contratti sui formati, e verificarne il rispet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ffff"/>
                </a:solidFill>
                <a:latin typeface="Arial"/>
              </a:rPr>
              <a:t>I namespac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696080" cy="48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Quello che i namespace permettono di fare è di specificare regole di validazione solo su alcuni e non tutti i namespace del documento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element name="htmlElemen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any namespace="http://www.w3.org/1999/xhtm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nOccurs="1" maxOccurs="unbounde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sequenc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&lt;/ele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Nell’attributo namespace dell’elemento &lt;any&gt; posso specificare o un namespace vero e proprio, o i valor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any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ben form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local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non sia qualificato (cioè privo di dichiarazione di namesp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##other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: qualunque XML tranne il target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2920" y="1295280"/>
            <a:ext cx="7872480" cy="49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n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book xmlns:b="http://www.betterbooks.org"&gt;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&lt;b:author&gt;Douglas Adams&lt;/b: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title&gt;Hitch-hikers Guide to the Galaxy&lt;/b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:pub&gt;Pan Books&lt;/b: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5640" y="1371240"/>
            <a:ext cx="77994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anche questo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book xmlns="http://www.betterbooks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author&gt;Douglas Adams&lt;/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title&gt;Hitch-hikers Guide to the Galaxy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pub&gt;Pan Books&lt;/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urier New"/>
              </a:rPr>
              <a:t>&lt;/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2920" y="1219320"/>
            <a:ext cx="7872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uesto invece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xmlns:b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80808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book xmlns:b="http://www.betterbooks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author&gt;Douglas Adams&lt;/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title&gt;Hitch-hikers Guide to the Galaxy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pub&gt;Pan Books&lt;/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attributi elementFormDefault e attributeFormDefault controllano se gli elementi e gli attributi locali siano per default qualificati o non qualific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default sono NON qualificati, il che è ragionevole per gli attributi, e un po' una sorpresa per gli elementi. Si noti ad esempio che in RDF sia gli elementi che gli attributi debbono essere qualific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rendere la o la seconda versione del documento valido, dobbiamo porre elementFormDefault a qualificato, altrimenti non funziona n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Local e global scope (5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920" y="1066680"/>
            <a:ext cx="78724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sì funzion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argetNamespace="http://www.betterbooks.org"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elementFormDefault="qualified"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book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author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title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xsd:element name="pub" type="xsd:string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equenc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complex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elem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xsd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book xmlns:b="http://www.betterbooks.org"&gt;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&lt;b:author&gt;Douglas Adams&lt;/b:auth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title&gt;Hitch-hikers Guide to the Galaxy&lt;/b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b:pub&gt;Pan Books&lt;/b:pub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&lt;/b:boo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nclusioni e importazion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6920" y="1143000"/>
            <a:ext cx="77281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XML Schema, esistono meccanismi per dividere lo schema in più file, o per importare definizioni appartenenti ad altri 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lude: Le nuove definizioni appartengono allo stesso namespace, ed è come se venissero inserite direttamente nel docu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define: come include, le definizioni appartengono allo stesso namespace, ma possono venire ridefiniti tipi, elementi, gruppi, ec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ort:  le nuove definizioni appartengono ad un altro namespace, ed è l'unico modo per fare schemi che riguardino namespace multip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xsd:schema xmlns:xsd="http://www.w3.org/2001/XMLSchema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argetNamespace="http://www.w1.or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mlns="http://www.w1.or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mlns:cd="http://www.w2.org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&lt;import namespace="http://www.w2.org"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    schemaLocation="http://www.w2.org/s1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Namespace multipli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re più namespace nello stesso documento significa avere più targetName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 targetNamespace (volutamente) è un attributo di xsd:schema, quindi è possibile averne al massimo u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gestire più namespace è necessario separare la gestione dei namespace in più xsd:schema, ciascuno con il proprio targetNamespace, e farne un import in un unico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gli schemi coinvolti debbono però avere le dichiarazioni di namespace appropri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Namespace multipli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787248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schema xmlns:xsd="http://www.w3.org/2001/XMLSchem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="http://www.sito.org/un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:due="http://www.sito.org/du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xmlns:tre="http://www.sito.org/tr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targetNamespace="http://www.sito.org/uno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elementFormDefault="qualifie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import namespace="http://www.sito.org/due" </a:t>
            </a:r>
            <a:br>
              <a:rPr sz="1800"/>
            </a:b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    schemaLocation="./due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import namespace="http://www.sito.org/tre"</a:t>
            </a:r>
            <a:br>
              <a:rPr sz="1800"/>
            </a:b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    schemaLocation="./tre.xsd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a" type="myType"/&g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complexType name="myType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due:b" type="due:m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xsd:element name="tre:c" type="tre:myType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complexType&g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5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&lt;/xsd:schem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nicità e chiav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836640"/>
            <a:ext cx="787248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XML Schema, è possibile richiedere che certi valori siano unici, o che certi valori siano chiavi di riferimenti, analoghi alla coppia ID/IDREF in XML “classico”. Tuttavia, è possibile specificare pattern molto complessi come elementi chia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icità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unique name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books/book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author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title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uniqu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grità referen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key name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books/book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@code"/&gt;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ke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keyref name="list" refer="cod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selector xpath="/list/objects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xsd:field xpath="@i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&lt;/xsd:keyref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otivazione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 la faccenda del trasferimento dei dati si semplifica: i documenti strutturati e gerarchici sono un formato ragionevole di sintassi praticamente per qualunque cosa: documenti di testo, record di database, ec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a W3C Note di Agosto 1999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http://www.w3.org/TR/schema-ar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Many data-oriented applications are being defined which build their own data structures on top of an XML document layer, effectively using XML documents as a transfer mechanism for structured data;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Riferirsi ad uno sch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4376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fv:pippo xmlns:fv =“http://www.fabio.org/Pippo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mlns:xsi=“</a:t>
            </a:r>
            <a:r>
              <a:rPr b="1" lang="it-IT" sz="1800" spc="-1" strike="noStrike">
                <a:solidFill>
                  <a:srgbClr val="808080"/>
                </a:solidFill>
                <a:latin typeface="Courier New"/>
              </a:rPr>
              <a:t>http://www.w3.org/2001/XMLSchema-instan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xsi:schemaLocation=“http://www.fabio.org/pippo.xsd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fv:pipp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l’attributo schemaLocation dentro all’istanza del documento XML diamo un suggerimento sulla posizione dello schema al validatore (ma la stessa informazione può essere data off-line, ad esempio perché predefinita, o in un header della connessione HTT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lidazione e buona for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31640" y="1294920"/>
            <a:ext cx="7583400" cy="45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buona forma di un documento XML è una proprietà puramente sintatt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validazione, viceversa, è la verifica di un impegno pres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pr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 formato, ad un livello già semantic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i impegno a scrivere dei documenti che siano formati da capitoli, ciascuno con un titolo e vari paragrafi, e ogni immagine con la sua didascalia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esprimere documenti di testo, i DTD probabilmente bastano, ma per esprimere blocchi di dati strutturati, è necessario un meccanismo di verifica più raffin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è stato pensato per fornire quel supporto di validazione che i DTD permettono solo parzialmente, in particolare sul contenuto degli elementi e degli attributi del documenti X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76360" y="1752120"/>
            <a:ext cx="7439040" cy="390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ular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TD offrono le entità parametriche per tutto: content model ripetuti, frammenti di DTD riusabili, modularizzazione delle specifich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offr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meccanismo di inclusioni di file(differenziato e sofisticat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istema di tipi gerarchico e compl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n sistema di specifica di frammenti riutilizzabili di content model e attributi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estione dei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DTD ignorano i namespace. E' molto complesso far convivere DTD e qualifica degli elemen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ML Schema permette esplicitamente di qualificare gli elementi e gli attributi, e fornisce molte funzionalità di estensione o limitazione dei vincoli sugli elementi a seconda del loro namesp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ncoli su elementi e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TD permettono un ragionevole controllo degli elementi strutturati, ma poca flessibilità sui content model mis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non permettono vincoli sugli elementi di testo (#PCDATA e CDATA) a parte le liste di valori negli attrib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amplia il set di vincoli per gli elementi strutturati, ed è molto più flessibile negli elementi con CM mis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permette di definire tipi semplici, ovvero di esprimere vincoli su dati di tipo stringa, in maniera completa e sofistic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cumentazione espli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egare documentazione per esseri umani in un DTD significa inserire commenti XML dentro al DTD. Questo è limitante e fragile (i parser eliminano  i commenti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ML Schema permette di inserire annotazioni in maniera esplicita e controllata, in maniera che sopravviva al par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piè di pagin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Next: XML Schema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9/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XML Schema e DTD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assi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DTD usano una sintassi propria e particolare, che richiede parser appositi e strumenti di generazione e verifica apposi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XML Schema usa XML come sintassi. Tutti gli strumenti che si usano per XML sono immediatamente utili: parser, visualizzatori, verificatori, ec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ntro, XML Schema è estremamente più verboso, tre o quattro volte più lungo del corrispondente DTD, e molto spesso meno chiaro da legg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ono state molte obiezioni su questo specifico aspetto, ma TBL ha specificamente insistito per ricondurre tutto ad XML (altrimenti, che meta-sintassi sarebbe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5:01:40Z</dcterms:created>
  <dc:creator>Domenico Rosaci</dc:creator>
  <dc:description/>
  <dc:language>en-US</dc:language>
  <cp:lastModifiedBy>Domenico Rosaci</cp:lastModifiedBy>
  <dcterms:modified xsi:type="dcterms:W3CDTF">2017-09-24T21:03:05Z</dcterms:modified>
  <cp:revision>103</cp:revision>
  <dc:subject/>
  <dc:title>Diapositiva 1</dc:title>
</cp:coreProperties>
</file>