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84E9A-0891-4E63-9FF2-73DEB262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BE71E-5B5E-4D31-AAD6-C4C8D673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8F652-1113-4115-874A-A8BD599F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29004-84F0-4062-BA43-3497347C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3C327-09DE-4874-947A-D92F6EAC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60B36-3A8E-4B78-B8AA-1BC095A1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FC0B0-D31E-447E-AA07-BB32651A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177AF-78F0-46AE-8038-962EFE0F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C3F96-704F-4267-9931-D87D7E9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19F08-BB8D-4237-BE67-90E33F86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33311-4367-4619-9CD1-1F1852CC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57176-8CF6-451B-8255-C2F60D9F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1A16E-C49C-4195-87E9-0F663B8F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C2CFC-C621-47B4-A99A-878CC29F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77C8B-810E-4119-98D9-95C14399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7CF9F-053B-4D80-9F97-03BD2B8E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2D98D-8EEF-4FBC-80C5-D1DE3C86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36932-DD96-40E8-B62F-95AF491F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01224-A047-4D2A-9C80-42C9C25D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AB98E-17F0-4960-B30E-CA198684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39A88-C9AB-4481-B106-ACD90628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40AAF-3B9F-4F05-8841-F6BE9618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12F6B-5A5A-4155-8681-AE1FAAD9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6FB5A-F119-4BB2-94D5-FC122DFB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6CB86-6011-4259-AB7B-2460E244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DD5DF-9EEE-4078-ADF4-032838D9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0CA44-F58F-4BAD-9277-B3C7F749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87BE47-D8AD-4EF2-AE1E-CEDE6F33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74364-FD79-4E77-BBD0-97CEB608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79CE1-8AD6-46D9-A8FF-A6CB90E0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EA14A-3411-45E3-A434-9B5C689E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1EFF0-97BB-438C-8DCD-B5F0D834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D374E-A921-4151-9F1D-78AD9F48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68EF95-2A7E-4918-B8F6-3E345B1F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0506A-D585-4964-A4E9-6458494C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4DEE0B-F63C-409B-986D-0B27BDD5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AD10A-2AA2-4BF9-8B09-1C06EA12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F88F7-EEF9-4E47-BCBE-8258FBCD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39C01-70A9-4504-890A-9D9B023D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1892D-01F6-4465-BF1C-90DF4C13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D94F3-FA83-4249-B7B9-09B6EF16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0434A-F5C0-4E32-A66F-F8192CCF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6A41B-86AB-46EE-8AF7-D01C8FCF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60E5F-B4C3-4C9A-909A-F472B93A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827DA-9346-457E-B097-03204909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7898A-1ED8-4EF0-A196-897D58F7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C3CE7-4EDA-413E-8802-CFB1DC61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B60C5-1644-4A08-8E5E-49740128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1FDD-A364-4C3D-98F1-A2846F91B9BF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9556-39A4-466B-BFE0-326767BBAA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1018-7144-45AA-A49A-3F0A2DABA5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DEBE-EB69-41E1-8831-BF8C759ABA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6BF6-EA4F-4007-AB90-52CC18E0C3B5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 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Sistemi Distribuit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 proces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26920" y="1413000"/>
            <a:ext cx="14472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di sleep() e join(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570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 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sleep(100) ;} catch(IinterruptedException 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row new RuntimeException(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.j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508720" y="1700280"/>
            <a:ext cx="302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metodo main() attende il completamento del thread prima di procedere con l’esecuzione: il programma si comporta adesso in modo determini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hread nei S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ntaggio: rendono più semplice la gestione di connessioni logiche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aspetti specifici da consider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lient multi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rver multi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ent Multi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obiettivo dei sistemi distribuiti è quello di raggiungere un alto grado di trasparenza alla distrib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e reti globali, ciò comporta la necessità di nascondere i lunghi tempi di propagazione dei messaggi tra i processi (ordine delle centinai di millisec., o addirittura dei secon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odo per nascondere la latenza nella comunicazione: avviare la comunicazione stessa e immediatamente iniziare a fare qualcos’a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mpio: Browser Web: quando si carica una pagina Web, si prelevano dati spesso molto “pesanti” come immagini o oggetti multimediali. Per nascondere la latenza, il Browser spesso comincia a visualizzare i dati disponibili mentre ancora la comunicazione è in c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appena il file HTML è stato prelevato, si possono lanciare più thread indipendenti per prelevare i vari dati. Se un thread si blocca, gli altri non ne risent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o vantaggio: se il server è effettivamente replicato su più macchine per gestire flussi elevati di richieste, un client multi-thread può ottenere performance migliori perché è altamente probabile che i vari thread verrano eseguiti (in parallelo) da server differ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o principale del multithreading nei SD: lat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plifica notevolmente la scrittura del codice di un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consideri ad esempio un file server che occasionalmente deve bloccarsi in atte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file server attende la richiesta di un’operazione su un file, quindi la soddisfa ed invia la rispo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ganizzazione possib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thread, il dispacher, legge le richieste in ingr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richieste sono inviate dai client al server ad una porta ben conosciu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server esamina la richiesta, sceglie un worker thread inattivo e gliela pa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worker va avanti eseguendo una lettura bloccante sul file system locale de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worker può rimanere bloccato in attesa dei dati da disco. Ma questo non blocca né il dispatcher ne gli altri worker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ta: senza il multithreading, il server rimarrebbe bloccato sulla singola richiesta, senza poter servire altre richies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o è un altro esempio di come i thread generalmente migliorino le prest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Esempio: Processo Server in JAV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ogliamo scrivere il codice di un programma server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farlo, dobbiamo introdurre due concetti base del linguaggio Ja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cke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 socket è una sorta di “terminazione” software di un collegamento bidirezionale tra un programma server ed uno o più programmi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 socket associa al programma server una specifica porta hardware sulla macchina su cui è eseguito, in modo tale che ogni programma client che sta in qualunque altro luogo nella rete con un socket associato a quella stessa porta può comunicare col programma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e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2538360" y="1703520"/>
          <a:ext cx="4554720" cy="28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1703520"/>
                    <a:ext cx="4554720" cy="28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SocketClient extends JFrame implements ActionListener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Label text, click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Button button;JPanel pan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TextField textFiel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socket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Client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 = new JLabel("Text to send over socket: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Field = new JTextField(20); button = new JButton("Click Me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 = new JPanel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Layout(new BorderLayout(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Background(Color.whit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North", tex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Center", textField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South", butto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//End Constru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7570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actionPerformed(ActionEvent event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ject source = event.getSource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f(source == button){ //Send data over soc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ring text = textField.getTex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ut.println(tex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xtField.setText(new String(""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/Receive text from 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String line = in.readLine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Text received :" + lin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Read failed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e di Proces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cesso: Programma in esec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Clas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nei 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lti-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rt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i Client e Processi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ità tra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86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listenSocket(){ //Create socket conn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= new Socket("kq6py", 4444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ut = new PrintWriter(socket.getOutputStream(), 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= new BufferedReade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w InputStreamReader(socket.getInputStream())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UnknownHost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Unknown hos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No I/O"); System.exit(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Client -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16000" y="1197000"/>
            <a:ext cx="7786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Client frame = new SocketClien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Title("Client Program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windowClosing(WindowEvent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//fine della classe Socket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" name="Object 5"/>
          <p:cNvGraphicFramePr/>
          <p:nvPr/>
        </p:nvGraphicFramePr>
        <p:xfrm>
          <a:off x="2673360" y="1773360"/>
          <a:ext cx="4203720" cy="25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3360" y="1773360"/>
                    <a:ext cx="4203720" cy="25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Col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lass SocketServer extends JFrame implements ActionListener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Button butto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Label label = new JLabel("Text received over socket: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Panel pane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JTextArea textArea = new JTextArea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verSocket server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 clien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ring line;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(){ //Begin Constru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 = new JButton("Click Me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 = new JPanel(); panel.setLayout(new BorderLayout()); panel.setBackground(Color.whit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Center", textArea); panel.add("South", butt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(){ //Begin Constru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 = new JButton("Click Me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tton.addActionListener(this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 = new JPanel(); panel.setLayout(new BorderLayout()); panel.setBackground(Color.whit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nel.add("Center", textArea); panel.add("South", butt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actionPerformed(ActionEvent event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ject source = event.getSource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(source == button){ textArea.setText(line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blic void listenSocket(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rver = new ServerSocket(4444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Could not listen on port 4444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ent = server.accep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Accept failed: 4444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= new BufferedReader(new InputStreamReader(client.getInputStream())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 = new PrintWriter(client.getOutputStream(), tru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System.out.println("Accept failed: 4444"); System.exit(-1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CONTINU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line = in.readLine(); //Send data back to cli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.println(line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out.println("Read failed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//Fine funzione listen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tected void finalize(){ //Clean 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ut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rver.close(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catch (IOException e) { System.out.println("Could not close."); System.exit(-1); 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dice del Server -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cketServer frame = new SocketServer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setTitle("Server Program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windowClosing(WindowEvent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//fine classe Socket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egnaposto data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48836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permettere la connessione contemporanea di più client, il server deve usare più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2411280" y="2766960"/>
          <a:ext cx="460872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766960"/>
                    <a:ext cx="460872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e di Proces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cesso: Programma in esec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Clas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blematiche nei 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ulti-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rt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i Client e Processi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ità tra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Colo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BorderLayou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awt.even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x.swing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io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 java.net.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ClientWorker implements Runnable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vate Socket clie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vate JTextArea textAre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ientWorker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 client, JTextArea textArea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is.client = clie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his.textArea = textAre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run(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ring li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ufferedReader in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ntWriter out = null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= new BufferedReader(new InputStreamReader(client.getInputStream(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ut = new PrintWriter(client.getOutputStream(), tru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out.println("in or out failed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line = in.readLine(); //Send data back to client out.println(line);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xtArea.append(line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System.out.println("Read failed"); System.exit(-1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} }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 SocketThrdServer extends JFrame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Label label = new JLabel("Text received over socket: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Panel pan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TextArea textArea = new JTextArea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erSocket server =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ThrdServer(){ //Begin Constru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 = new JPanel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Layout(new BorderLayout())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setBackground(Color.white)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tContentPane().add(pan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North", lab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nel.add("Center", textAre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//End Construct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ublic void listenSocket(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rver = new ServerSocket(444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System.out.println("Could not listen on port 4444"); System.exit(-1)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hile(true)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lientWorker 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y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 = new ClientWorker(server.accept(), textArea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read t = new Thread(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out.println("Accept failed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4444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tected void finalize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y{ server.close()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tch (IOException 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"Could not close socke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exit(-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rver Multithreading -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static void main(String[] args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cketThrdServer frame = new SocketThrdServer(); frame.setTitle("Server Program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indowListener l = new WindowAdapter(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blic void windowClosing(WindowEvent e) { System.exit(0); } 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addWindowListener(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pa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setVisible(tru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ame.listenSocke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rocessi: Concetti di b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corso della sua attività il S.O. crea una serie di Processori Virtuali, ad ognuno dei quali è assegnato un processo (programma in esecuzi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.O. ha cura che i singoli processi non si disturbino a vicenda: è reso trasparente il fatto che i processi utilzzano la stessa C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zzo della Trasparenza alla Concorren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processo deve avere uno spazio degli indirizzi in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devono gestire gli switch da un processo all’al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ai Processi ai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un processo, anche un thread esegue un suo pezzo di codice, indipendentemente dagli altri th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differenza dei processi, non c’è però un alto grado di trasparenza alla concorr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atti, un sistema a thread gestisce solo l’insieme minimo delle informazioni per permettere alla CPU di essere condivisa da più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ntesto di un thread è composto solo dal contesto della CPU e da qualche altra informazione sui thread in esecuzione (ad esempio un thread è bloccato e non può essere utilizza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il programmatore che deve proteggere i dati da accessi scorretti da parte dei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ntaggio rispetto ai processi: Prestazioni generalmente migliori, al prezzo di uno sforzo intellettuale da parte del programm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a come si usano i thread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usano per scomporre un processo in sotto parti elementari indipen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processi a singolo thread, quando si esegue una chiamata a sistema bloccante, si blocca tutto il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o: in un foglio elettronico, quando si inseriscono dati in una cella occorre poi eseguire computazioni che si ripercuotono su tutte le altre c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un solo thread, mentre si inseriscono i dati non si effettuano computazioni, e vice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più efficiente usare due thread, uno per gestire l’input della cella, l’altro per gestire le comput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altro grande vantaggio nel multi-threading si ha nei sistemi multiprocessore: ogni thread può essere assegnato ad un processore e ciò permette l’esecuzione parallela mentre i dati stanno su una memoria centrale condivisa (es. i server nelle applicazioni client-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mplice esempi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796000" y="15573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gramma crea cinque distinti thread, ognuno avente nome dato dalla variabile statica thr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thread ha il compito di contare da 100 a 1, a ritr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secuzione a video ha effetto imprevedibile, dovuto al fatto che i thread sono eseguiti indipendentemente, con una politica di assegnamento della CPU dipendente dalla J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indi un thread può essere interrotto mentre sta calcolan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emplice esempi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imple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796000" y="15573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gramma crea cinque distinti thread, ognuno avente nome dato dalla variabile statica thr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gni thread ha il compito di contare da 100 a 1, a ritr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esecuzione a video ha effetto imprevedibile, dovuto al fatto che i thread sono eseguiti indipendentemente, con una politica di assegnamento della CPU dipendente dalla J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indi un thread può essere interrotto mentre sta calcolan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stemi Distribuiti: I Proce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so di sleep(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5708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xtend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Thread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untDown=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""+ ++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hreadCou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tring toString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"#"+getName()+":"+count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run(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ystem.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println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- -countDown==0)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y{sleep(100) ;} catch(IinterruptedException 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hrow new RuntimeException(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oi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=0;i&lt;100;i++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leepingTh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508720" y="1700280"/>
            <a:ext cx="30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si ottiene molto: i thread continuano ad essere eseguiti indipend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0:57:15Z</dcterms:modified>
  <cp:revision>77</cp:revision>
  <dc:subject/>
  <dc:title>Diapositiva 1</dc:title>
</cp:coreProperties>
</file>