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CB4DD0-032E-427D-8373-2CBA6F65A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B2D1E-ECDA-46F3-BEC6-F6C52A50C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C54C0-7543-4046-B3B6-E93BE0805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96476-66EE-42FC-9696-6A5A52125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976FE9-ED7A-46A1-AE87-BC19DCC94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ED9A8-93A1-40F4-9028-B5B4D3139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0BB7D-3FC0-4527-8DED-F96381791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2F10B-B303-4A84-B363-391F7A899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AF3CE-8816-48D8-89EF-00E7E0986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2FB3B8-1B14-49DE-A076-ECC9A2FE9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07D81B-7012-43BA-A590-FDE5E709DA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430C01-C0BF-4F53-84E0-A2C9DC0D6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1E4522-6F89-4E3D-B68A-CAF48FFE87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8C5247-304B-4F66-94B5-56C7140FC7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BC0BFD-203C-4FB6-AD66-53EE37DC86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896D7A-367E-4F17-B804-21A0FCA9CB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DAE423-41F9-430D-A91C-BDFA266729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146C62-9841-4D1F-81EE-BB03D4C916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77A81B-C4C1-440B-B174-57ADFE778A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6D1C52-F92D-44CA-ADE4-B3E11AD58B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557353-86BA-4A82-939E-8C6A7CF376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BB7A3F-7708-4403-8137-AD8DD1A772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D543E2-683D-42A6-B55F-DA7721EAD1D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0F0BB19-39AC-4FDE-9DB1-23150FFBA1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1930C1-61C8-444E-8E19-7B63185F38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B21471-0ED4-4C9B-B6A2-C7E77B24EC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F9A017-063D-4A0B-8B05-F697BB9B011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9B1F05-C730-4EC5-9739-7171B07CBB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4427DA-4EF1-4B47-B580-62404FBA59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EA54BE-C971-4FD0-8523-6C7F6342E8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7DF43C-AC00-43CB-A699-AE530BFA47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1E59CA-498B-4E27-99D8-755425AB2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3CEA73-89EC-4888-BCCD-A07C13EEC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E889CA-7C14-4E53-A5E1-9301B6FF3B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7F5DA2-CD43-4F41-ACB5-F0550A5B57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8C2417-A707-48D6-B3D5-DEB7A0B444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81662F-98A9-4AFD-B3C6-2E5126E8C14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1A12A9-7687-4F76-849C-DBD535AED3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0EFA2E-7CBB-4CB1-AFCA-F6F34C40FD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A3BCE4-769E-40B2-9C4C-5872554091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1AC414-7C1D-4A02-A259-0563F98312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23427D-C2C8-434E-93EE-AA67BA8EF7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A9AE9E-FE3C-4322-9988-DEC4906514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8DF3444-A155-48F1-96EF-A2583ED3E0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93A57E-01BA-45E2-9124-87DD74EF1C0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9A2A46-89B0-4EC4-914E-FFBC5FC8C0B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5F4B54A-F4AA-4711-A144-94B9C2C7C04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01A67D9-6ADD-4585-B34F-1D36514DFC2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1C0E-F5D9-465D-89F4-B75C043CB351}"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FCC2-6D31-4694-A172-A5EE4748023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7862-D317-413F-8449-AAA6C149467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114E-2851-42F1-B280-4F55A4972C4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E812-21B7-4F33-9583-F518E0210803}"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 Sistemi Distribuiti</a:t>
            </a:r>
            <a:br>
              <a:rPr sz="2400"/>
            </a:br>
            <a:r>
              <a:rPr b="1" lang="it-IT" sz="2400" spc="-1" strike="noStrike">
                <a:solidFill>
                  <a:srgbClr val="ffffff"/>
                </a:solidFill>
                <a:latin typeface="Tahoma"/>
              </a:rPr>
              <a:t>Introduzione</a:t>
            </a:r>
            <a:endParaRPr b="0" lang="en-US" sz="2400" spc="-1" strike="noStrike">
              <a:solidFill>
                <a:srgbClr val="ffffff"/>
              </a:solidFill>
              <a:latin typeface="Arial"/>
            </a:endParaRPr>
          </a:p>
        </p:txBody>
      </p:sp>
      <p:sp>
        <p:nvSpPr>
          <p:cNvPr id="206" name="Rectangle 4"/>
          <p:cNvSpPr/>
          <p:nvPr/>
        </p:nvSpPr>
        <p:spPr>
          <a:xfrm>
            <a:off x="826920" y="1413000"/>
            <a:ext cx="14472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rasparenza</a:t>
            </a:r>
            <a:endParaRPr b="0" lang="en-US" sz="4400" spc="-1" strike="noStrike">
              <a:solidFill>
                <a:srgbClr val="ffffff"/>
              </a:solidFill>
              <a:latin typeface="Arial"/>
            </a:endParaRPr>
          </a:p>
        </p:txBody>
      </p:sp>
      <p:sp>
        <p:nvSpPr>
          <p:cNvPr id="25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ccesso: si vuole nascondere all’utente come i dati sono rappresentati sulle singole macchine (es. differenti S.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ubicazione: si vuole che gli utenti non possano indicare dove è fisicamente localizzata una risors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migrazione: le risorse possono essere spostate senza interferire sulla loro modalità d’accesso. Se ciò si può fare addirittura mentre le risorse sono in uso, abbiamo Trasparenza al riposizionam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replica: si nasconde l’esistenza di molte copie di una risorsa, che vengono automaticamente tenute aggior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lla concorrenza: l’accesso concorrente ad una risorsa condivisa la lascia in uno stato coeren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parenza ai guasti: l’utente non si rende conto che una risorsa ha smesso di funzion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Grado di Trasparenza</a:t>
            </a:r>
            <a:endParaRPr b="0" lang="en-US" sz="4400" spc="-1" strike="noStrike">
              <a:solidFill>
                <a:srgbClr val="ffffff"/>
              </a:solidFill>
              <a:latin typeface="Arial"/>
            </a:endParaRPr>
          </a:p>
        </p:txBody>
      </p:sp>
      <p:sp>
        <p:nvSpPr>
          <p:cNvPr id="26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detto che una trasparenza assoluta sia desiderab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ensi ad una applicazione che per eseguire una certa operazione per l’utente debba contattare uno tra tanti server disponibili, e che si voglia nascondere quale server viene contattato. Se il server contattato non risponde, l’utente non ha modo di interrompere il tentativo per passare ad un altro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ertura</a:t>
            </a:r>
            <a:endParaRPr b="0" lang="en-US" sz="4400" spc="-1" strike="noStrike">
              <a:solidFill>
                <a:srgbClr val="ffffff"/>
              </a:solidFill>
              <a:latin typeface="Arial"/>
            </a:endParaRPr>
          </a:p>
        </p:txBody>
      </p:sp>
      <p:sp>
        <p:nvSpPr>
          <p:cNvPr id="26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D aperto è un sistema che offre servizi rispettando certe regole standard che descrivono la sintassi e la semantica dei servizi stes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SD i servizi sono specificati per mezzo di interfacce scritte in un Interface Definition Language (IDL). Esse spesso specificano la sintassi ma il difficile è specificare la semantica (“cosa i servizi fan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 le interfacce sono ben specificate i sistemi che le usano possono implementarle in modo diverso senza problemi ed interagire tra loro (interoperabilità). Inoltre si possono portare agevolmente da un sistema ad un altro (portabilit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che l’ampliabilità è una caratteristica dell’apertura. I sistemi devono essere estendib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calabilità</a:t>
            </a:r>
            <a:endParaRPr b="0" lang="en-US" sz="4400" spc="-1" strike="noStrike">
              <a:solidFill>
                <a:srgbClr val="ffffff"/>
              </a:solidFill>
              <a:latin typeface="Arial"/>
            </a:endParaRPr>
          </a:p>
        </p:txBody>
      </p:sp>
      <p:sp>
        <p:nvSpPr>
          <p:cNvPr id="27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petto centrale, visto l’aumento esponenziale degli utenti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 dimensione: possiamo aggiungere utenti e risorse al sist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geografica: utenti e risorse possono essere anche molto lontan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alabilità rispetto all’amministrazione: il sistema deve rimanere gestibile anche coprendo molte strutture indipend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roblemi di Scalabilità</a:t>
            </a:r>
            <a:endParaRPr b="0" lang="en-US" sz="4400" spc="-1" strike="noStrike">
              <a:solidFill>
                <a:srgbClr val="ffffff"/>
              </a:solidFill>
              <a:latin typeface="Arial"/>
            </a:endParaRPr>
          </a:p>
        </p:txBody>
      </p:sp>
      <p:sp>
        <p:nvSpPr>
          <p:cNvPr id="27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limiti maggiori emergono quando i dati, i servizi, o le applicazioni sono 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tal caso l’unità centrale diventa un collo di bottiglia: si immagini se il DNS di Internet fosse ancora implementato come un’unica tabel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rispetto alle dimensioni si affronta mediante approcci decentralizz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labilità geografica è difficile da ottenere perché le reti geografiche sono point-to-point. Anche qui occorrerebbe adottare soluzioni decentralizz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abilità rispetto all’amministrazione è strettamente legata a problemi di sicurezza. Occorre fare in modo che passando da un dominio ad un altro più esteso, non si violi la sicurezza di quest’ultimo (esempio: applet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iche di Scalabilità</a:t>
            </a:r>
            <a:endParaRPr b="0" lang="en-US" sz="4400" spc="-1" strike="noStrike">
              <a:solidFill>
                <a:srgbClr val="ffffff"/>
              </a:solidFill>
              <a:latin typeface="Arial"/>
            </a:endParaRPr>
          </a:p>
        </p:txBody>
      </p:sp>
      <p:sp>
        <p:nvSpPr>
          <p:cNvPr id="27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zione asincrona: cercare di evitare l’attesa delle risposte alle richieste di servizi remoti. Per esempio, quando un servizio viene richiesto ad un server, invece di aspettare passivamente la risposta si può permettere all’applicazione richiedente di fare altro lavoro utile. Quando arriva una risposta, l’applicazione interrompe quello che stava facendo e torna a gestire il processo originale (sono utili i thread parallel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comunicazione totale, spostando su client parte del lavoro che è fatto dal server (es. Applet Ja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ribuzione: prendere un componente, spezzarlo in più parti e distribuirle nel sistema (es. D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plicazione – Caching: incrementare la disponibilità delle riso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1</a:t>
            </a:r>
            <a:endParaRPr b="0" lang="en-US" sz="4400" spc="-1" strike="noStrike">
              <a:solidFill>
                <a:srgbClr val="ffffff"/>
              </a:solidFill>
              <a:latin typeface="Arial"/>
            </a:endParaRPr>
          </a:p>
        </p:txBody>
      </p:sp>
      <p:sp>
        <p:nvSpPr>
          <p:cNvPr id="28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 Calcolo Distribuit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i calcolo a cluster: semplici computer collegati da reti ad alta velocità, per consentire la programmazione parallela (es. Beowulf su Linu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id Computing: in un cluster, i computer sono tutti uguali. La tecnologia grid presenta invece componenti eterogenee. Gli appartenenti alla stessa organizzazione virtuale hanno diritto all’accesso alle stesse risorse (server, data storage, basi di dati)</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8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2</a:t>
            </a:r>
            <a:endParaRPr b="0" lang="en-US" sz="4400" spc="-1" strike="noStrike">
              <a:solidFill>
                <a:srgbClr val="ffffff"/>
              </a:solidFill>
              <a:latin typeface="Arial"/>
            </a:endParaRPr>
          </a:p>
        </p:txBody>
      </p:sp>
      <p:sp>
        <p:nvSpPr>
          <p:cNvPr id="28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stemi Informativi Distribuiti: Emergono in contesti aziendali, in cui necessita l’integrazione di diverse applicazioni. L’integrazione di applicazioni aziendali è oggi un campo in grande sviluppo (Enterprise Application Integration, E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ipologie di SD -3</a:t>
            </a:r>
            <a:endParaRPr b="0" lang="en-US" sz="4400" spc="-1" strike="noStrike">
              <a:solidFill>
                <a:srgbClr val="ffffff"/>
              </a:solidFill>
              <a:latin typeface="Arial"/>
            </a:endParaRPr>
          </a:p>
        </p:txBody>
      </p:sp>
      <p:sp>
        <p:nvSpPr>
          <p:cNvPr id="29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stemi Distribuiti Pervasivi:nascono con i dispositivi di calcolo mobili ed embedded. Dispositivi piccoli,a batteria, mobili e wireless. Devono “integrarsi” nel nostro ambien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Domestici (integrano in un solo sistema TV, smartphone,PDA, eventualmente impianti antifurto,videosorveglianza,climatizzazione ec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stemi elettronici per l’assistenza sanitaria (basati su sensori wirel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ti di Sensori: centinaia o migliaia di nodi, ognuno equipaggiato con un sensore (es. sistemi per il controllo del traf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9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adigma ad Oggetti distribuiti</a:t>
            </a:r>
            <a:endParaRPr b="0" lang="en-US" sz="4000" spc="-1" strike="noStrike">
              <a:solidFill>
                <a:srgbClr val="ffffff"/>
              </a:solidFill>
              <a:latin typeface="Arial"/>
            </a:endParaRPr>
          </a:p>
        </p:txBody>
      </p:sp>
      <p:sp>
        <p:nvSpPr>
          <p:cNvPr id="295" name="PlaceHolder 2"/>
          <p:cNvSpPr>
            <a:spLocks noGrp="1"/>
          </p:cNvSpPr>
          <p:nvPr>
            <p:ph/>
          </p:nvPr>
        </p:nvSpPr>
        <p:spPr>
          <a:xfrm>
            <a:off x="1115640" y="1600200"/>
            <a:ext cx="7272360" cy="452592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1" i="1" lang="it-IT" sz="1400" spc="-1" strike="noStrike">
                <a:solidFill>
                  <a:srgbClr val="000000"/>
                </a:solidFill>
                <a:latin typeface="Arial"/>
              </a:rPr>
              <a:t>risorse di rete </a:t>
            </a:r>
            <a:r>
              <a:rPr b="0" lang="it-IT" sz="1400" spc="-1" strike="noStrike">
                <a:solidFill>
                  <a:srgbClr val="000000"/>
                </a:solidFill>
                <a:latin typeface="Arial"/>
              </a:rPr>
              <a:t>sono rappresentate da oggetti distribui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richiedere un servizio ad una risorsa di rete, un processo invoca uno dei metodi o operazioni messe a disposizione, passando al metodo i dati come parame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metodo viene eseguito sull’ host remoto, e la risposta è inviata al processo richiedente come valore di ritorn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96" name="Object 4"/>
          <p:cNvGraphicFramePr/>
          <p:nvPr/>
        </p:nvGraphicFramePr>
        <p:xfrm>
          <a:off x="1763640" y="3548160"/>
          <a:ext cx="5581800" cy="2257200"/>
        </p:xfrm>
        <a:graphic>
          <a:graphicData uri="http://schemas.openxmlformats.org/presentationml/2006/ole">
            <p:oleObj r:id="rId1" spid="">
              <p:embed/>
              <p:pic>
                <p:nvPicPr>
                  <p:cNvPr id="297" name="Object 4" descr=""/>
                  <p:cNvPicPr/>
                  <p:nvPr/>
                </p:nvPicPr>
                <p:blipFill>
                  <a:blip r:embed="rId2"/>
                  <a:stretch/>
                </p:blipFill>
                <p:spPr>
                  <a:xfrm>
                    <a:off x="1763640" y="3548160"/>
                    <a:ext cx="5581800" cy="22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rogresso tecnologico dei Computer</a:t>
            </a:r>
            <a:endParaRPr b="0" lang="en-US" sz="4000" spc="-1" strike="noStrike">
              <a:solidFill>
                <a:srgbClr val="ffffff"/>
              </a:solidFill>
              <a:latin typeface="Arial"/>
            </a:endParaRPr>
          </a:p>
        </p:txBody>
      </p:sp>
      <p:sp>
        <p:nvSpPr>
          <p:cNvPr id="21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1945-1985: Computer ingombranti e costosi. Ogni computer operava indipendentemente dagli altr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à anni 80: sviluppo di microprocessori potenti a 8, 16, 32, 64 bit: capacità di calcolo di un mainframe ma costi molto più bass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passa da macchine da 10 milioni di dollari che eseguivano 1 istruzione/sec a macchine da 1000 dollari che eseguono 1 miliardo di istruzioni al second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uadagno prezzo/prestazioni: 10</a:t>
            </a:r>
            <a:r>
              <a:rPr b="0" lang="it-IT" sz="2800" spc="-1" strike="noStrike" baseline="30000">
                <a:solidFill>
                  <a:srgbClr val="000000"/>
                </a:solidFill>
                <a:latin typeface="Arial"/>
              </a:rPr>
              <a:t>13</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hiamate di Metodi</a:t>
            </a:r>
            <a:endParaRPr b="0" lang="en-US" sz="4400" spc="-1" strike="noStrike">
              <a:solidFill>
                <a:srgbClr val="ffffff"/>
              </a:solidFill>
              <a:latin typeface="Arial"/>
            </a:endParaRPr>
          </a:p>
        </p:txBody>
      </p:sp>
      <p:sp>
        <p:nvSpPr>
          <p:cNvPr id="30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processo in esecuzione su un host A chiama un metodo su un oggetto distribuito che risiede su un host B, passando allo stesso eventuali paramet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hiamata del metodo invoca un’ azione che il metodo eseguirà sull’ host B. Il valore di ritorno, se c’è, verrà trasferito dall’ host B all’ host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processo che fa uso di un oggetto distribuito viene detto processo client di quell’ oggetto, e i metodi dell’ oggetto sono chiamati metodi remoti (contrariamente ai metodi locali, o metodi appartenenti ad un oggetto loc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Architettura di un Sistema ad Oggetti Distribuiti</a:t>
            </a:r>
            <a:endParaRPr b="0" lang="en-US" sz="4000" spc="-1" strike="noStrike">
              <a:solidFill>
                <a:srgbClr val="ffffff"/>
              </a:solidFill>
              <a:latin typeface="Arial"/>
            </a:endParaRPr>
          </a:p>
        </p:txBody>
      </p:sp>
      <p:graphicFrame>
        <p:nvGraphicFramePr>
          <p:cNvPr id="305" name="Object 3"/>
          <p:cNvGraphicFramePr/>
          <p:nvPr/>
        </p:nvGraphicFramePr>
        <p:xfrm>
          <a:off x="1836720" y="1569960"/>
          <a:ext cx="6048360" cy="3659400"/>
        </p:xfrm>
        <a:graphic>
          <a:graphicData uri="http://schemas.openxmlformats.org/presentationml/2006/ole">
            <p:oleObj r:id="rId1" spid="">
              <p:embed/>
              <p:pic>
                <p:nvPicPr>
                  <p:cNvPr id="306" name="Object 3" descr=""/>
                  <p:cNvPicPr/>
                  <p:nvPr/>
                </p:nvPicPr>
                <p:blipFill>
                  <a:blip r:embed="rId2"/>
                  <a:stretch/>
                </p:blipFill>
                <p:spPr>
                  <a:xfrm>
                    <a:off x="1836720" y="1569960"/>
                    <a:ext cx="6048360" cy="36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viluppo delle Reti di Calcolatori</a:t>
            </a:r>
            <a:endParaRPr b="0" lang="en-US" sz="4000" spc="-1" strike="noStrike">
              <a:solidFill>
                <a:srgbClr val="ffffff"/>
              </a:solidFill>
              <a:latin typeface="Arial"/>
            </a:endParaRPr>
          </a:p>
        </p:txBody>
      </p:sp>
      <p:sp>
        <p:nvSpPr>
          <p:cNvPr id="21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zione delle reti di computer ad alta velocit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Locali (LAN): connettono centinaia di macchine in un edificio con velocità da 100 milioni a 10 miliardi di bit/s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eti Geografiche (WAN): milioni di macchine connesse in tutto il mondo, con velocità da 64Kbs a gigabit/se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1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ultato</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cilità di mettere insieme sistemi di calcolo composti da un gran numero di computer connessi da reti ad alta velocit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esti sistemi sono chiamati Sistemi Distribuiti, diversamente dai precedenti Sistemi Centralizzati, che avevano un singolo processore e alcune perifer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efinizione di Sistema Distribuito</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i="1" lang="it-IT" sz="2400" spc="-1" strike="noStrike">
                <a:solidFill>
                  <a:srgbClr val="000000"/>
                </a:solidFill>
                <a:latin typeface="Arial"/>
              </a:rPr>
              <a:t>Collezione di computer indipendenti che appare ai propri utenti come un singolo sistema coeren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mponenti di un SD sono quindi computer autonom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utenti di un SD pensano di aver a che fare con un unico sistem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 segue che le componenti di un SD devono collaborare tra lor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e realizzare la collaborazione? Domanda chia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ssuna supposizione sul tipo di computer, sui sistemi operativi o sulle modalità di interconness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dei SD</a:t>
            </a:r>
            <a:endParaRPr b="0" lang="en-US" sz="4400" spc="-1" strike="noStrike">
              <a:solidFill>
                <a:srgbClr val="ffffff"/>
              </a:solidFill>
              <a:latin typeface="Arial"/>
            </a:endParaRPr>
          </a:p>
        </p:txBody>
      </p:sp>
      <p:sp>
        <p:nvSpPr>
          <p:cNvPr id="227"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differenze tra i computer, le modalità di comunicazione e l’organizzazione interna del SD sono nascoste agli uten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tenti e applicazioni possono interagire con un SD in modo coerente e uniforme, indipendentemente da quando e dove l’interazione ha luog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SD deve essere facilmente espandibile e scalabile, essendo composto da computer indipendenti e avendo un’organizzazione trasparente: facilità di sostituire parti o aggiungere nuove component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D come Middleware</a:t>
            </a:r>
            <a:endParaRPr b="0" lang="en-US" sz="4400" spc="-1" strike="noStrike">
              <a:solidFill>
                <a:srgbClr val="ffffff"/>
              </a:solidFill>
              <a:latin typeface="Arial"/>
            </a:endParaRPr>
          </a:p>
        </p:txBody>
      </p:sp>
      <p:sp>
        <p:nvSpPr>
          <p:cNvPr id="23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 solito, un SD si configura  come un layer di software intermedio tra un soprastante livello delle applicazioni e un sottostante livello di software di base (Sistemi Operativi, Sistemi di Comunicazione).</a:t>
            </a:r>
            <a:endParaRPr b="0" lang="en-US" sz="2000" spc="-1" strike="noStrike">
              <a:solidFill>
                <a:srgbClr val="000000"/>
              </a:solidFill>
              <a:latin typeface="Arial"/>
            </a:endParaRPr>
          </a:p>
        </p:txBody>
      </p:sp>
      <p:sp>
        <p:nvSpPr>
          <p:cNvPr id="232" name="Rectangle 5"/>
          <p:cNvSpPr/>
          <p:nvPr/>
        </p:nvSpPr>
        <p:spPr>
          <a:xfrm>
            <a:off x="385128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5148360" y="3645000"/>
            <a:ext cx="10792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a:off x="6588000" y="3645000"/>
            <a:ext cx="107964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a:off x="2340000" y="3645000"/>
            <a:ext cx="1081080" cy="20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9"/>
          <p:cNvSpPr/>
          <p:nvPr/>
        </p:nvSpPr>
        <p:spPr>
          <a:xfrm>
            <a:off x="241128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A</a:t>
            </a:r>
            <a:endParaRPr b="0" lang="en-US" sz="1800" spc="-1" strike="noStrike">
              <a:solidFill>
                <a:srgbClr val="000000"/>
              </a:solidFill>
              <a:latin typeface="Arial"/>
            </a:endParaRPr>
          </a:p>
        </p:txBody>
      </p:sp>
      <p:sp>
        <p:nvSpPr>
          <p:cNvPr id="237" name="Text Box 10"/>
          <p:cNvSpPr/>
          <p:nvPr/>
        </p:nvSpPr>
        <p:spPr>
          <a:xfrm>
            <a:off x="3995640" y="3716280"/>
            <a:ext cx="2016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B</a:t>
            </a:r>
            <a:endParaRPr b="0" lang="en-US" sz="1800" spc="-1" strike="noStrike">
              <a:solidFill>
                <a:srgbClr val="000000"/>
              </a:solidFill>
              <a:latin typeface="Arial"/>
            </a:endParaRPr>
          </a:p>
        </p:txBody>
      </p:sp>
      <p:sp>
        <p:nvSpPr>
          <p:cNvPr id="238" name="Text Box 11"/>
          <p:cNvSpPr/>
          <p:nvPr/>
        </p:nvSpPr>
        <p:spPr>
          <a:xfrm>
            <a:off x="6659640" y="371628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 C</a:t>
            </a:r>
            <a:endParaRPr b="0" lang="en-US" sz="1800" spc="-1" strike="noStrike">
              <a:solidFill>
                <a:srgbClr val="000000"/>
              </a:solidFill>
              <a:latin typeface="Arial"/>
            </a:endParaRPr>
          </a:p>
        </p:txBody>
      </p:sp>
      <p:sp>
        <p:nvSpPr>
          <p:cNvPr id="239" name="Text Box 12"/>
          <p:cNvSpPr/>
          <p:nvPr/>
        </p:nvSpPr>
        <p:spPr>
          <a:xfrm>
            <a:off x="241128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1</a:t>
            </a:r>
            <a:endParaRPr b="0" lang="en-US" sz="1800" spc="-1" strike="noStrike">
              <a:solidFill>
                <a:srgbClr val="000000"/>
              </a:solidFill>
              <a:latin typeface="Arial"/>
            </a:endParaRPr>
          </a:p>
        </p:txBody>
      </p:sp>
      <p:sp>
        <p:nvSpPr>
          <p:cNvPr id="240" name="Text Box 13"/>
          <p:cNvSpPr/>
          <p:nvPr/>
        </p:nvSpPr>
        <p:spPr>
          <a:xfrm>
            <a:off x="392436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2</a:t>
            </a:r>
            <a:endParaRPr b="0" lang="en-US" sz="1800" spc="-1" strike="noStrike">
              <a:solidFill>
                <a:srgbClr val="000000"/>
              </a:solidFill>
              <a:latin typeface="Arial"/>
            </a:endParaRPr>
          </a:p>
        </p:txBody>
      </p:sp>
      <p:sp>
        <p:nvSpPr>
          <p:cNvPr id="241" name="Text Box 14"/>
          <p:cNvSpPr/>
          <p:nvPr/>
        </p:nvSpPr>
        <p:spPr>
          <a:xfrm>
            <a:off x="521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3</a:t>
            </a:r>
            <a:endParaRPr b="0" lang="en-US" sz="1800" spc="-1" strike="noStrike">
              <a:solidFill>
                <a:srgbClr val="000000"/>
              </a:solidFill>
              <a:latin typeface="Arial"/>
            </a:endParaRPr>
          </a:p>
        </p:txBody>
      </p:sp>
      <p:sp>
        <p:nvSpPr>
          <p:cNvPr id="242" name="Text Box 15"/>
          <p:cNvSpPr/>
          <p:nvPr/>
        </p:nvSpPr>
        <p:spPr>
          <a:xfrm>
            <a:off x="6659640" y="5068800"/>
            <a:ext cx="93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 4</a:t>
            </a:r>
            <a:endParaRPr b="0" lang="en-US" sz="1800" spc="-1" strike="noStrike">
              <a:solidFill>
                <a:srgbClr val="000000"/>
              </a:solidFill>
              <a:latin typeface="Arial"/>
            </a:endParaRPr>
          </a:p>
        </p:txBody>
      </p:sp>
      <p:sp>
        <p:nvSpPr>
          <p:cNvPr id="243" name="Text Box 16"/>
          <p:cNvSpPr/>
          <p:nvPr/>
        </p:nvSpPr>
        <p:spPr>
          <a:xfrm>
            <a:off x="1979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1</a:t>
            </a:r>
            <a:endParaRPr b="0" lang="en-US" sz="1800" spc="-1" strike="noStrike">
              <a:solidFill>
                <a:srgbClr val="000000"/>
              </a:solidFill>
              <a:latin typeface="Arial"/>
            </a:endParaRPr>
          </a:p>
        </p:txBody>
      </p:sp>
      <p:sp>
        <p:nvSpPr>
          <p:cNvPr id="244" name="Text Box 17"/>
          <p:cNvSpPr/>
          <p:nvPr/>
        </p:nvSpPr>
        <p:spPr>
          <a:xfrm>
            <a:off x="341964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2</a:t>
            </a:r>
            <a:endParaRPr b="0" lang="en-US" sz="1800" spc="-1" strike="noStrike">
              <a:solidFill>
                <a:srgbClr val="000000"/>
              </a:solidFill>
              <a:latin typeface="Arial"/>
            </a:endParaRPr>
          </a:p>
        </p:txBody>
      </p:sp>
      <p:sp>
        <p:nvSpPr>
          <p:cNvPr id="245" name="Text Box 18"/>
          <p:cNvSpPr/>
          <p:nvPr/>
        </p:nvSpPr>
        <p:spPr>
          <a:xfrm>
            <a:off x="4788000" y="3278160"/>
            <a:ext cx="18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3</a:t>
            </a:r>
            <a:endParaRPr b="0" lang="en-US" sz="1800" spc="-1" strike="noStrike">
              <a:solidFill>
                <a:srgbClr val="000000"/>
              </a:solidFill>
              <a:latin typeface="Arial"/>
            </a:endParaRPr>
          </a:p>
        </p:txBody>
      </p:sp>
      <p:sp>
        <p:nvSpPr>
          <p:cNvPr id="246" name="Text Box 19"/>
          <p:cNvSpPr/>
          <p:nvPr/>
        </p:nvSpPr>
        <p:spPr>
          <a:xfrm>
            <a:off x="6227640" y="328464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uter 4</a:t>
            </a:r>
            <a:endParaRPr b="0" lang="en-US" sz="1800" spc="-1" strike="noStrike">
              <a:solidFill>
                <a:srgbClr val="000000"/>
              </a:solidFill>
              <a:latin typeface="Arial"/>
            </a:endParaRPr>
          </a:p>
        </p:txBody>
      </p:sp>
      <p:sp>
        <p:nvSpPr>
          <p:cNvPr id="247" name="Text Box 20"/>
          <p:cNvSpPr/>
          <p:nvPr/>
        </p:nvSpPr>
        <p:spPr>
          <a:xfrm>
            <a:off x="2482920" y="4437000"/>
            <a:ext cx="5041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Distribuito (Middle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biettivi dei SD</a:t>
            </a:r>
            <a:endParaRPr b="0" lang="en-US" sz="44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vale la pena di costruire un S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e risorse siano facilmente accessibi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la distribuzione delle risorse sia nascos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aper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vuole che il sistema sia scalab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Arial"/>
            </a:endParaRPr>
          </a:p>
        </p:txBody>
      </p:sp>
      <p:sp>
        <p:nvSpPr>
          <p:cNvPr id="2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ccessibilità</a:t>
            </a:r>
            <a:endParaRPr b="0" lang="en-US" sz="4400" spc="-1" strike="noStrike">
              <a:solidFill>
                <a:srgbClr val="ffffff"/>
              </a:solidFill>
              <a:latin typeface="Arial"/>
            </a:endParaRPr>
          </a:p>
        </p:txBody>
      </p:sp>
      <p:sp>
        <p:nvSpPr>
          <p:cNvPr id="255"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orse: computer, dati, stampanti, pagine Web,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volte si vuole che queste risorse siano condivise (la condivisione è econo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net dimostra che connettere utenti e risorse è una strategia di succes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ware: File Sharing, Editing Collaborativo, Video Conferenza, ec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za della Sicurezza quando si è connessi in rete: protezione della privacy, evitare lo spam, sono tutti ottimi motivi per progettare un 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0:57:03Z</dcterms:modified>
  <cp:revision>54</cp:revision>
  <dc:subject/>
  <dc:title>Diapositiva 1</dc:title>
</cp:coreProperties>
</file>