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8"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347F4C-75E6-45EB-B99E-E53E54240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C79C5-A35F-470B-B846-B7A6AFE45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920A8-A074-4281-ACB6-C12211554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462AE-AE2E-4713-93CA-854C378D2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28E6A1-5505-44DA-8170-8B4DEA1AA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AED5A-32D6-4C43-8B51-83DDCBC08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71CA4-CF70-475D-BBEA-655A609F3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54EBC-819D-4E46-9062-209DFED13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DBA2E-7679-42F9-8FCB-3142A838F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63481-8897-45CE-9852-73D4DF76C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D1723A-BB2B-41C2-B7C0-6EB3786845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CF5062-B330-4025-B5DF-F49622358A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0562B3-9C48-4F3A-8332-E67F5B32296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8FB380-B579-4A4C-B831-DE238A9245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23FF8A-8157-4795-829A-5AEE1F844D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8B23ED-EBF9-45D5-9317-B6EEF9AF86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C2A951-92AB-488C-962C-D88DAF584B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310AAD-5A6F-4FEF-8B40-6A1D12287E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B6133D-5009-426D-B148-F4413E4287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4C832D-9200-423B-A3AD-11305E5237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7DBDDC-096F-4E87-B431-FBF56B6FAE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FE4811-EE4E-44E4-90EF-E31C18768A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7CCDED-3835-44F5-BB6D-A28D1EC750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80EEDE-332C-4DAA-8663-74CBB52413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B172628-A3AA-4F0E-8C66-22CEF8B914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D2FF36-0080-430A-83A1-BE0781F7CA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F6542B-529E-4410-A6EF-17D3EF4BDD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2C4097-2998-4B81-A63F-ABE7B1A98F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64FF75-56FD-4CEA-8D8F-0CA567EE6B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5DC819-71A2-4EAC-B08A-5F220B208B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DF5ABC-D177-4E85-9053-0A2219AF1A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E38A58-D077-4AAC-B89E-3AF8B9BD0F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16CA9B-D846-40F9-AB7E-F4073BA2D2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C8F5E4-7E2A-4BAD-A526-7B5709022F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FC80EAF-EFEB-4FD0-B2D8-852D61285D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150912-F4CA-4FFD-9115-0EF8E7B337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F6F0EF3-47D4-4A58-903E-59D79B1336B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ADDF5D-CA12-4243-885E-DF46B41178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F008F0-9D52-4732-B199-E75BA2600FC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877AA4-3B2E-4B0A-9949-BA6E37E3CC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73C33C-5212-4A76-9BD7-59231AECF1C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7101674-5C58-4064-B9D2-5FB1B74FD9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BE6EF6-B8D0-494B-B05B-881E48DEEA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60A9A7-34D3-4C3F-A748-08A4321399D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127586-19AA-4C10-B854-E86177ACCA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47F165-FABE-421E-92C9-2EA449F70A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947AC9-9132-4E4F-97D2-70D44CDA44D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551A761-177E-4683-9903-7E2DF6D39A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007B-58AF-4B9E-B61D-8A886D6A79CA}"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F6D4-14C0-4B50-A837-91892C2F912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7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72"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73"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3F71-31F1-4CE0-B3B6-DFECE815117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11"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1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C50F-CD05-4952-B030-BBEB73D8C65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52"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4"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55"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2472-77FF-4958-B87C-01F2FD8D8F6B}"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493"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5"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496"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B599-F198-47FC-A352-3FD0EFC9CAE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ADB4-2ED1-42F5-9369-43AC6FC70DA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2AD9-CC73-4DA9-846E-E6209117150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6B7E-4517-4518-9DE1-A9C080D6483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8A9D-4FEE-4A1D-A00B-D4F26A850214}"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9347-E3BC-4785-A404-28FAD6EA9D15}"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47"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DD04-051A-4563-ABD6-43C4DD1E3D0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88"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9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1882-5314-4558-A18B-AE3787A0BEF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329"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1"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32"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Il Web</a:t>
            </a:r>
            <a:endParaRPr b="0" lang="en-US" sz="2400" spc="-1" strike="noStrike">
              <a:solidFill>
                <a:srgbClr val="ffffff"/>
              </a:solidFill>
              <a:latin typeface="Arial"/>
            </a:endParaRPr>
          </a:p>
        </p:txBody>
      </p:sp>
      <p:sp>
        <p:nvSpPr>
          <p:cNvPr id="534"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1)</a:t>
            </a:r>
            <a:endParaRPr b="0" lang="en-US" sz="3600" spc="-1" strike="noStrike">
              <a:solidFill>
                <a:srgbClr val="ffffff"/>
              </a:solidFill>
              <a:latin typeface="Arial"/>
            </a:endParaRPr>
          </a:p>
        </p:txBody>
      </p:sp>
      <p:sp>
        <p:nvSpPr>
          <p:cNvPr id="552" name="PlaceHolder 2"/>
          <p:cNvSpPr>
            <a:spLocks noGrp="1"/>
          </p:cNvSpPr>
          <p:nvPr>
            <p:ph/>
          </p:nvPr>
        </p:nvSpPr>
        <p:spPr>
          <a:xfrm>
            <a:off x="1042920" y="1447920"/>
            <a:ext cx="7872480" cy="43574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duttività personale o presentazione: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gli aspetti di presentazione di contenuti in maniera accattivante ad un pubblico pressoché passivo (a parte la selezione del percorso informativo)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vilegiare un meccanismo semplice e generale per registrare spunti, idee, ritagli, foto e suoni, un diario destrutturato che permette poi rielaborazioni personali dei contenut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horing o browsing: deve il sistem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potenti di navigazione e lettura, sistemi di boomarking, history, link labelling e presentazione per rendere l'esperienza di lettura ipertestuale il più semplice possibile, oppur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nire strumenti sofisticati e semplici per la creazione di contenuti, la messa per iscritto di idee, testi ed oggetti multimediali slegati e di natura svariata, e la loro riorganizzazione in un elaborato uni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360"/>
            <a:ext cx="81532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Grandi discussioni sugli ipertesti (2)</a:t>
            </a:r>
            <a:endParaRPr b="0" lang="en-US" sz="3600" spc="-1" strike="noStrike">
              <a:solidFill>
                <a:srgbClr val="ffffff"/>
              </a:solidFill>
              <a:latin typeface="Arial"/>
            </a:endParaRPr>
          </a:p>
        </p:txBody>
      </p:sp>
      <p:sp>
        <p:nvSpPr>
          <p:cNvPr id="554" name="PlaceHolder 2"/>
          <p:cNvSpPr>
            <a:spLocks noGrp="1"/>
          </p:cNvSpPr>
          <p:nvPr>
            <p:ph/>
          </p:nvPr>
        </p:nvSpPr>
        <p:spPr>
          <a:xfrm>
            <a:off x="1042920" y="1447560"/>
            <a:ext cx="78724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de o papir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miglia dei </a:t>
            </a:r>
            <a:r>
              <a:rPr b="0" i="1" lang="it-IT" sz="2000" spc="-1" strike="noStrike">
                <a:solidFill>
                  <a:srgbClr val="000000"/>
                </a:solidFill>
                <a:latin typeface="Arial"/>
              </a:rPr>
              <a:t>card shark</a:t>
            </a:r>
            <a:r>
              <a:rPr b="0" lang="it-IT" sz="2000" spc="-1" strike="noStrike">
                <a:solidFill>
                  <a:srgbClr val="000000"/>
                </a:solidFill>
                <a:latin typeface="Arial"/>
              </a:rPr>
              <a:t> riteneva che le difficoltà di leggere nel medium informatico richiedeva una riorganizzazione del contenuto appropriata, e che la metafora giusta fosse la scheda, un'unità di contenuto autonoma e completa, grande come la finestra, in cui il testo originario venisse suddiviso.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ll'altra parte, gli </a:t>
            </a:r>
            <a:r>
              <a:rPr b="0" i="1" lang="it-IT" sz="2000" spc="-1" strike="noStrike">
                <a:solidFill>
                  <a:srgbClr val="000000"/>
                </a:solidFill>
                <a:latin typeface="Arial"/>
              </a:rPr>
              <a:t>holy scrollers</a:t>
            </a:r>
            <a:r>
              <a:rPr b="0" lang="it-IT" sz="2000" spc="-1" strike="noStrike">
                <a:solidFill>
                  <a:srgbClr val="000000"/>
                </a:solidFill>
                <a:latin typeface="Arial"/>
              </a:rPr>
              <a:t> sostenevano che il contenuto non dovesse essere riorganizzato per lo schermo, ma mantenuto nella sua forma originaria, e che attraverso lo scrolling l'utente avrebbe potuto accedere al contenuto nella sua forma piena, senza rielaborazioni. La metafora giusta è il papiro, o anche la finestra di word process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oria del WWW (0)</a:t>
            </a:r>
            <a:endParaRPr b="0" lang="en-US" sz="4400" spc="-1" strike="noStrike">
              <a:solidFill>
                <a:srgbClr val="ffffff"/>
              </a:solidFill>
              <a:latin typeface="Arial"/>
            </a:endParaRPr>
          </a:p>
        </p:txBody>
      </p:sp>
      <p:sp>
        <p:nvSpPr>
          <p:cNvPr id="55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i inizi (1989-199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rima guerra dei browser (1995-99)</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predominio di Explorer (1999-2004)</a:t>
            </a:r>
            <a:endParaRPr b="0" lang="en-US" sz="3200" spc="-1" strike="noStrike">
              <a:solidFill>
                <a:srgbClr val="000000"/>
              </a:solidFill>
              <a:latin typeface="Arial"/>
            </a:endParaRPr>
          </a:p>
          <a:p>
            <a:pPr marL="378000" indent="-3780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seconda guerra dei browser? (200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1)</a:t>
            </a:r>
            <a:endParaRPr b="0" lang="en-US" sz="4400" spc="-1" strike="noStrike">
              <a:solidFill>
                <a:srgbClr val="ffffff"/>
              </a:solidFill>
              <a:latin typeface="Arial"/>
            </a:endParaRPr>
          </a:p>
        </p:txBody>
      </p:sp>
      <p:sp>
        <p:nvSpPr>
          <p:cNvPr id="558" name="PlaceHolder 2"/>
          <p:cNvSpPr>
            <a:spLocks noGrp="1"/>
          </p:cNvSpPr>
          <p:nvPr>
            <p:ph/>
          </p:nvPr>
        </p:nvSpPr>
        <p:spPr>
          <a:xfrm>
            <a:off x="1143000" y="1412640"/>
            <a:ext cx="7772400" cy="4537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9, un gruppo di ricercatori informatici del CERN (il centro di ricerca in fisica nucleare di Ginevra ricevettero l’incarico da parte della direzione di realizzare un meccanismo per la diffusione rapida di articoli, appunti e opinioni tra i fisici che ruotavano intorno al centr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im Berners-Lee, Robert Cailliau ed altri identificarono Internet, ipertesti e SGML come elementi chiave per questo meccanism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91, alla conferenza sugli ipertesti, Berners-Lee e Cailliau mostrarono (con poco successo) il primo prototipo della loro applicazione, realizzata in client-server su architettura NeXT: World-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116000" y="274320"/>
            <a:ext cx="7570800" cy="1143000"/>
          </a:xfrm>
          <a:prstGeom prst="rect">
            <a:avLst/>
          </a:prstGeom>
          <a:noFill/>
          <a:ln w="0">
            <a:noFill/>
          </a:ln>
        </p:spPr>
        <p:txBody>
          <a:bodyPr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2)</a:t>
            </a:r>
            <a:endParaRPr b="0" lang="en-US" sz="4400" spc="-1" strike="noStrike">
              <a:solidFill>
                <a:srgbClr val="ffffff"/>
              </a:solidFill>
              <a:latin typeface="Arial"/>
            </a:endParaRPr>
          </a:p>
        </p:txBody>
      </p:sp>
      <p:sp>
        <p:nvSpPr>
          <p:cNvPr id="5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prototipo NeXT era composto di: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er che spediva documenti memorizzati localmente a chiunque lo richiedesse secondo il protocollo stabilito, e che memorizzava documenti spediti da remoto, il tutto senza autorizzazione o verific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editor di testi parzialmente WYSIWYG che permetteva di visualizzare documenti ipertestuali e di modificarli, creando link e blocchi di te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3)</a:t>
            </a:r>
            <a:endParaRPr b="0" lang="en-US" sz="4400" spc="-1" strike="noStrike">
              <a:solidFill>
                <a:srgbClr val="ffffff"/>
              </a:solidFill>
              <a:latin typeface="Arial"/>
            </a:endParaRPr>
          </a:p>
        </p:txBody>
      </p:sp>
      <p:sp>
        <p:nvSpPr>
          <p:cNvPr id="562" name="PlaceHolder 2"/>
          <p:cNvSpPr>
            <a:spLocks noGrp="1"/>
          </p:cNvSpPr>
          <p:nvPr>
            <p:ph/>
          </p:nvPr>
        </p:nvSpPr>
        <p:spPr>
          <a:xfrm>
            <a:off x="1042920" y="1371240"/>
            <a:ext cx="7796160" cy="4721400"/>
          </a:xfrm>
          <a:prstGeom prst="rect">
            <a:avLst/>
          </a:prstGeom>
          <a:solidFill>
            <a:srgbClr val="ffffff"/>
          </a:solidFill>
          <a:ln w="0">
            <a:noFill/>
          </a:ln>
        </p:spPr>
        <p:txBody>
          <a:bodyPr anchor="t">
            <a:normAutofit/>
          </a:bodyPr>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su Internet erano: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TP, che forniva un meccanismo di scambio di file, senza preoccuparsi della visualizzazione</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AIS, che era un server con notevoli potenzialità di ricerca su documenti di solo test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opher, che forniva un meccanismo di organizzazione di documenti di testo in gerarchie distribuite su più server </a:t>
            </a:r>
            <a:endParaRPr b="0" lang="en-US" sz="1600" spc="-1" strike="noStrike">
              <a:solidFill>
                <a:srgbClr val="000000"/>
              </a:solidFill>
              <a:latin typeface="Arial"/>
            </a:endParaRPr>
          </a:p>
          <a:p>
            <a:pPr marL="289080" indent="-289080">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rincipali competitor nel campo degli ipertesti erano:</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card (e Toolbook): strumenti di produttività individuale, a metà strada tra il database, il programma di disegno, l’ambiente di fast prototyping e l’ipertesto. Non distribuito, era un’applicazione monolitica.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crocosm: un semplice server su rete locale, con identificazione degli utenti, e una serie di moduli e modifiche (</a:t>
            </a:r>
            <a:r>
              <a:rPr b="0" i="1" lang="it-IT" sz="1600" spc="-1" strike="noStrike">
                <a:solidFill>
                  <a:srgbClr val="000000"/>
                </a:solidFill>
                <a:latin typeface="Arial"/>
              </a:rPr>
              <a:t>hack</a:t>
            </a:r>
            <a:r>
              <a:rPr b="0" lang="it-IT" sz="1600" spc="-1" strike="noStrike">
                <a:solidFill>
                  <a:srgbClr val="000000"/>
                </a:solidFill>
                <a:latin typeface="Arial"/>
              </a:rPr>
              <a:t>) su applicazioni comuni (AutoCAD, MS Word …) per permettere la ricerca ed visione dei link. </a:t>
            </a:r>
            <a:endParaRPr b="0" lang="en-US" sz="1600" spc="-1" strike="noStrike">
              <a:solidFill>
                <a:srgbClr val="000000"/>
              </a:solidFill>
              <a:latin typeface="Arial"/>
            </a:endParaRPr>
          </a:p>
          <a:p>
            <a:pPr lvl="1" marL="765000" indent="-28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yper-G: un sistema client-server complesso e completo, con un protocollo di comunicazione sofisticato, un modello di dati completo, ma senza il concetto di indirizzamento comple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4)</a:t>
            </a:r>
            <a:endParaRPr b="0" lang="en-US" sz="4400" spc="-1" strike="noStrike">
              <a:solidFill>
                <a:srgbClr val="ffffff"/>
              </a:solidFill>
              <a:latin typeface="Arial"/>
            </a:endParaRPr>
          </a:p>
        </p:txBody>
      </p:sp>
      <p:sp>
        <p:nvSpPr>
          <p:cNvPr id="564" name="PlaceHolder 2"/>
          <p:cNvSpPr>
            <a:spLocks noGrp="1"/>
          </p:cNvSpPr>
          <p:nvPr>
            <p:ph/>
          </p:nvPr>
        </p:nvSpPr>
        <p:spPr>
          <a:xfrm>
            <a:off x="971640" y="1267920"/>
            <a:ext cx="7943760" cy="446436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ostante l’accoglienza fredda dei ricercatori sugli ipertesti, i fisici furono entusiasti del WWW: comodo, facile da usare e da imparare, gratuito, privo di alternative realistiche (Hyper-G è di un anno più tardi).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ttobre del 1992 il National Centre for Supercomputing Applications (NCSA) esaminò il prototipo di WWW e decise di realizzarne una versione propria.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NCSA é impegnata nella realizzazione o nella re-ingegnerizzazione di soluzioni informatiche che aiutino tutta la comunità scientifica nello svolgimento delle loro ricerche. L’NCSA produce software per la visualizzazione di dati scientifici, e ha realizzato lo standard Internet per la connessione a computer via rete: Telnet.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realizzazione del server NCSA e del primo browser WWW, chiamato Mosaic, l’NCSA decretò l’inizio del successo esplosivo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5)</a:t>
            </a:r>
            <a:endParaRPr b="0" lang="en-US" sz="4400" spc="-1" strike="noStrike">
              <a:solidFill>
                <a:srgbClr val="ffffff"/>
              </a:solidFill>
              <a:latin typeface="Arial"/>
            </a:endParaRPr>
          </a:p>
        </p:txBody>
      </p:sp>
      <p:sp>
        <p:nvSpPr>
          <p:cNvPr id="566" name="PlaceHolder 2"/>
          <p:cNvSpPr>
            <a:spLocks noGrp="1"/>
          </p:cNvSpPr>
          <p:nvPr>
            <p:ph/>
          </p:nvPr>
        </p:nvSpPr>
        <p:spPr>
          <a:xfrm>
            <a:off x="1042920" y="1268280"/>
            <a:ext cx="7872480" cy="4114800"/>
          </a:xfrm>
          <a:prstGeom prst="rect">
            <a:avLst/>
          </a:prstGeom>
          <a:solidFill>
            <a:srgbClr val="ffffff"/>
          </a:solidFill>
          <a:ln w="0">
            <a:noFill/>
          </a:ln>
        </p:spPr>
        <p:txBody>
          <a:bodyPr anchor="t">
            <a:normAutofit/>
          </a:bodyPr>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saic aveva perso la capacità di editing del prototipo NeXT, ma aveva acquistato la capacità di visualizzare semplici immagini GIF.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breve, milioni di utenti iniziarono ad usare Mosaic o altri browser WWW, e decine di migliaia installarono server HTTP. Nel frattempo, però, l’NCSA aveva deciso di non spendere più energie sul WWW.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rc Andreessen, realizzatore del prototipo di Mosaic su X-Windows, e capo del gruppo alla NCSA che aveva realizzato le altre versioni ed il server, si trovò la strada bloccata per l’evoluzione del progetto. </a:t>
            </a:r>
            <a:endParaRPr b="0" lang="en-US" sz="1800" spc="-1" strike="noStrike">
              <a:solidFill>
                <a:srgbClr val="000000"/>
              </a:solidFill>
              <a:latin typeface="Arial"/>
            </a:endParaRPr>
          </a:p>
          <a:p>
            <a:pPr marL="289080" indent="-28908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im Clark, ex professore a Berkeley e co-fondatore della Silicon Graphics, standard nella grafica professionale (animazioni, effetti speciali, progettazione,  ecc.) cercava una nuova idea da finanzi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t>
            </a:r>
            <a:r>
              <a:rPr b="0" lang="it-IT" sz="4400" spc="-1" strike="noStrike">
                <a:solidFill>
                  <a:srgbClr val="ffffff"/>
                </a:solidFill>
                <a:latin typeface="Arial"/>
              </a:rPr>
              <a:t>toria del WWW: gli inizi (6)</a:t>
            </a:r>
            <a:endParaRPr b="0" lang="en-US" sz="4400" spc="-1" strike="noStrike">
              <a:solidFill>
                <a:srgbClr val="ffffff"/>
              </a:solidFill>
              <a:latin typeface="Arial"/>
            </a:endParaRPr>
          </a:p>
        </p:txBody>
      </p:sp>
      <p:sp>
        <p:nvSpPr>
          <p:cNvPr id="568" name="PlaceHolder 2"/>
          <p:cNvSpPr>
            <a:spLocks noGrp="1"/>
          </p:cNvSpPr>
          <p:nvPr>
            <p:ph/>
          </p:nvPr>
        </p:nvSpPr>
        <p:spPr>
          <a:xfrm>
            <a:off x="1186920" y="1413000"/>
            <a:ext cx="7728120" cy="4114800"/>
          </a:xfrm>
          <a:prstGeom prst="rect">
            <a:avLst/>
          </a:prstGeom>
          <a:solidFill>
            <a:srgbClr val="ffffff"/>
          </a:solidFill>
          <a:ln w="0">
            <a:noFill/>
          </a:ln>
        </p:spPr>
        <p:txBody>
          <a:bodyPr anchor="t">
            <a:normAutofit/>
          </a:bodyPr>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ndendo Andreessen come condirettore, Clark fonda nel 1993 la Mosaic Corporation, poi rinominata Netscape Corporation per evitare problemi legali con la NCSA. </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uccesso di Netscape Navigator (1994) è immediato e totale. La ditta Netscape ha il passaggio più rapido tra la fondazione e la quotazione in borsa della storia, ed una delle quotazioni iniziali di maggior successo.</a:t>
            </a:r>
            <a:endParaRPr b="0" lang="en-US" sz="2000" spc="-1" strike="noStrike">
              <a:solidFill>
                <a:srgbClr val="000000"/>
              </a:solidFill>
              <a:latin typeface="Arial"/>
            </a:endParaRPr>
          </a:p>
          <a:p>
            <a:pPr marL="289080" indent="-28908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 fin dall’inizio Clark e soci sanno di essere o di star per entrare nel mirino di Microsoft, e si preoccupano di mantenere competitività e controllo del merca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 I guerra dei browser (1)</a:t>
            </a:r>
            <a:endParaRPr b="0" lang="en-US" sz="4400" spc="-1" strike="noStrike">
              <a:solidFill>
                <a:srgbClr val="ffffff"/>
              </a:solidFill>
              <a:latin typeface="Arial"/>
            </a:endParaRPr>
          </a:p>
        </p:txBody>
      </p:sp>
      <p:sp>
        <p:nvSpPr>
          <p:cNvPr id="5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frattempo, Berners-Lee e Cailliau cercano di mantenere il controllo sull’evoluzione del World Wide Web e fondano il W3C, con fondi della ricerca e dell’università. </a:t>
            </a:r>
            <a:endParaRPr b="0" lang="en-US" sz="2400" spc="-1" strike="noStrike">
              <a:solidFill>
                <a:srgbClr val="000000"/>
              </a:solidFill>
              <a:latin typeface="Arial"/>
            </a:endParaRPr>
          </a:p>
          <a:p>
            <a:pPr marL="378000" indent="-3780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soft, dopo una falsa partenza con Microsoft Network, abbraccia definitivamente e con energia la tecnologia Internet, ed inizia a realizzare un browser WWW (Internet Explorer) ed un server HTTP (Microsoft Information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1186920" y="476280"/>
            <a:ext cx="7347240" cy="3814560"/>
          </a:xfrm>
          <a:prstGeom prst="rect">
            <a:avLst/>
          </a:prstGeom>
          <a:solidFill>
            <a:srgbClr val="ffffff"/>
          </a:solid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t>
            </a:r>
            <a:r>
              <a:rPr b="0" i="1" lang="it-IT" sz="2000" spc="-1" strike="noStrike">
                <a:solidFill>
                  <a:srgbClr val="000000"/>
                </a:solidFill>
                <a:latin typeface="Arial"/>
              </a:rPr>
              <a:t>[...] un libro è più di una struttura verbale, o di una serie di strutture verbali; è il dialogo che intavola col suo lettore e l'intonazione che impone alla sua voce e le mutevoli e durature immagini che lascia nella sua memoria. [...] La letteratura non è esauribile, per la sufficiente e semplice ragione che un solo libro non lo è. Il libro non è un ente privo di comunicazioni: è una relazione, è un asse di innumerevoli relazioni. Una letteratura differisce da un'altra, successiva o precedente, meno per il testo che per il modo in cui è letta: se mi fosse dato leggere una qualsiasi pagina attuale - questa, per esempio - come la leggeranno nell'anno duemila, saprei come sarà la letteratura nell'anno duemila.</a:t>
            </a:r>
            <a:r>
              <a:rPr b="0" i="1" lang="it-IT" sz="2400" spc="-1" strike="noStrike">
                <a:solidFill>
                  <a:srgbClr val="000000"/>
                </a:solidFill>
                <a:latin typeface="Arial"/>
              </a:rPr>
              <a:t>”</a:t>
            </a: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J. L. Borges, Nota su Bernard Shaw in </a:t>
            </a:r>
            <a:r>
              <a:rPr b="0" lang="it-IT" sz="1600" spc="-1" strike="noStrike">
                <a:solidFill>
                  <a:srgbClr val="000000"/>
                </a:solidFill>
                <a:latin typeface="Arial"/>
              </a:rPr>
              <a:t>Altre Inquisizioni</a:t>
            </a:r>
            <a:r>
              <a:rPr b="0" i="1" lang="it-IT" sz="1600" spc="-1" strike="noStrike">
                <a:solidFill>
                  <a:srgbClr val="000000"/>
                </a:solidFill>
                <a:latin typeface="Arial"/>
              </a:rPr>
              <a:t>, 196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I guerra dei browser (2)</a:t>
            </a:r>
            <a:endParaRPr b="0" lang="en-US" sz="4000" spc="-1" strike="noStrike">
              <a:solidFill>
                <a:srgbClr val="ffffff"/>
              </a:solidFill>
              <a:latin typeface="Arial"/>
            </a:endParaRPr>
          </a:p>
        </p:txBody>
      </p:sp>
      <p:sp>
        <p:nvSpPr>
          <p:cNvPr id="57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tscape 1.0 (un clone di Mosaic) è della fine del 1994. La versione 2.0 di settembre 1995, la 3.0 di agosto 1996. La concorrenza con Internet Explorer inizia a farsi sentire. La 4.0 è di giugno 1997, poi 4.08 (Novembre 1998), 4.61 (Giugno 1999), 4.7 (settembre 1999). La meteora si conclude qui.  </a:t>
            </a:r>
            <a:endParaRPr b="0" lang="en-US" sz="2400" spc="-1" strike="noStrike">
              <a:solidFill>
                <a:srgbClr val="000000"/>
              </a:solidFill>
              <a:latin typeface="Arial"/>
            </a:endParaRPr>
          </a:p>
          <a:p>
            <a:pPr marL="277920" indent="-27792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Explorer 1.0 è di agosto 1995, la 2.0 di ottobre 1995. Nel 1996 esce I.E. 3.0 con supporto per script e CSS. La 4.0 (ottobre 1997)inizia ad essere veramente veloce, compatibile e stabile. Il vento camb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I guerra dei browser (3)</a:t>
            </a:r>
            <a:endParaRPr b="0" lang="en-US" sz="4400" spc="-1" strike="noStrike">
              <a:solidFill>
                <a:srgbClr val="ffffff"/>
              </a:solidFill>
              <a:latin typeface="Arial"/>
            </a:endParaRPr>
          </a:p>
        </p:txBody>
      </p:sp>
      <p:sp>
        <p:nvSpPr>
          <p:cNvPr id="574" name="PlaceHolder 2"/>
          <p:cNvSpPr>
            <a:spLocks noGrp="1"/>
          </p:cNvSpPr>
          <p:nvPr>
            <p:ph/>
          </p:nvPr>
        </p:nvSpPr>
        <p:spPr>
          <a:xfrm>
            <a:off x="1143000" y="1828800"/>
            <a:ext cx="7772400" cy="4114800"/>
          </a:xfrm>
          <a:prstGeom prst="rect">
            <a:avLst/>
          </a:prstGeom>
          <a:solidFill>
            <a:srgbClr val="ffffff"/>
          </a:solidFill>
          <a:ln w="0">
            <a:noFill/>
          </a:ln>
        </p:spPr>
        <p:txBody>
          <a:bodyPr anchor="t">
            <a:normAutofit/>
          </a:bodyPr>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marzo 98 Netscape chiede l’aiuto della comunità dei programmatori rilasciando il codice sorgente della versione 5 di Navigator. Nasce il progetto mozilla.org, per sfruttare gli stessi principi di organizzazione della comunità Linux per un grande browser freeware. Tanti progetti nascono, ma le nuove versioni stabili ed utilizzabili non arrivano.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novembre del 98 Netscape viene comprata da America On Line, Clark e Andreessen lasciano (multimiliardari). </a:t>
            </a:r>
            <a:endParaRPr b="0" lang="en-US" sz="2000" spc="-1" strike="noStrike">
              <a:solidFill>
                <a:srgbClr val="000000"/>
              </a:solidFill>
              <a:latin typeface="Arial"/>
            </a:endParaRPr>
          </a:p>
          <a:p>
            <a:pPr marL="287280" indent="-28728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marzo 2000 viene annunciata la versione 6 di Communicator. Solo nel giugno 2001 vedrà la luce la versione definitiva. La velocità e frenesia degli anni d’oro è conclusa. Altri giocatori ci provano (es. Opera), ma occupano un ruolo tutto sommato minore nello sviluppo delle funzionalità dei brow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16000" y="-10044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dominanza di Explorer</a:t>
            </a:r>
            <a:endParaRPr b="0" lang="en-US" sz="4400" spc="-1" strike="noStrike">
              <a:solidFill>
                <a:srgbClr val="ffffff"/>
              </a:solidFill>
              <a:latin typeface="Arial"/>
            </a:endParaRPr>
          </a:p>
        </p:txBody>
      </p:sp>
      <p:sp>
        <p:nvSpPr>
          <p:cNvPr id="576" name="PlaceHolder 2"/>
          <p:cNvSpPr>
            <a:spLocks noGrp="1"/>
          </p:cNvSpPr>
          <p:nvPr>
            <p:ph/>
          </p:nvPr>
        </p:nvSpPr>
        <p:spPr>
          <a:xfrm>
            <a:off x="1115640" y="907560"/>
            <a:ext cx="7799400" cy="518796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ltima versione importante di Internet Explorer di Microsoft, la 6.0, esce nel settembre del 2001. Contiene il supporto per le principali tecnologie che interessano MS: XML, XSLT, XML Schema, ecc.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adesso annunciata la versione 7.0, che verrà alla luce all’interno del nuovo sistema operativo Vist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inizio del 2003 Apple lancia Safari, un browser velocissimo ma limitato nelle tecnologi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co dopo, Microsoft annuncia che smetterà di supportare IE per Macintosh (fermo alla versione 5.2), in quanto esistono già altri browser per questo comput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Opera ha annunciato di voler ritirarsi dal mercato Macinto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ominanza di Explorer (2)</a:t>
            </a:r>
            <a:endParaRPr b="0" lang="en-US" sz="4000" spc="-1" strike="noStrike">
              <a:solidFill>
                <a:srgbClr val="ffffff"/>
              </a:solidFill>
              <a:latin typeface="Arial"/>
            </a:endParaRPr>
          </a:p>
        </p:txBody>
      </p:sp>
      <p:sp>
        <p:nvSpPr>
          <p:cNvPr id="578" name="PlaceHolder 2"/>
          <p:cNvSpPr>
            <a:spLocks noGrp="1"/>
          </p:cNvSpPr>
          <p:nvPr>
            <p:ph/>
          </p:nvPr>
        </p:nvSpPr>
        <p:spPr>
          <a:xfrm>
            <a:off x="1042920" y="1294920"/>
            <a:ext cx="7872480" cy="48006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evamo lasciato nel 2000 Netscape e Mozilla a dibattersi verso release che non arrivano e se arrivano non funzionano.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tscape 6 (2001) è uno dei browser più brutti mai visti in circolazione. Tre quarti del team di produzione viene licenziato dopo l’uscita del browser, e AOL annuncia di volersi esplicitamente ricondurre alle versioni di Mozilla pubblicate da mozilla.org. Per questo motivo finanzia copiosamente la fondazione senza fini di lucro che se ne occup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zilla 0.9.7 (praticamente la versione finale della 1.0) esce a gennaio 2002, e a marzo esce Netscape 7.0. Da qui seguono a distanza di 5/6 mesi uscite di nuove sotto-release (anche radicalmente migliorate). E’ annunciata recentemente la versione 1.7 di Mozilla.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 a maggio del 2003, AOL e Microsoft annunciano un accordo che prevede AOL distribuire gratuitamente Explorer ai suoi abbonati, rendendo di fatto inutile continuare a supportare anche Netscape.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atti a ottobre AOL licenzia metà dei 40 dipendenti rimasti che si occupavano dei browser, e ha annunciato di non voler più ulteriormente finanziare Mozilla (che ha 10 dipendenti</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seconda guerra dei browser?</a:t>
            </a:r>
            <a:endParaRPr b="0" lang="en-US" sz="4000" spc="-1" strike="noStrike">
              <a:solidFill>
                <a:srgbClr val="ffffff"/>
              </a:solidFill>
              <a:latin typeface="Arial"/>
            </a:endParaRPr>
          </a:p>
        </p:txBody>
      </p:sp>
      <p:sp>
        <p:nvSpPr>
          <p:cNvPr id="58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a nascita di Firefox da una costola del progetto Mozilla, si riaccendono gli entusiasmi del mondo Open Source verso i brows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ox sta lentamente ma inesorabilmente erodendo quote di mercato a Explor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ha anche detto di non essere più particolarmente interessata a nuove innovazioni importanti sui brows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oria di XML</a:t>
            </a:r>
            <a:endParaRPr b="0" lang="en-US" sz="4400" spc="-1" strike="noStrike">
              <a:solidFill>
                <a:srgbClr val="ffffff"/>
              </a:solidFill>
              <a:latin typeface="Arial"/>
            </a:endParaRPr>
          </a:p>
        </p:txBody>
      </p:sp>
      <p:sp>
        <p:nvSpPr>
          <p:cNvPr id="582" name="PlaceHolder 2"/>
          <p:cNvSpPr>
            <a:spLocks noGrp="1"/>
          </p:cNvSpPr>
          <p:nvPr>
            <p:ph/>
          </p:nvPr>
        </p:nvSpPr>
        <p:spPr>
          <a:xfrm>
            <a:off x="1115640" y="1295280"/>
            <a:ext cx="7799400" cy="4572000"/>
          </a:xfrm>
          <a:prstGeom prst="rect">
            <a:avLst/>
          </a:prstGeom>
          <a:solidFill>
            <a:srgbClr val="ffffff"/>
          </a:solidFill>
          <a:ln w="0">
            <a:noFill/>
          </a:ln>
        </p:spPr>
        <p:txBody>
          <a:bodyPr anchor="t">
            <a:normAutofit/>
          </a:bodyPr>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frattempo, nel 1997 nasce XML. Caso unico nella storia dell'informatica, sembra accontentare tutti: fornitori di contenuti, grafici e designer, realizzatori di applicazioni su Web, perfino progettisti di DBMS.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a i supporter principali, Microsoft, Sun, IBM, Oracle (con esitazioni), Adobe e tutti i grossi provider di contenuti (AOL-Time Warner e Walt Disney in testa)</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2000 vede anche la saturazione del mercato per le piccole ditte di software che fanno siti web e piccole applicazioni server-side. Il crollo di borsa di tante aziende della new-economy blocca molti sviluppi interessanti ed innovativi.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vvivono quelli molto grossi, o quelli che fanno applicazioni più tradizionali, anche su Web: gestionali, integrazione di sistemi informativi, applicazioni di database. </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 due o tre anni gli aspetti creativi e di presentazione di contenuti nel web sembrano ridotti rispetto alle esigenze di fare del web un'infrastruttura per lo scambio di dati tra applicazioni eterogenee</a:t>
            </a:r>
            <a:endParaRPr b="0" lang="en-US" sz="1600" spc="-1" strike="noStrike">
              <a:solidFill>
                <a:srgbClr val="000000"/>
              </a:solidFill>
              <a:latin typeface="Arial"/>
            </a:endParaRPr>
          </a:p>
          <a:p>
            <a:pPr marL="287280" indent="-287280">
              <a:lnSpc>
                <a:spcPct val="90000"/>
              </a:lnSpc>
              <a:spcBef>
                <a:spcPts val="4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veda ad esempio il supporto per le nuove release di CSS, una volta motivo di vanto di Microsoft, che invece non verranno inserite né a breve né forse mai.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è il WWW</a:t>
            </a:r>
            <a:endParaRPr b="0" lang="en-US" sz="4400" spc="-1" strike="noStrike">
              <a:solidFill>
                <a:srgbClr val="ffffff"/>
              </a:solidFill>
              <a:latin typeface="Arial"/>
            </a:endParaRPr>
          </a:p>
        </p:txBody>
      </p:sp>
      <p:sp>
        <p:nvSpPr>
          <p:cNvPr id="584" name="PlaceHolder 2"/>
          <p:cNvSpPr>
            <a:spLocks noGrp="1"/>
          </p:cNvSpPr>
          <p:nvPr>
            <p:ph/>
          </p:nvPr>
        </p:nvSpPr>
        <p:spPr>
          <a:xfrm>
            <a:off x="1258560" y="1600200"/>
            <a:ext cx="7885080" cy="411480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World Wide Web è un sistema per la presentazione a schermo di documenti multimediali, e per l’utilizzo di link ipertestuali per la navigazion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è distribuito e scalato su tutta Internet, ed è basato su alcuni semplici concet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lient o browser è un visualizzatore di documenti ipertestuali e multimediali. Può visualizzare testi, immagini e semplici interfacce grafiche, ma non permette di editare document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è un semplice meccanismo di accesso a risorse locali (file o record di database, ecc.) in grado di trasmettere via socket TCP documenti individuati da un identificatore univoco</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erver può collegarsi ad applicazioni server-side (tramite protocollo CGI) ed agire da tramite tra il browser e l’applicazione facendo del browser l’interfaccia dell’applicazi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 del WWW</a:t>
            </a:r>
            <a:endParaRPr b="0" lang="en-US" sz="4400" spc="-1" strike="noStrike">
              <a:solidFill>
                <a:srgbClr val="ffffff"/>
              </a:solidFill>
              <a:latin typeface="Arial"/>
            </a:endParaRPr>
          </a:p>
        </p:txBody>
      </p:sp>
      <p:sp>
        <p:nvSpPr>
          <p:cNvPr id="586" name="PlaceHolder 2"/>
          <p:cNvSpPr>
            <a:spLocks noGrp="1"/>
          </p:cNvSpPr>
          <p:nvPr>
            <p:ph/>
          </p:nvPr>
        </p:nvSpPr>
        <p:spPr>
          <a:xfrm>
            <a:off x="1042920" y="1600200"/>
            <a:ext cx="7872480" cy="411480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base di WWW ci sono i seguenti protocoll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o standard per identificare in maniera generale risorse di rete e per poterle specificare all’interno di documenti ipertestuali (chiamato URI).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protocollo di comunicazione state-less e client-server per l’accesso a documenti ipertestuali via rete (chiamato HTT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nguaggio per la realizzazione di documenti ipertestuali (chiamato HTML) basato su SGML e incentrato sulla possibilità di realizzare connessioni ipertestuali in linea nella descrizione strutturale del docu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1)</a:t>
            </a:r>
            <a:endParaRPr b="0" lang="en-US" sz="4400" spc="-1" strike="noStrike">
              <a:solidFill>
                <a:srgbClr val="ffffff"/>
              </a:solidFill>
              <a:latin typeface="Arial"/>
            </a:endParaRPr>
          </a:p>
        </p:txBody>
      </p:sp>
      <p:sp>
        <p:nvSpPr>
          <p:cNvPr id="588" name="PlaceHolder 2"/>
          <p:cNvSpPr>
            <a:spLocks noGrp="1"/>
          </p:cNvSpPr>
          <p:nvPr>
            <p:ph/>
          </p:nvPr>
        </p:nvSpPr>
        <p:spPr>
          <a:xfrm>
            <a:off x="1186920" y="1523880"/>
            <a:ext cx="7728120" cy="4569120"/>
          </a:xfrm>
          <a:prstGeom prst="rect">
            <a:avLst/>
          </a:prstGeom>
          <a:solidFill>
            <a:srgbClr val="ffffff"/>
          </a:solidFill>
          <a:ln w="0">
            <a:noFill/>
          </a:ln>
        </p:spPr>
        <p:txBody>
          <a:bodyPr anchor="t">
            <a:normAutofit/>
          </a:bodyPr>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lusione di oggetti</a:t>
            </a:r>
            <a:r>
              <a:rPr b="0" lang="it-IT" sz="1800" spc="-1" strike="noStrike">
                <a:solidFill>
                  <a:srgbClr val="000000"/>
                </a:solidFill>
                <a:latin typeface="Arial"/>
              </a:rPr>
              <a:t>: Mosaic introdusse il supporto per immagini in-line, e Netscape introdusse poi i plug-in per inserire oggetti di tipi diversi nel documento del browser, ed infine le applet Java. IE ha generalizzato le possibilità offerte da COM, realizzando il protocollo proprietario ActiveX.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ripting</a:t>
            </a:r>
            <a:r>
              <a:rPr b="0" lang="it-IT" sz="1800" spc="-1" strike="noStrike">
                <a:solidFill>
                  <a:srgbClr val="000000"/>
                </a:solidFill>
                <a:latin typeface="Arial"/>
              </a:rPr>
              <a:t>: Netscape introdusse LiveScript, poi ribattezzato Javascript, per realizzare semplici applicazioni client-side con linguaggi di scripting appositi. IE rispose con Jscript e Vbscript. </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ili</a:t>
            </a:r>
            <a:r>
              <a:rPr b="0" lang="it-IT" sz="1800" spc="-1" strike="noStrike">
                <a:solidFill>
                  <a:srgbClr val="000000"/>
                </a:solidFill>
                <a:latin typeface="Arial"/>
              </a:rPr>
              <a:t>: L’uso di trucchi per forzare HTML a rese grafiche insolite ha portato a creare linguaggi appositi per gestire gli aspetti di visualizzazione del documento. CSS permette di controllare le caratteristiche dei documenti HTML. XSL si occupa di documenti XML.</a:t>
            </a:r>
            <a:endParaRPr b="0" lang="en-US" sz="1800" spc="-1" strike="noStrike">
              <a:solidFill>
                <a:srgbClr val="000000"/>
              </a:solidFill>
              <a:latin typeface="Arial"/>
            </a:endParaRPr>
          </a:p>
          <a:p>
            <a:pPr marL="289080" indent="-28908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er-side includes</a:t>
            </a:r>
            <a:r>
              <a:rPr b="0" lang="it-IT" sz="1800" spc="-1" strike="noStrike">
                <a:solidFill>
                  <a:srgbClr val="000000"/>
                </a:solidFill>
                <a:latin typeface="Arial"/>
              </a:rPr>
              <a:t>: La possibilità di inserire all’interno del documento HTML memorizzato sul server delle istruzioni eseguite dal server stesso prima di spedire il risultato hanno permesso notevoli sofisticazioni nel contenuto (data di oggi, utente registrato, numero di visitatori, piccole computazioni, ec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voluzioni del WWW (2)</a:t>
            </a:r>
            <a:endParaRPr b="0" lang="en-US" sz="4400" spc="-1" strike="noStrike">
              <a:solidFill>
                <a:srgbClr val="ffffff"/>
              </a:solidFill>
              <a:latin typeface="Arial"/>
            </a:endParaRPr>
          </a:p>
        </p:txBody>
      </p:sp>
      <p:sp>
        <p:nvSpPr>
          <p:cNvPr id="590" name="PlaceHolder 2"/>
          <p:cNvSpPr>
            <a:spLocks noGrp="1"/>
          </p:cNvSpPr>
          <p:nvPr>
            <p:ph/>
          </p:nvPr>
        </p:nvSpPr>
        <p:spPr>
          <a:xfrm>
            <a:off x="1042920" y="1523880"/>
            <a:ext cx="7796160" cy="4569120"/>
          </a:xfrm>
          <a:prstGeom prst="rect">
            <a:avLst/>
          </a:prstGeom>
          <a:solidFill>
            <a:srgbClr val="ffffff"/>
          </a:solidFill>
          <a:ln w="0">
            <a:noFill/>
          </a:ln>
        </p:spPr>
        <p:txBody>
          <a:bodyPr anchor="t">
            <a:normAutofit fontScale="99000"/>
          </a:bodyPr>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 delle transazioni</a:t>
            </a:r>
            <a:r>
              <a:rPr b="0" lang="it-IT" sz="2000" spc="-1" strike="noStrike">
                <a:solidFill>
                  <a:srgbClr val="000000"/>
                </a:solidFill>
                <a:latin typeface="Arial"/>
              </a:rPr>
              <a:t>: meccanismi per la gestione dello stato sono stati introdotti prima da Netscape, e poi standardizzati (cookies). Meccanismi di accesso in scrittura e cooperazione a risorse WWW vengono studiati in questo periodo (WebDAV).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i web dinamici</a:t>
            </a:r>
            <a:r>
              <a:rPr b="0" lang="it-IT" sz="2000" spc="-1" strike="noStrike">
                <a:solidFill>
                  <a:srgbClr val="000000"/>
                </a:solidFill>
                <a:latin typeface="Arial"/>
              </a:rPr>
              <a:t>: I server-side includes e le applicazioni CGI evolvono e si fondono, diventano veri e propri linguaggi o ambienti di programmazione: Perl prima, poi ASP (Javascript e Visual Basic), poi PHP, Python, ecc. Con l’arrivo delle librerie di accesso ai database (ODBC, JDBC) nasce l’architettura a tre livelli (user-interface, application logic, data storage). Il browser diventa l’interfaccia di eccellenza per applicazioni gestionali distribuite. </a:t>
            </a:r>
            <a:endParaRPr b="0" lang="en-US" sz="2000" spc="-1" strike="noStrike">
              <a:solidFill>
                <a:srgbClr val="000000"/>
              </a:solidFill>
              <a:latin typeface="Arial"/>
            </a:endParaRPr>
          </a:p>
          <a:p>
            <a:pPr marL="2858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rutturazione dei documenti</a:t>
            </a:r>
            <a:r>
              <a:rPr b="0" lang="it-IT" sz="2000" spc="-1" strike="noStrike">
                <a:solidFill>
                  <a:srgbClr val="000000"/>
                </a:solidFill>
                <a:latin typeface="Arial"/>
              </a:rPr>
              <a:t>: i limiti di HTML non erano soltanto nella visualizzazione, ma anche nella strutturazione. XML permette di definire linguaggi di markup più adatti ai singoli tas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538" name="PlaceHolder 2"/>
          <p:cNvSpPr>
            <a:spLocks noGrp="1"/>
          </p:cNvSpPr>
          <p:nvPr>
            <p:ph/>
          </p:nvPr>
        </p:nvSpPr>
        <p:spPr>
          <a:xfrm>
            <a:off x="2285640" y="1981080"/>
            <a:ext cx="6629400" cy="4114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esamin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gli ipertest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revissima storia del WW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e caratteristiche generali del WW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l web oggi (2)</a:t>
            </a:r>
            <a:endParaRPr b="0" lang="en-US" sz="4400" spc="-1" strike="noStrike">
              <a:solidFill>
                <a:srgbClr val="ffffff"/>
              </a:solidFill>
              <a:latin typeface="Arial"/>
            </a:endParaRPr>
          </a:p>
        </p:txBody>
      </p:sp>
      <p:sp>
        <p:nvSpPr>
          <p:cNvPr id="592" name="PlaceHolder 2"/>
          <p:cNvSpPr>
            <a:spLocks noGrp="1"/>
          </p:cNvSpPr>
          <p:nvPr>
            <p:ph/>
          </p:nvPr>
        </p:nvSpPr>
        <p:spPr>
          <a:xfrm>
            <a:off x="1115640" y="1341360"/>
            <a:ext cx="7907400" cy="4572000"/>
          </a:xfrm>
          <a:prstGeom prst="rect">
            <a:avLst/>
          </a:prstGeom>
          <a:solidFill>
            <a:srgbClr val="ffffff"/>
          </a:solid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à ed internazionalizzazion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parte di persone handicappate da disabilità fisiche, linguistiche, tecnologich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ità</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accedere alle informazioni ed ai servizi da qualunque parte del mondo, con hardware diverso (e più limitato) del classico PC con schemro a colori: palmari, cellulari, car stereo, home theater, ecc.</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antic Web e Web Serv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ossibilità di usare le informazioni ed i servizi offerti dal Web non da parte di esseri umani diorettamente, ma da parte di applicazioni che intermediano tra i dati e gli esseri umani, fornendo servizi a valore aggiunto con le informazioni altru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odello three-tier e four-tier</a:t>
            </a:r>
            <a:endParaRPr b="0" lang="en-US" sz="4400" spc="-1" strike="noStrike">
              <a:solidFill>
                <a:srgbClr val="ffffff"/>
              </a:solidFill>
              <a:latin typeface="Arial"/>
            </a:endParaRPr>
          </a:p>
        </p:txBody>
      </p:sp>
      <p:sp>
        <p:nvSpPr>
          <p:cNvPr id="594" name="Rectangle 4"/>
          <p:cNvSpPr/>
          <p:nvPr/>
        </p:nvSpPr>
        <p:spPr>
          <a:xfrm>
            <a:off x="1147680" y="5562720"/>
            <a:ext cx="33530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5" name="Rectangle 5"/>
          <p:cNvSpPr/>
          <p:nvPr/>
        </p:nvSpPr>
        <p:spPr>
          <a:xfrm>
            <a:off x="1074600" y="4724280"/>
            <a:ext cx="35686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596" name="Rectangle 6"/>
          <p:cNvSpPr/>
          <p:nvPr/>
        </p:nvSpPr>
        <p:spPr>
          <a:xfrm>
            <a:off x="1357200" y="2514600"/>
            <a:ext cx="292752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597" name="AutoShape 8"/>
          <p:cNvSpPr/>
          <p:nvPr/>
        </p:nvSpPr>
        <p:spPr>
          <a:xfrm>
            <a:off x="2035080" y="350532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598" name="Rectangle 10"/>
          <p:cNvSpPr/>
          <p:nvPr/>
        </p:nvSpPr>
        <p:spPr>
          <a:xfrm>
            <a:off x="5067360" y="55627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orage</a:t>
            </a:r>
            <a:endParaRPr b="0" lang="en-US" sz="3600" spc="-1" strike="noStrike">
              <a:solidFill>
                <a:srgbClr val="000000"/>
              </a:solidFill>
              <a:latin typeface="Arial"/>
            </a:endParaRPr>
          </a:p>
        </p:txBody>
      </p:sp>
      <p:sp>
        <p:nvSpPr>
          <p:cNvPr id="599" name="Rectangle 11"/>
          <p:cNvSpPr/>
          <p:nvPr/>
        </p:nvSpPr>
        <p:spPr>
          <a:xfrm>
            <a:off x="4859280" y="4724280"/>
            <a:ext cx="37450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tion Logic</a:t>
            </a:r>
            <a:endParaRPr b="0" lang="en-US" sz="3600" spc="-1" strike="noStrike">
              <a:solidFill>
                <a:srgbClr val="000000"/>
              </a:solidFill>
              <a:latin typeface="Arial"/>
            </a:endParaRPr>
          </a:p>
        </p:txBody>
      </p:sp>
      <p:sp>
        <p:nvSpPr>
          <p:cNvPr id="600" name="Rectangle 12"/>
          <p:cNvSpPr/>
          <p:nvPr/>
        </p:nvSpPr>
        <p:spPr>
          <a:xfrm>
            <a:off x="5067360" y="167652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rowser</a:t>
            </a:r>
            <a:endParaRPr b="0" lang="en-US" sz="3600" spc="-1" strike="noStrike">
              <a:solidFill>
                <a:srgbClr val="000000"/>
              </a:solidFill>
              <a:latin typeface="Arial"/>
            </a:endParaRPr>
          </a:p>
        </p:txBody>
      </p:sp>
      <p:sp>
        <p:nvSpPr>
          <p:cNvPr id="601" name="AutoShape 13"/>
          <p:cNvSpPr/>
          <p:nvPr/>
        </p:nvSpPr>
        <p:spPr>
          <a:xfrm>
            <a:off x="5943600" y="2666880"/>
            <a:ext cx="1600200" cy="68580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net</a:t>
            </a:r>
            <a:endParaRPr b="0" lang="en-US" sz="1800" spc="-1" strike="noStrike">
              <a:solidFill>
                <a:srgbClr val="000000"/>
              </a:solidFill>
              <a:latin typeface="Arial"/>
            </a:endParaRPr>
          </a:p>
        </p:txBody>
      </p:sp>
      <p:sp>
        <p:nvSpPr>
          <p:cNvPr id="602" name="Rectangle 14"/>
          <p:cNvSpPr/>
          <p:nvPr/>
        </p:nvSpPr>
        <p:spPr>
          <a:xfrm>
            <a:off x="5067360" y="3886200"/>
            <a:ext cx="335268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resentation</a:t>
            </a:r>
            <a:endParaRPr b="0" lang="en-US" sz="3600" spc="-1" strike="noStrike">
              <a:solidFill>
                <a:srgbClr val="000000"/>
              </a:solidFill>
              <a:latin typeface="Arial"/>
            </a:endParaRPr>
          </a:p>
        </p:txBody>
      </p:sp>
      <p:cxnSp>
        <p:nvCxnSpPr>
          <p:cNvPr id="603" name="AutoShape 15"/>
          <p:cNvCxnSpPr>
            <a:stCxn id="596" idx="2"/>
            <a:endCxn id="597" idx="0"/>
          </p:cNvCxnSpPr>
          <p:nvPr/>
        </p:nvCxnSpPr>
        <p:spPr>
          <a:xfrm>
            <a:off x="2820960" y="3123720"/>
            <a:ext cx="15120" cy="421560"/>
          </a:xfrm>
          <a:prstGeom prst="straightConnector1">
            <a:avLst/>
          </a:prstGeom>
          <a:ln w="9360">
            <a:solidFill>
              <a:srgbClr val="000000"/>
            </a:solidFill>
            <a:miter/>
            <a:headEnd len="med" type="triangle" w="med"/>
            <a:tailEnd len="med" type="triangle" w="med"/>
          </a:ln>
        </p:spPr>
      </p:cxnSp>
      <p:cxnSp>
        <p:nvCxnSpPr>
          <p:cNvPr id="604" name="AutoShape 16"/>
          <p:cNvCxnSpPr>
            <a:stCxn id="597" idx="1"/>
            <a:endCxn id="595" idx="0"/>
          </p:cNvCxnSpPr>
          <p:nvPr/>
        </p:nvCxnSpPr>
        <p:spPr>
          <a:xfrm>
            <a:off x="2835360" y="4190760"/>
            <a:ext cx="24480" cy="533880"/>
          </a:xfrm>
          <a:prstGeom prst="straightConnector1">
            <a:avLst/>
          </a:prstGeom>
          <a:ln w="9360">
            <a:solidFill>
              <a:srgbClr val="000000"/>
            </a:solidFill>
            <a:miter/>
            <a:headEnd len="med" type="triangle" w="med"/>
            <a:tailEnd len="med" type="triangle" w="med"/>
          </a:ln>
        </p:spPr>
      </p:cxnSp>
      <p:cxnSp>
        <p:nvCxnSpPr>
          <p:cNvPr id="605" name="AutoShape 17"/>
          <p:cNvCxnSpPr>
            <a:stCxn id="595" idx="2"/>
            <a:endCxn id="594" idx="0"/>
          </p:cNvCxnSpPr>
          <p:nvPr/>
        </p:nvCxnSpPr>
        <p:spPr>
          <a:xfrm flipH="1">
            <a:off x="2823480" y="5333760"/>
            <a:ext cx="35640" cy="229320"/>
          </a:xfrm>
          <a:prstGeom prst="straightConnector1">
            <a:avLst/>
          </a:prstGeom>
          <a:ln w="9360">
            <a:solidFill>
              <a:srgbClr val="000000"/>
            </a:solidFill>
            <a:miter/>
            <a:headEnd len="med" type="triangle" w="med"/>
            <a:tailEnd len="med" type="triangle" w="med"/>
          </a:ln>
        </p:spPr>
      </p:cxnSp>
      <p:cxnSp>
        <p:nvCxnSpPr>
          <p:cNvPr id="606" name="AutoShape 18"/>
          <p:cNvCxnSpPr>
            <a:stCxn id="600" idx="2"/>
            <a:endCxn id="601" idx="0"/>
          </p:cNvCxnSpPr>
          <p:nvPr/>
        </p:nvCxnSpPr>
        <p:spPr>
          <a:xfrm>
            <a:off x="6743520" y="2285640"/>
            <a:ext cx="1080" cy="421560"/>
          </a:xfrm>
          <a:prstGeom prst="straightConnector1">
            <a:avLst/>
          </a:prstGeom>
          <a:ln w="9360">
            <a:solidFill>
              <a:srgbClr val="000000"/>
            </a:solidFill>
            <a:miter/>
            <a:headEnd len="med" type="triangle" w="med"/>
            <a:tailEnd len="med" type="triangle" w="med"/>
          </a:ln>
        </p:spPr>
      </p:cxnSp>
      <p:cxnSp>
        <p:nvCxnSpPr>
          <p:cNvPr id="607" name="AutoShape 19"/>
          <p:cNvCxnSpPr>
            <a:stCxn id="601" idx="1"/>
            <a:endCxn id="602" idx="0"/>
          </p:cNvCxnSpPr>
          <p:nvPr/>
        </p:nvCxnSpPr>
        <p:spPr>
          <a:xfrm>
            <a:off x="6743520" y="3352680"/>
            <a:ext cx="1080" cy="534240"/>
          </a:xfrm>
          <a:prstGeom prst="straightConnector1">
            <a:avLst/>
          </a:prstGeom>
          <a:ln w="9360">
            <a:solidFill>
              <a:srgbClr val="000000"/>
            </a:solidFill>
            <a:miter/>
            <a:headEnd len="med" type="triangle" w="med"/>
            <a:tailEnd len="med" type="triangle" w="med"/>
          </a:ln>
        </p:spPr>
      </p:cxnSp>
      <p:cxnSp>
        <p:nvCxnSpPr>
          <p:cNvPr id="608" name="AutoShape 20"/>
          <p:cNvCxnSpPr>
            <a:stCxn id="602" idx="2"/>
            <a:endCxn id="599" idx="0"/>
          </p:cNvCxnSpPr>
          <p:nvPr/>
        </p:nvCxnSpPr>
        <p:spPr>
          <a:xfrm flipH="1">
            <a:off x="6732000" y="4495320"/>
            <a:ext cx="11880" cy="229320"/>
          </a:xfrm>
          <a:prstGeom prst="straightConnector1">
            <a:avLst/>
          </a:prstGeom>
          <a:ln w="9360">
            <a:solidFill>
              <a:srgbClr val="000000"/>
            </a:solidFill>
            <a:miter/>
            <a:headEnd len="med" type="triangle" w="med"/>
            <a:tailEnd len="med" type="triangle" w="med"/>
          </a:ln>
        </p:spPr>
      </p:cxnSp>
      <p:cxnSp>
        <p:nvCxnSpPr>
          <p:cNvPr id="609" name="AutoShape 21"/>
          <p:cNvCxnSpPr>
            <a:stCxn id="599" idx="2"/>
            <a:endCxn id="598" idx="0"/>
          </p:cNvCxnSpPr>
          <p:nvPr/>
        </p:nvCxnSpPr>
        <p:spPr>
          <a:xfrm>
            <a:off x="6732360" y="5333760"/>
            <a:ext cx="11880" cy="22932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360"/>
            <a:ext cx="86104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Future evoluzioni</a:t>
            </a:r>
            <a:endParaRPr b="0" lang="en-US" sz="4400" spc="-1" strike="noStrike">
              <a:solidFill>
                <a:srgbClr val="ffffff"/>
              </a:solidFill>
              <a:latin typeface="Arial"/>
            </a:endParaRPr>
          </a:p>
        </p:txBody>
      </p:sp>
      <p:sp>
        <p:nvSpPr>
          <p:cNvPr id="611" name="PlaceHolder 2"/>
          <p:cNvSpPr>
            <a:spLocks noGrp="1"/>
          </p:cNvSpPr>
          <p:nvPr>
            <p:ph/>
          </p:nvPr>
        </p:nvSpPr>
        <p:spPr>
          <a:xfrm>
            <a:off x="1074240" y="1142640"/>
            <a:ext cx="7745400" cy="4878360"/>
          </a:xfrm>
          <a:prstGeom prst="rect">
            <a:avLst/>
          </a:prstGeom>
          <a:solidFill>
            <a:srgbClr val="ffffff"/>
          </a:solidFill>
          <a:ln w="0">
            <a:noFill/>
          </a:ln>
        </p:spPr>
        <p:txBody>
          <a:bodyPr anchor="t">
            <a:normAutofit fontScale="98000"/>
          </a:bodyPr>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link</a:t>
            </a:r>
            <a:r>
              <a:rPr b="0" lang="it-IT" sz="1800" spc="-1" strike="noStrike">
                <a:solidFill>
                  <a:srgbClr val="000000"/>
                </a:solidFill>
                <a:latin typeface="Arial"/>
              </a:rPr>
              <a:t>: il modello di link di HTML è eccessivamente semplice. Xlink ed XPointer permettono di definire link sofisticati, sia per indirizzamento (blocchi di dimensione e locazione arbitraria), sia per funzionamento (inclusione in-line, memorizzazione esterna, multi-direzione, ecc.)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stemi di interscambio dati</a:t>
            </a:r>
            <a:r>
              <a:rPr b="0" lang="it-IT" sz="1800" spc="-1" strike="noStrike">
                <a:solidFill>
                  <a:srgbClr val="000000"/>
                </a:solidFill>
                <a:latin typeface="Arial"/>
              </a:rPr>
              <a:t>: la diffusione di formati dati estremamente semplici da programmare ed estremamente sofisticati per la generalità, universalità e potenza, sta permettendo di utilizzare modelli e formati Web per l'interscambio di dati. I web service (SOAP, .NET, etc.) sono il meccanismo principe attraverso il quale realizzare integrazione tra sistemi eterogenei attraverso il Web.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odello di metainformazioni</a:t>
            </a:r>
            <a:r>
              <a:rPr b="0" lang="it-IT" sz="1800" spc="-1" strike="noStrike">
                <a:solidFill>
                  <a:srgbClr val="000000"/>
                </a:solidFill>
                <a:latin typeface="Arial"/>
              </a:rPr>
              <a:t>: HTML permette di usare dei tag speciali ma limitati per fornire meta-informazioni sui documenti. RDF estende e generalizza questa possibilità. </a:t>
            </a:r>
            <a:endParaRPr b="0" lang="en-US" sz="1800" spc="-1" strike="noStrike">
              <a:solidFill>
                <a:srgbClr val="000000"/>
              </a:solidFill>
              <a:latin typeface="Arial"/>
            </a:endParaRPr>
          </a:p>
          <a:p>
            <a:pPr marL="282960" indent="-282960">
              <a:lnSpc>
                <a:spcPct val="9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eb Semantico</a:t>
            </a:r>
            <a:r>
              <a:rPr b="0" lang="it-IT" sz="1800" spc="-1" strike="noStrike">
                <a:solidFill>
                  <a:srgbClr val="000000"/>
                </a:solidFill>
                <a:latin typeface="Arial"/>
              </a:rPr>
              <a:t>: la possibilità di etichettare i dati con informazioni sulla loro natura, qualità e relazioni con altri dati (meta-informazioni) di trasformerà (?) il Web da machine-readable a machine-understandable, permettendo la nascita di applicazioni molto sofisticate in grado di interpretare e elaborare dati in maniera semi-intellige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ipertesti</a:t>
            </a:r>
            <a:endParaRPr b="0" lang="en-US" sz="4400" spc="-1" strike="noStrike">
              <a:solidFill>
                <a:srgbClr val="ffffff"/>
              </a:solidFill>
              <a:latin typeface="Arial"/>
            </a:endParaRPr>
          </a:p>
        </p:txBody>
      </p:sp>
      <p:sp>
        <p:nvSpPr>
          <p:cNvPr id="540" name="PlaceHolder 2"/>
          <p:cNvSpPr>
            <a:spLocks noGrp="1"/>
          </p:cNvSpPr>
          <p:nvPr>
            <p:ph/>
          </p:nvPr>
        </p:nvSpPr>
        <p:spPr>
          <a:xfrm>
            <a:off x="990360" y="1447560"/>
            <a:ext cx="7924680" cy="464796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igenza di evidenziare visivamente riferimenti e connessioni implicite od esplicite tra testi esiste da semp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mentari a libri importanti (Omero, Bibbia, Talmud, Corano, fino alla Divina Commedia e oltre), che esistono fin dal tardo impero romano, utilizzano ogni sorta di trucco grafico e visivo per realizzare effetti di collegamen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ra solo inevitabile che la meccanizzazione prima, e l’informatizzazione dopo, cercasse meccanismi per migliorare quest’esigenza, ed automatizzarne la frui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annevar Bush e il Memex</a:t>
            </a:r>
            <a:endParaRPr b="0" lang="en-US" sz="4400" spc="-1" strike="noStrike">
              <a:solidFill>
                <a:srgbClr val="ffffff"/>
              </a:solidFill>
              <a:latin typeface="Arial"/>
            </a:endParaRPr>
          </a:p>
        </p:txBody>
      </p:sp>
      <p:sp>
        <p:nvSpPr>
          <p:cNvPr id="542" name="PlaceHolder 2"/>
          <p:cNvSpPr>
            <a:spLocks noGrp="1"/>
          </p:cNvSpPr>
          <p:nvPr>
            <p:ph/>
          </p:nvPr>
        </p:nvSpPr>
        <p:spPr>
          <a:xfrm>
            <a:off x="1042920" y="1676520"/>
            <a:ext cx="7872480" cy="4200480"/>
          </a:xfrm>
          <a:prstGeom prst="rect">
            <a:avLst/>
          </a:prstGeom>
          <a:solidFill>
            <a:srgbClr val="ffffff"/>
          </a:solidFill>
          <a:ln w="0">
            <a:noFill/>
          </a:ln>
        </p:spPr>
        <p:txBody>
          <a:bodyPr anchor="t">
            <a:norm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anni quaranta, Vannevar Bush (consulente scientifico alla presidenza degli Stati Uniti) ipotizzò e iniziò a progettare un sistema elettromeccanico basato su microfilm per la memorizzazione e interconnessione di tutte le carte, libri ed informazioni utili per la vita d’ufficio.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hiamato Memex) era basato su un meccanismo di fotografia e microfilmazione automatica di fogli, sulla possibilità di punzonare secondo codici prestabiliti i microfilm, e su un meccanismo di ricerca rapida di microfilm sulla base di queste punzonature.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era ovviamente troppo lento per un’utilizzo pratico del sistema, e l’elettronica rese obsoleta la tecnologia meccanica</a:t>
            </a:r>
            <a:r>
              <a:rPr b="0" lang="it-IT" sz="2000" spc="-1" strike="noStrike">
                <a:solidFill>
                  <a:srgbClr val="000000"/>
                </a:solidFill>
                <a:latin typeface="Arial"/>
              </a:rPr>
              <a:t>. </a:t>
            </a:r>
            <a:r>
              <a:rPr b="0" lang="it-IT" sz="1800" spc="-1" strike="noStrike">
                <a:solidFill>
                  <a:srgbClr val="000000"/>
                </a:solidFill>
                <a:latin typeface="Arial"/>
              </a:rPr>
              <a:t>Tuttavia, erano presenti </a:t>
            </a:r>
            <a:r>
              <a:rPr b="0" i="1" lang="it-IT" sz="1800" spc="-1" strike="noStrike">
                <a:solidFill>
                  <a:srgbClr val="000000"/>
                </a:solidFill>
                <a:latin typeface="Arial"/>
              </a:rPr>
              <a:t>in nuce</a:t>
            </a:r>
            <a:r>
              <a:rPr b="0" lang="it-IT" sz="1800" spc="-1" strike="noStrike">
                <a:solidFill>
                  <a:srgbClr val="000000"/>
                </a:solidFill>
                <a:latin typeface="Arial"/>
              </a:rPr>
              <a:t> tutte le idee degli ipertest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eodore Nelson e Xanadu</a:t>
            </a:r>
            <a:endParaRPr b="0" lang="en-US" sz="4400" spc="-1" strike="noStrike">
              <a:solidFill>
                <a:srgbClr val="ffffff"/>
              </a:solidFill>
              <a:latin typeface="Arial"/>
            </a:endParaRPr>
          </a:p>
        </p:txBody>
      </p:sp>
      <p:sp>
        <p:nvSpPr>
          <p:cNvPr id="544" name="PlaceHolder 2"/>
          <p:cNvSpPr>
            <a:spLocks noGrp="1"/>
          </p:cNvSpPr>
          <p:nvPr>
            <p:ph/>
          </p:nvPr>
        </p:nvSpPr>
        <p:spPr>
          <a:xfrm>
            <a:off x="1066680" y="1371240"/>
            <a:ext cx="7848720" cy="47242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gli anni sessanta Ted Nelson, visionario e futuro autore di uno dei libri più importanti per il successo dei personal computer, Computer Lib, iniziò a progettare e cercare fondi per realizzare un sistema integrato di gestione della letteratura, ovvero dei contenuti, dei riferimenti espliciti ed impliciti, e del processo che sostiene la produzione letteraria (creazione, pubblicazione, modello economic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chiamato Xanadu), come evoluto alla metà degli anni Ottanta, era basato su server che costruivano documenti virtuali basati su pezzi di testo di lunghezza arbitraria, e client che permettevano la creazione di link, la modifica dei documenti e possedevano un sistema efficace di gestione monetaria per i documenti a pagamen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sistema Xanadu non è mai esistito, anche se ci andò vicino alla fine degli anni 80. Su di esso si ispirò Tim Berners-Lee per il World Wide We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uglas Engelbart e Augment</a:t>
            </a:r>
            <a:endParaRPr b="0" lang="en-US" sz="4000" spc="-1" strike="noStrike">
              <a:solidFill>
                <a:srgbClr val="ffffff"/>
              </a:solidFill>
              <a:latin typeface="Arial"/>
            </a:endParaRPr>
          </a:p>
        </p:txBody>
      </p:sp>
      <p:sp>
        <p:nvSpPr>
          <p:cNvPr id="546" name="PlaceHolder 2"/>
          <p:cNvSpPr>
            <a:spLocks noGrp="1"/>
          </p:cNvSpPr>
          <p:nvPr>
            <p:ph/>
          </p:nvPr>
        </p:nvSpPr>
        <p:spPr>
          <a:xfrm>
            <a:off x="1258920" y="1628280"/>
            <a:ext cx="7656480" cy="4467240"/>
          </a:xfrm>
          <a:prstGeom prst="rect">
            <a:avLst/>
          </a:prstGeom>
          <a:solidFill>
            <a:srgbClr val="ffffff"/>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fine degli anni sessanta Doug Engelbart iniziò a lavorare sul concetto di personal computing, utilizzando costose workstation IBM per realizzare un sistema di video-conferenza, editing di testi gerarchici (outline processor) ed ipertestuali e di supporto per il lavoro cooperativo dotato di interfaccia a finestre, mouse e altri meccanismi rivoluzionari di input ed outpu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 tuttora un video del 1967 dove si vedono Engelbart ed il suo team usare queste tecnologie che sarebbero diventate d’uso comune 15 anni dopo almen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dea di Engelbart era che il supporto di caratteristiche innovative potesse aumentare il potenziale intellettivo degli uomini, e che l’evidente difficoltà tecnica fosse un ostacolo superabile con un training adegua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li anni '80</a:t>
            </a:r>
            <a:endParaRPr b="0" lang="en-US" sz="4400" spc="-1" strike="noStrike">
              <a:solidFill>
                <a:srgbClr val="ffffff"/>
              </a:solidFill>
              <a:latin typeface="Arial"/>
            </a:endParaRPr>
          </a:p>
        </p:txBody>
      </p:sp>
      <p:sp>
        <p:nvSpPr>
          <p:cNvPr id="5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il progredire della tecnologia, i sistemi ipertestuali escono dai laboratori di pochi studiosi e diventano un argomento ufficiale di ricerca e produzione softwa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1987 la Apple regala Hypercard a tutti i possessori di un computer Macinto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mpre nel 1987 c'è la prima conferenza mondiale degli ipertesti, che proseguirà poi fino ai giorni nost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ill Atkinsons e Hypercard</a:t>
            </a:r>
            <a:endParaRPr b="0" lang="en-US" sz="4400" spc="-1" strike="noStrike">
              <a:solidFill>
                <a:srgbClr val="ffffff"/>
              </a:solidFill>
              <a:latin typeface="Arial"/>
            </a:endParaRPr>
          </a:p>
        </p:txBody>
      </p:sp>
      <p:sp>
        <p:nvSpPr>
          <p:cNvPr id="550" name="PlaceHolder 2"/>
          <p:cNvSpPr>
            <a:spLocks noGrp="1"/>
          </p:cNvSpPr>
          <p:nvPr>
            <p:ph/>
          </p:nvPr>
        </p:nvSpPr>
        <p:spPr>
          <a:xfrm>
            <a:off x="1186920" y="1341360"/>
            <a:ext cx="7728120" cy="453888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ftware di produttività personale ("a cassette player for information") della Apple, disponibile globalmente da tutti i possessori di Macintosh dal 1987 fino al 1995.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esistito e ha avuto un grosso successo un equivalente per Windows chiamato Toolbook. Macromedia Director e, di conseguenza, Macromedia Flash, ne sono discenden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 personale, non di rete, permetteva a chiunque di organizzare testi, immagini, piccoli database e programmini attraverso anche un linguaggio di scripting molto evoluto (Hypertalk) permetteva di realizzare applicazioni potenti e facil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iù tardi diventò il sistema attraverso cui realizzare CD-ROM ipertestuali di notevole importanza. Nel 1995 lo strapotere di Internet e del WWW ne decise la m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6:24Z</dcterms:modified>
  <cp:revision>93</cp:revision>
  <dc:subject/>
  <dc:title>Diapositiva 1</dc:title>
</cp:coreProperties>
</file>