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10E-F5B9-4696-83D7-0CEF7760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F76-C265-449A-B9A4-BC607858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B2D-ABF7-4D17-A9A3-6BCE93CF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39E-C623-4906-A107-79C5B446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798-DE43-4666-BE2D-57EF2D07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28C-870A-479D-8A4D-D02FE4CF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242-E5E1-45EE-AC71-51CCEC92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4D9-8F8A-4DD5-BD40-78F66055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BA0-1A8D-447C-997E-74906E24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AEC-ED3D-4FFB-AC21-5D4F9948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630-E489-4314-8D25-4D048240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367-89C0-4598-B3B2-5EDF87A9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2A96AF3B-3805-4A56-8960-90DA632D5F7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7B6375-0667-476A-BB98-A9A494FCE73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12514B05-D879-4992-9E57-E7EAD7393E3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76472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Ingegneria del Web e Applicazion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Web Services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e SOAP</a:t>
            </a:r>
            <a:endParaRPr b="0" lang="it-IT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truttura delle Directori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488000" cy="4074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dt" idx="2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omcat: Hom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24360" cy="46400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Struttura di una Web Application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25800" cy="44017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dt" idx="2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ache Axi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476360" y="1324080"/>
            <a:ext cx="7667280" cy="4758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lidazione di Axi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60360" y="1413000"/>
            <a:ext cx="7272000" cy="49683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erifica WSD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403280" y="1344600"/>
            <a:ext cx="7200720" cy="43891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ccorgiment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835280" y="1700280"/>
            <a:ext cx="6481440" cy="29091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stallare sulla macchina server il tool JDK (consigliata la versione 1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certarsi che il Web Server Tomcat abbia i riferimenti a tale tool. A questo scopo andare nella configurazione di Tomcat e selezionare la scheda “Java”. Assicurarsi che la Java Virtual Machine abbia un path del tipo “C:\Programmi\Java\jdk1.6.0_06\jre\bin\client\jvm.dll” cioè punti alla dll contenuta nella cartella jdk e non all’analoga dll contenuta nella cartella jre. Inoltre inserire nel Java Classpath il percorso “C:\Programmi\Java\jdk1.6.0_06\lib\tools.j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dt" idx="2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ista Servizi Attiv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127640" cy="44733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ista Servizi Attiv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7273440" cy="45637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dt" idx="2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1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542960" y="1700280"/>
            <a:ext cx="7132320" cy="36460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WS: varie implementazioni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 di implementazioni W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pache SOAP per Java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AP::Lite per Perl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icrosoft .NET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ordiamo che un WS si compone d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listener che resta in attesa di messaggi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proxy che prende il messaggio e lo traduce in qualcosa da fare (ad esempio invocare un metodo su un oggetto Java)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application cod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erchiamo di fare in modo che l’application code non sia a conoscenza dell’esistenza del listener e del proxy, anzi che non sia affatto a conoscenza di essere invocato dall’interfaccia di un WS (non sempre è possibile)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ubblicazione del serviz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000" cy="25318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dt" idx="3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File WSDD deploy.wsdd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7056000" cy="40986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dt" idx="3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dmin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768720" cy="45288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3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ccorgimenti per Admin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547640" y="1700280"/>
            <a:ext cx="6984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nzione: E’ necessario inserire in CLASSPATH tutte le librerie jar contenute nella directory lib di axis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Nuova Lista dei Servizi e WSDL del nostro esempio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416360" cy="42001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dt" idx="3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ltro metodo per pubblicare servizi: JWS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056000" cy="3722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dt" idx="3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izi J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272000" cy="34095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to Client: client dinamic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345080" cy="36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dt" idx="3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ato Client: client dinamic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416360" cy="41605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dt" idx="3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ynamic Invocatio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767280" cy="3858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estire i messaggi SOAP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182844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ntegrazione di SOAP con i vari toolkit varia con il livello di trasport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i implementano i loro server HTTP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altri casi, il “demone” HTTP passa il messaggio al proxy, che si prende cura di invocare l’application cod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19640" y="3481920"/>
            <a:ext cx="6228000" cy="2395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hiamata del Serviz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258920" y="1330200"/>
            <a:ext cx="7416360" cy="42588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dt" idx="4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Lato Client: Generated Stub (WSDL2Java)</a:t>
            </a: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7056000" cy="30589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mplementazione del clien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624360" cy="45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dt" idx="4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oogl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624360" cy="422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dt" idx="4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oogl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40000" cy="401292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dt" idx="4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Googl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7129080" cy="43174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4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scali Web Servic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08360" cy="485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ccanismi di trasporto “pluggable”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i tools permettono all’utente di selezionare il meccanismo di trasporto tra differenti possibilità (FTP,SMTP,Japper,IO, ecc.)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l componente Proxy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roxy deve effettuare tre azion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necessario, “deserializzare” il messaggio, da XML a qualche formato nativo adatto per consentire l’invocazione del codic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ializzare la risposta in XML e passarla al listener che si occuperà di trasmetterla al richiedent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prescindere dalle varie implementazioni, tutti i toolkit SOAP prevedono per il proxy questi semplici passi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1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ploying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ploying un WS significa dire al componente proxy quale tipo di codice deve essere invocato quando viene ricevuto un particolare tipo di messaggi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esempio, la componente proxy deve sapere che se arriva un messaggi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etQuot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ccorre invocare qualche metodo della classe Java samples.quoteServers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WS tools hanno differenti meccanismi di deployment. Per esempio l’implementazione Apache SOAP richiede l’esistenza di un file descrittore, che descrive le classi Java e le regole per mappare gli oggetti Java nei loro equivalenti XML. Questo file deve essere aggiunto al registro dei servizi usato da Apache SOAP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1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reare WS in Java con Apache SOAP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ache SOAP è l’implementazione SOAP della Apache Software Foundatio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disegnata per essere eseguita come servlet su qualunque Java HTTP serv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tale, implementa solo il componente proxy della gestione del messaggi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ualmente, il toolkit si chiama AXI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e realizzare W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7129080" cy="3833280"/>
          </a:xfrm>
          <a:prstGeom prst="rect">
            <a:avLst/>
          </a:prstGeom>
          <a:ln w="9525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6443640" y="1700280"/>
            <a:ext cx="1080720" cy="28872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370560" y="1622520"/>
            <a:ext cx="1080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m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stallazione Tomcat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768720" cy="47700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b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  <Words>755</Words>
  <Paragraphs>137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04:45Z</dcterms:modified>
  <cp:revision>46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zione su schermo (4:3)</vt:lpwstr>
  </property>
  <property fmtid="{D5CDD505-2E9C-101B-9397-08002B2CF9AE}" pid="3" name="Slides">
    <vt:r8>36</vt:r8>
  </property>
</Properties>
</file>