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notesMasterIdLst>
    <p:notesMasterId r:id="rId31"/>
  </p:notesMasterIdLst>
  <p:sldIdLst>
    <p:sldId id="256" r:id="rId32"/>
    <p:sldId id="257" r:id="rId33"/>
    <p:sldId id="258" r:id="rId34"/>
    <p:sldId id="259" r:id="rId35"/>
    <p:sldId id="260" r:id="rId36"/>
    <p:sldId id="261" r:id="rId37"/>
    <p:sldId id="262" r:id="rId38"/>
    <p:sldId id="263" r:id="rId39"/>
    <p:sldId id="264" r:id="rId40"/>
    <p:sldId id="265" r:id="rId41"/>
    <p:sldId id="266" r:id="rId42"/>
    <p:sldId id="267" r:id="rId43"/>
    <p:sldId id="268" r:id="rId44"/>
    <p:sldId id="269" r:id="rId45"/>
    <p:sldId id="270" r:id="rId46"/>
    <p:sldId id="271" r:id="rId47"/>
    <p:sldId id="272" r:id="rId48"/>
    <p:sldId id="273" r:id="rId49"/>
    <p:sldId id="274" r:id="rId50"/>
    <p:sldId id="275" r:id="rId51"/>
    <p:sldId id="276" r:id="rId52"/>
    <p:sldId id="277" r:id="rId53"/>
    <p:sldId id="278" r:id="rId54"/>
    <p:sldId id="279" r:id="rId55"/>
    <p:sldId id="280" r:id="rId56"/>
    <p:sldId id="281" r:id="rId57"/>
    <p:sldId id="282" r:id="rId58"/>
    <p:sldId id="283" r:id="rId59"/>
    <p:sldId id="284" r:id="rId60"/>
    <p:sldId id="285" r:id="rId61"/>
    <p:sldId id="286" r:id="rId62"/>
    <p:sldId id="287" r:id="rId63"/>
    <p:sldId id="288" r:id="rId64"/>
    <p:sldId id="289" r:id="rId65"/>
    <p:sldId id="290" r:id="rId66"/>
    <p:sldId id="291" r:id="rId67"/>
    <p:sldId id="292" r:id="rId68"/>
    <p:sldId id="293" r:id="rId69"/>
    <p:sldId id="294" r:id="rId70"/>
    <p:sldId id="295" r:id="rId71"/>
    <p:sldId id="296" r:id="rId72"/>
    <p:sldId id="297" r:id="rId73"/>
    <p:sldId id="298" r:id="rId74"/>
    <p:sldId id="299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notesMaster" Target="notesMasters/notesMaster1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slide" Target="slides/slide3.xml"/><Relationship Id="rId35" Type="http://schemas.openxmlformats.org/officeDocument/2006/relationships/slide" Target="slides/slide4.xml"/><Relationship Id="rId36" Type="http://schemas.openxmlformats.org/officeDocument/2006/relationships/slide" Target="slides/slide5.xml"/><Relationship Id="rId37" Type="http://schemas.openxmlformats.org/officeDocument/2006/relationships/slide" Target="slides/slide6.xml"/><Relationship Id="rId38" Type="http://schemas.openxmlformats.org/officeDocument/2006/relationships/slide" Target="slides/slide7.xml"/><Relationship Id="rId39" Type="http://schemas.openxmlformats.org/officeDocument/2006/relationships/slide" Target="slides/slide8.xml"/><Relationship Id="rId40" Type="http://schemas.openxmlformats.org/officeDocument/2006/relationships/slide" Target="slides/slide9.xml"/><Relationship Id="rId41" Type="http://schemas.openxmlformats.org/officeDocument/2006/relationships/slide" Target="slides/slide10.xml"/><Relationship Id="rId42" Type="http://schemas.openxmlformats.org/officeDocument/2006/relationships/slide" Target="slides/slide11.xml"/><Relationship Id="rId43" Type="http://schemas.openxmlformats.org/officeDocument/2006/relationships/slide" Target="slides/slide12.xml"/><Relationship Id="rId44" Type="http://schemas.openxmlformats.org/officeDocument/2006/relationships/slide" Target="slides/slide13.xml"/><Relationship Id="rId45" Type="http://schemas.openxmlformats.org/officeDocument/2006/relationships/slide" Target="slides/slide14.xml"/><Relationship Id="rId46" Type="http://schemas.openxmlformats.org/officeDocument/2006/relationships/slide" Target="slides/slide15.xml"/><Relationship Id="rId47" Type="http://schemas.openxmlformats.org/officeDocument/2006/relationships/slide" Target="slides/slide16.xml"/><Relationship Id="rId48" Type="http://schemas.openxmlformats.org/officeDocument/2006/relationships/slide" Target="slides/slide17.xml"/><Relationship Id="rId49" Type="http://schemas.openxmlformats.org/officeDocument/2006/relationships/slide" Target="slides/slide18.xml"/><Relationship Id="rId50" Type="http://schemas.openxmlformats.org/officeDocument/2006/relationships/slide" Target="slides/slide19.xml"/><Relationship Id="rId51" Type="http://schemas.openxmlformats.org/officeDocument/2006/relationships/slide" Target="slides/slide20.xml"/><Relationship Id="rId52" Type="http://schemas.openxmlformats.org/officeDocument/2006/relationships/slide" Target="slides/slide21.xml"/><Relationship Id="rId53" Type="http://schemas.openxmlformats.org/officeDocument/2006/relationships/slide" Target="slides/slide22.xml"/><Relationship Id="rId54" Type="http://schemas.openxmlformats.org/officeDocument/2006/relationships/slide" Target="slides/slide23.xml"/><Relationship Id="rId55" Type="http://schemas.openxmlformats.org/officeDocument/2006/relationships/slide" Target="slides/slide24.xml"/><Relationship Id="rId56" Type="http://schemas.openxmlformats.org/officeDocument/2006/relationships/slide" Target="slides/slide25.xml"/><Relationship Id="rId57" Type="http://schemas.openxmlformats.org/officeDocument/2006/relationships/slide" Target="slides/slide26.xml"/><Relationship Id="rId58" Type="http://schemas.openxmlformats.org/officeDocument/2006/relationships/slide" Target="slides/slide27.xml"/><Relationship Id="rId59" Type="http://schemas.openxmlformats.org/officeDocument/2006/relationships/slide" Target="slides/slide28.xml"/><Relationship Id="rId60" Type="http://schemas.openxmlformats.org/officeDocument/2006/relationships/slide" Target="slides/slide29.xml"/><Relationship Id="rId61" Type="http://schemas.openxmlformats.org/officeDocument/2006/relationships/slide" Target="slides/slide30.xml"/><Relationship Id="rId62" Type="http://schemas.openxmlformats.org/officeDocument/2006/relationships/slide" Target="slides/slide31.xml"/><Relationship Id="rId63" Type="http://schemas.openxmlformats.org/officeDocument/2006/relationships/slide" Target="slides/slide32.xml"/><Relationship Id="rId64" Type="http://schemas.openxmlformats.org/officeDocument/2006/relationships/slide" Target="slides/slide33.xml"/><Relationship Id="rId65" Type="http://schemas.openxmlformats.org/officeDocument/2006/relationships/slide" Target="slides/slide34.xml"/><Relationship Id="rId66" Type="http://schemas.openxmlformats.org/officeDocument/2006/relationships/slide" Target="slides/slide35.xml"/><Relationship Id="rId67" Type="http://schemas.openxmlformats.org/officeDocument/2006/relationships/slide" Target="slides/slide36.xml"/><Relationship Id="rId68" Type="http://schemas.openxmlformats.org/officeDocument/2006/relationships/slide" Target="slides/slide37.xml"/><Relationship Id="rId69" Type="http://schemas.openxmlformats.org/officeDocument/2006/relationships/slide" Target="slides/slide38.xml"/><Relationship Id="rId70" Type="http://schemas.openxmlformats.org/officeDocument/2006/relationships/slide" Target="slides/slide39.xml"/><Relationship Id="rId71" Type="http://schemas.openxmlformats.org/officeDocument/2006/relationships/slide" Target="slides/slide40.xml"/><Relationship Id="rId72" Type="http://schemas.openxmlformats.org/officeDocument/2006/relationships/slide" Target="slides/slide41.xml"/><Relationship Id="rId73" Type="http://schemas.openxmlformats.org/officeDocument/2006/relationships/slide" Target="slides/slide42.xml"/><Relationship Id="rId74" Type="http://schemas.openxmlformats.org/officeDocument/2006/relationships/slide" Target="slides/slide43.xml"/><Relationship Id="rId75" Type="http://schemas.openxmlformats.org/officeDocument/2006/relationships/slide" Target="slides/slide44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 type="dt" idx="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 type="ftr" idx="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6"/>
          <p:cNvSpPr>
            <a:spLocks noGrp="1"/>
          </p:cNvSpPr>
          <p:nvPr>
            <p:ph type="sldNum" idx="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35FBAA-4E82-47B5-A368-605F85EB2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hyperlink" Target="http://it.wikipedia.org/wiki/Acronimo" TargetMode="External"/><Relationship Id="rId2" Type="http://schemas.openxmlformats.org/officeDocument/2006/relationships/hyperlink" Target="http://it.wikipedia.org/wiki/Database" TargetMode="External"/><Relationship Id="rId3" Type="http://schemas.openxmlformats.org/officeDocument/2006/relationships/hyperlink" Target="http://it.wikipedia.org/wiki/Ordinamento" TargetMode="External"/><Relationship Id="rId4" Type="http://schemas.openxmlformats.org/officeDocument/2006/relationships/hyperlink" Target="http://it.wikipedia.org/wiki/Indicizzazione" TargetMode="External"/><Relationship Id="rId5" Type="http://schemas.openxmlformats.org/officeDocument/2006/relationships/hyperlink" Target="http://it.wikipedia.org/wiki/XML" TargetMode="External"/><Relationship Id="rId6" Type="http://schemas.openxmlformats.org/officeDocument/2006/relationships/hyperlink" Target="http://it.wikipedia.org/wiki/Hardware" TargetMode="External"/><Relationship Id="rId7" Type="http://schemas.openxmlformats.org/officeDocument/2006/relationships/hyperlink" Target="http://it.wikipedia.org/wiki/Internet" TargetMode="External"/><Relationship Id="rId8" Type="http://schemas.openxmlformats.org/officeDocument/2006/relationships/hyperlink" Target="http://it.wikipedia.org/wiki/1999" TargetMode="External"/><Relationship Id="rId9" Type="http://schemas.openxmlformats.org/officeDocument/2006/relationships/hyperlink" Target="http://it.wikipedia.org/wiki/2000" TargetMode="External"/><Relationship Id="rId10" Type="http://schemas.openxmlformats.org/officeDocument/2006/relationships/hyperlink" Target="http://it.wikipedia.org/wiki/E-business" TargetMode="External"/><Relationship Id="rId11" Type="http://schemas.openxmlformats.org/officeDocument/2006/relationships/hyperlink" Target="http://it.wikipedia.org/wiki/Web_Service" TargetMode="External"/><Relationship Id="rId12" Type="http://schemas.openxmlformats.org/officeDocument/2006/relationships/hyperlink" Target="http://it.wikipedia.org/wiki/Web" TargetMode="External"/><Relationship Id="rId13" Type="http://schemas.openxmlformats.org/officeDocument/2006/relationships/hyperlink" Target="http://it.wikipedia.org/wiki/Luglio" TargetMode="External"/><Relationship Id="rId14" Type="http://schemas.openxmlformats.org/officeDocument/2006/relationships/hyperlink" Target="http://it.wikipedia.org/wiki/2002" TargetMode="External"/><Relationship Id="rId15" Type="http://schemas.openxmlformats.org/officeDocument/2006/relationships/hyperlink" Target="http://it.wikipedia.org/wiki/Universal_Description_Discovery_and_Integration" TargetMode="External"/><Relationship Id="rId16" Type="http://schemas.openxmlformats.org/officeDocument/2006/relationships/hyperlink" Target="http://it.wikipedia.org/wiki/Ottobre" TargetMode="External"/><Relationship Id="rId17" Type="http://schemas.openxmlformats.org/officeDocument/2006/relationships/hyperlink" Target="http://it.wikipedia.org/wiki/2004" TargetMode="External"/><Relationship Id="rId18" Type="http://schemas.openxmlformats.org/officeDocument/2006/relationships/hyperlink" Target="http://it.wikipedia.org/wiki/Universal_Description_Discovery_and_Integration" TargetMode="External"/><Relationship Id="rId19" Type="http://schemas.openxmlformats.org/officeDocument/2006/relationships/slide" Target="../slides/slide42.xml"/><Relationship Id="rId20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hyperlink" Target="http://it.wikipedia.org/wiki/Tassonomia" TargetMode="External"/><Relationship Id="rId2" Type="http://schemas.openxmlformats.org/officeDocument/2006/relationships/hyperlink" Target="http://it.wikipedia.org/wiki/Standard" TargetMode="External"/><Relationship Id="rId3" Type="http://schemas.openxmlformats.org/officeDocument/2006/relationships/hyperlink" Target="http://it.wikipedia.org/wiki/Standard" TargetMode="External"/><Relationship Id="rId4" Type="http://schemas.openxmlformats.org/officeDocument/2006/relationships/hyperlink" Target="http://it.wikipedia.org/wiki/SOAP" TargetMode="External"/><Relationship Id="rId5" Type="http://schemas.openxmlformats.org/officeDocument/2006/relationships/hyperlink" Target="http://it.wikipedia.org/wiki/Web_Services_Description_Language" TargetMode="External"/><Relationship Id="rId6" Type="http://schemas.openxmlformats.org/officeDocument/2006/relationships/slide" Target="../slides/slide43.xml"/><Relationship Id="rId7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1155600" y="685440"/>
            <a:ext cx="4546800" cy="3428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6520" y="4344120"/>
            <a:ext cx="5484960" cy="41140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'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UDD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acronim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Universal Description Discovery and Integrati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è un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registry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ovvero una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base da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ordinat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d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indicizzat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, basato su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XML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d indipendente dalla piattaforma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hardwar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che permette alle aziende la pubblicazione dei propri dati e dei servizi offerti su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interne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DDI, un'iniziativa "open" sviluppata tra il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1999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d il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2000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sponsorizzata dall'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Organization for the Advancement of Structured Information Standard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consorzio internazionale per lo sviluppo e l'adozione di standard nel campo dell'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e-busines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de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eb Service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spesso indicato anche come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OASI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, permette la scoperta e l'interrogazione dei servizi offerti sul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eb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delle aziende che li offrono e della maniera per usufruir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versione 2.04 dello standard è stata pubblicata nel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lugli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2002</a:t>
            </a:r>
            <a:r>
              <a:rPr b="0" lang="it-IT" sz="2000" spc="-1" strike="noStrike" u="sng" baseline="30000">
                <a:solidFill>
                  <a:srgbClr val="000000"/>
                </a:solidFill>
                <a:uFillTx/>
                <a:latin typeface="Arial"/>
                <a:hlinkClick r:id="rId15"/>
              </a:rPr>
              <a:t>[1]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la versione 3.0.2 nell'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ottobr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2004</a:t>
            </a:r>
            <a:r>
              <a:rPr b="0" lang="it-IT" sz="2000" spc="-1" strike="noStrike" u="sng" baseline="30000">
                <a:solidFill>
                  <a:srgbClr val="000000"/>
                </a:solidFill>
                <a:uFillTx/>
                <a:latin typeface="Arial"/>
                <a:hlinkClick r:id="rId18"/>
              </a:rPr>
              <a:t>[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Segnaposto numero diapositiva 3"/>
          <p:cNvSpPr/>
          <p:nvPr/>
        </p:nvSpPr>
        <p:spPr>
          <a:xfrm>
            <a:off x="3884040" y="8685000"/>
            <a:ext cx="2972160" cy="45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</a:pPr>
            <a:fld id="{F16B0F96-8919-4FC7-B41B-CDCE7A930882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686520" y="4344120"/>
            <a:ext cx="5484960" cy="41140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a "registrazione" UDDI consiste di tre diverse componen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gine bianche 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White Page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: indirizzo, contatti (dell'azienda che offre uno o più servizi) e identificativ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gine gialle 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Yellow Page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: categorizzazione dei servizi basata su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tassonomi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standardizzat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gine verdi 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Green Page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: informazioni (tecniche) dei servizi fornite dall'azi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'UDDI è uno degl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standard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lla base del funzionamento dei Web Service: è stato progettato per essere interrogato da messaggi in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SOA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per fornire il collegamento ai document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SDL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he descrivono i vincoli protocollari ed i formati dei messaggi necessari per l'interazione con i Web Service elencati nella propria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directory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Segnaposto numero diapositiva 3"/>
          <p:cNvSpPr/>
          <p:nvPr/>
        </p:nvSpPr>
        <p:spPr>
          <a:xfrm>
            <a:off x="3884040" y="8685000"/>
            <a:ext cx="2972160" cy="45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</a:pPr>
            <a:fld id="{F5043364-9E9C-4038-8261-88A557418459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5F5E-B1CA-48E9-8F05-9C7DD4C4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95D8-5434-4C0E-82F4-902E31A2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D743-9B32-4D68-886F-2C5A8319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D064-8038-47DB-965E-20C6DDF67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8853-FB72-45B9-8E94-E7EE41E5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AF31-3AF6-45D9-BC6C-08D12178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74D7-7FE5-4CFC-ABC6-C056F15C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AC5A-81CC-4992-B7C0-F3D78D05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8A61-AE46-4B58-AE8F-B922EF72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09DD-C622-4833-B378-F02AF59E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934F-41F8-46A0-94F6-7CB6ADAD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74F3-74B2-4C4F-9E31-E8B2A5C7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85800" y="1471680"/>
            <a:ext cx="7772040" cy="5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 hidden="1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F4FE574F-DF57-4A9B-A8DF-57462FB96539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239EF1-AC26-48BB-81C6-63ADA83F5D5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90E50665-FBE3-4FEE-8352-6960D263F6F1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6AE79555-DB4A-4552-8235-8105DF12A0B3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C3BAEBB4-084F-4AC7-BFC9-0EB87FD42A35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490D12F1-785D-4E71-AD0F-B9D77B52B9C2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D36FD708-58C8-449A-B257-2783DF95DDC4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488C46D1-1449-46E7-A3E0-97BC4A56721D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3531ACA7-8AFA-4551-A294-10C3D4255269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CBCDFFE1-AF16-4E90-B633-C3DD892AD688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81674206-E08C-4144-92A9-C5596D82A3BE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5C35C6E5-710F-4DEE-AD8D-30E80110F914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07EBB5E2-FE0D-4702-AF0B-52C11560C12B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are clic per modificare stili del testo dello schema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condo livello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rzo livello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rto livell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into livell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1D47BCA7-3137-44AD-BA6F-36A8FC64CD9A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4BCC8AA0-94E3-4062-8590-2352C8A09214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F734B698-16E8-42B2-A561-2DAD1816E5A0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E386CD63-FBA3-40BF-872C-0600543CA809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2B303C85-EBC3-4D18-B223-D704DF281EBA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5F2BBEB6-113A-4804-A637-215CE4FE6CEA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86990D11-812D-40D9-A8D3-0B7DDD2A3E85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26FD5B36-3F73-44E1-9F18-3FB1E9100783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16"/>
          <p:cNvSpPr/>
          <p:nvPr/>
        </p:nvSpPr>
        <p:spPr>
          <a:xfrm>
            <a:off x="379440" y="6564240"/>
            <a:ext cx="8324640" cy="39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cnologia dei Servizi “Grid e cloud computing”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- Lezione 004b                                                                                                                           </a:t>
            </a:r>
            <a:fld id="{8C32282F-4286-47DF-AB22-10FB7B9A6379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EDF21E85-F2EE-4E4F-A4E1-546FF1F60D31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3E973C3C-A759-4EAD-B059-9C7A217A0BC3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EE924814-C9AB-43BB-8AAB-008FC1B7BB2C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5F83CE86-1A61-486A-8258-FA26E9DFB2F0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7AE59F16-BB73-4D17-8BD1-520331B8F8D5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0387911B-99E0-4999-9D46-4E1849245BB2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1E8A9397-5589-4308-BD9B-9B6CE19FB2CE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7A3A9EBF-30A0-46C5-B9B4-7819EBDCCF97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11E3FA20-2670-4367-872D-85793B4AC3EC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2"/>
          <p:cNvSpPr/>
          <p:nvPr/>
        </p:nvSpPr>
        <p:spPr>
          <a:xfrm>
            <a:off x="457200" y="76176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0" y="0"/>
            <a:ext cx="228240" cy="22856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9"/>
          <p:cNvSpPr/>
          <p:nvPr/>
        </p:nvSpPr>
        <p:spPr>
          <a:xfrm>
            <a:off x="0" y="2286000"/>
            <a:ext cx="228240" cy="2285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0"/>
          <p:cNvSpPr/>
          <p:nvPr/>
        </p:nvSpPr>
        <p:spPr>
          <a:xfrm>
            <a:off x="0" y="4572000"/>
            <a:ext cx="228240" cy="228564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7"/>
          <p:cNvSpPr/>
          <p:nvPr/>
        </p:nvSpPr>
        <p:spPr>
          <a:xfrm>
            <a:off x="399960" y="6484680"/>
            <a:ext cx="8001000" cy="360"/>
          </a:xfrm>
          <a:prstGeom prst="line">
            <a:avLst/>
          </a:prstGeom>
          <a:ln w="1905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147168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w3.org/2000/xp/Group/" TargetMode="External"/><Relationship Id="rId2" Type="http://schemas.openxmlformats.org/officeDocument/2006/relationships/hyperlink" Target="http://www.w3.org/TR/wsdl" TargetMode="External"/><Relationship Id="rId3" Type="http://schemas.openxmlformats.org/officeDocument/2006/relationships/slideLayout" Target="../slideLayouts/slideLayout27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xmethods.net/ve2/Tools.po" TargetMode="External"/><Relationship Id="rId2" Type="http://schemas.openxmlformats.org/officeDocument/2006/relationships/hyperlink" Target="http://www.softwaresecretweapons.com/jspwiki/" TargetMode="External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s.apache.org/axis/" TargetMode="External"/><Relationship Id="rId2" Type="http://schemas.openxmlformats.org/officeDocument/2006/relationships/hyperlink" Target="http://localhost:8080/axis/services/WidgetPrice" TargetMode="External"/><Relationship Id="rId3" Type="http://schemas.openxmlformats.org/officeDocument/2006/relationships/hyperlink" Target="http://ws.apache.org/axis2/" TargetMode="External"/><Relationship Id="rId4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pywebsvcs.sourceforge.net/" TargetMode="External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0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-1688400" y="119664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orso d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              Ingegneria del Web e Applicazion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 A. 2017-2018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omenico Rosaci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4800" spc="-1" strike="noStrike">
                <a:solidFill>
                  <a:srgbClr val="ffffff"/>
                </a:solidFill>
                <a:latin typeface="Tahoma"/>
              </a:rPr>
              <a:t>Descrivere </a:t>
            </a:r>
            <a:br>
              <a:rPr sz="4800"/>
            </a:br>
            <a:r>
              <a:rPr b="1" lang="it-IT" sz="4800" spc="-1" strike="noStrike">
                <a:solidFill>
                  <a:srgbClr val="ffffff"/>
                </a:solidFill>
                <a:latin typeface="Tahoma"/>
              </a:rPr>
              <a:t>servizi</a:t>
            </a:r>
            <a:br>
              <a:rPr sz="4800"/>
            </a:br>
            <a:r>
              <a:rPr b="1" lang="it-IT" sz="4800" spc="-1" strike="noStrike">
                <a:solidFill>
                  <a:srgbClr val="ffffff"/>
                </a:solidFill>
                <a:latin typeface="Tahoma"/>
              </a:rPr>
              <a:t>SOAP</a:t>
            </a:r>
            <a:endParaRPr b="0" lang="it-IT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Rectangle 5"/>
          <p:cNvSpPr/>
          <p:nvPr/>
        </p:nvSpPr>
        <p:spPr>
          <a:xfrm>
            <a:off x="7812000" y="1413000"/>
            <a:ext cx="1331640" cy="502920"/>
          </a:xfrm>
          <a:prstGeom prst="rect">
            <a:avLst/>
          </a:prstGeom>
          <a:solidFill>
            <a:schemeClr val="tx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1187640" y="980640"/>
            <a:ext cx="7741800" cy="50403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Web Services Description Language è il formato utilizzato per descrivere le interfacce dei web service.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ppresentano un modo di descrivere servizi e come questi sono limitati a specifici indirizzi di rete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SDL ha tre parti fondamentali: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AutoNum type="arabicPeriod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finizioni…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generalmente espressi in XML includono sia le definizioni dei data type, che quelle dei messaggi. 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AutoNum type="arabicPeriod" startAt="2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perazioni…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scrivono le azioni per i messaggi supportati dai web service. 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i sono quattro tipi di operazioni: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2.1) One-way -&gt; i messaggi vengono inviati senza una risposta di ritorno.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2.2) Request/response -&gt; il sender invia un messaggio e quando lo riceve invia un risposta.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2.3) Solicit response -&gt; si richiede una risposta.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2.4) Notification -&gt; i messaggi inviati a più receiver.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e operazioni sono raggruppate in port type, ovvero un insieme di operazioni supportate dai web service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AutoNum type="arabicPeriod" startAt="3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gami tra i servizi…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sente la connessione tra port type e port. 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/>
          </p:nvPr>
        </p:nvSpPr>
        <p:spPr>
          <a:xfrm>
            <a:off x="1259640" y="836640"/>
            <a:ext cx="6941160" cy="52333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SDL è stato sviluppato originariamente da Microsoft e IBM e sottomesso all’approvazione del W3C da 25 compagnie. WSDL fa parte del cuore dell’architettura  WS: fornisce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meccanismo comune per rappresentare le operazioni supportare dai WS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definizione dei tipi di dato da utilizzare nei messaggi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meccanismo il binding dei messaggi con i protocolli di trasporto da adottare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95256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95256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95256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95256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95256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95256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•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SDL è progettato per poter essere utilizzato sia nella modalità procedure-oriented  (RPC) che document-oriented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title"/>
          </p:nvPr>
        </p:nvSpPr>
        <p:spPr>
          <a:xfrm>
            <a:off x="500040" y="85680"/>
            <a:ext cx="7772040" cy="556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0" name="Group 12"/>
          <p:cNvGrpSpPr/>
          <p:nvPr/>
        </p:nvGrpSpPr>
        <p:grpSpPr>
          <a:xfrm>
            <a:off x="2743200" y="3357720"/>
            <a:ext cx="3885840" cy="1980720"/>
            <a:chOff x="2743200" y="3357720"/>
            <a:chExt cx="3885840" cy="1980720"/>
          </a:xfrm>
        </p:grpSpPr>
        <p:sp>
          <p:nvSpPr>
            <p:cNvPr id="1311" name="AutoShape 4"/>
            <p:cNvSpPr/>
            <p:nvPr/>
          </p:nvSpPr>
          <p:spPr>
            <a:xfrm>
              <a:off x="2743200" y="3357720"/>
              <a:ext cx="3885840" cy="1980720"/>
            </a:xfrm>
            <a:prstGeom prst="triangle">
              <a:avLst>
                <a:gd name="adj" fmla="val 50000"/>
              </a:avLst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it-IT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Line 5"/>
            <p:cNvSpPr/>
            <p:nvPr/>
          </p:nvSpPr>
          <p:spPr>
            <a:xfrm>
              <a:off x="3336840" y="4721040"/>
              <a:ext cx="2698560" cy="144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 anchorCtr="1">
              <a:noAutofit/>
            </a:bodyPr>
            <a:p>
              <a:endParaRPr b="0" lang="it-IT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Line 6"/>
            <p:cNvSpPr/>
            <p:nvPr/>
          </p:nvSpPr>
          <p:spPr>
            <a:xfrm>
              <a:off x="3876480" y="4168440"/>
              <a:ext cx="1619280" cy="180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 anchorCtr="1">
              <a:noAutofit/>
            </a:bodyPr>
            <a:p>
              <a:endParaRPr b="0" lang="it-IT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Text Box 7"/>
            <p:cNvSpPr/>
            <p:nvPr/>
          </p:nvSpPr>
          <p:spPr>
            <a:xfrm>
              <a:off x="4037040" y="4805280"/>
              <a:ext cx="121572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1800" spc="-1" strike="noStrike">
                  <a:solidFill>
                    <a:srgbClr val="ff3300"/>
                  </a:solidFill>
                  <a:latin typeface="Arial"/>
                </a:rPr>
                <a:t>Data Ty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Text Box 8"/>
            <p:cNvSpPr/>
            <p:nvPr/>
          </p:nvSpPr>
          <p:spPr>
            <a:xfrm>
              <a:off x="3964680" y="4195800"/>
              <a:ext cx="11822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1800" spc="-1" strike="noStrike">
                  <a:solidFill>
                    <a:srgbClr val="ff3300"/>
                  </a:solidFill>
                  <a:latin typeface="Arial"/>
                </a:rPr>
                <a:t>Ope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Text Box 9"/>
            <p:cNvSpPr/>
            <p:nvPr/>
          </p:nvSpPr>
          <p:spPr>
            <a:xfrm>
              <a:off x="4191840" y="3722760"/>
              <a:ext cx="1029960" cy="394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it-IT" sz="2000" spc="-1" strike="noStrike">
                  <a:solidFill>
                    <a:srgbClr val="ff3300"/>
                  </a:solidFill>
                  <a:latin typeface="Arial"/>
                </a:rPr>
                <a:t>Bin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42960" y="142920"/>
            <a:ext cx="7772040" cy="566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- caratteristich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1119960" y="914400"/>
            <a:ext cx="7772040" cy="55623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iascun dei tre componenti di WSDL può essere specificato in file separati e combinato in vari modi per generare una descrizione finale di un WS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descrizione WSDL deve essere disponibile a entrambi gli attori (chi richiede il servizio e chi lo fornisce) di una transizione WS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binding consente di associare a messaggi o operazioni uno o più meccanismi di trasporto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SDL è progettato come una piattaforma XML estensibile per gestire diversi tipi di dato, operazioni, protocolli di trasporto e definizione di  messaggi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SDL “nasconde” dietro ad un formato comune la effettiva implementazione del servizio ( che può adottare, ASP, servlet per l’interfaccia per il Web, .NET, CORBA o altro per il sisteam di back.end)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42960" y="76320"/>
            <a:ext cx="7772040" cy="637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- caratteristich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119960" y="914400"/>
            <a:ext cx="7772040" cy="55623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WSDL non è legato a nessun protocollo di trasporto particolare, ma può essere utilizzato con protocolli differenti, fornendo un modo per specificare di volta in volta il protocollo utilizzato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 una descrizione WSDL un client può ottenere dinamicamente l’informazione sul protocollo utilizzato e adottarlo a runtime, rendendo più semplice adattamenti a protocolli diversi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tto questo, WSDL privilegia SOAP, indicando,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 una delle sue specifiche (estensioni)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e modalità di collegamento a questo standard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utilizzo di WSDL con altri protocolli richiede la definizione di un’estensione WSDL specifica adatta e la conseguente costruzione di documenti WSDL conformi a tali specifiche. Questo procedimento, possibile grazie alla grande estensibilità di WSDL, può risultare però molto complesso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20"/>
              </a:spcBef>
              <a:buNone/>
              <a:tabLst>
                <a:tab algn="l" pos="952560"/>
              </a:tabLst>
            </a:pP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– uso di tipi e messagg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040" cy="51811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definizione dei tipi in WSDL è basata su XML Schema. Tali parte di WSDL è completamente estensibile, e possono essere anche utilizzati altri meccanismi per la definizione di tipo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tipi possono essere definiti dentro un elemento WSDL o in altri file e poi referenziati. I tipi di dati possono essere quelli definiti da XMLSchema (integer, string…), o altri tipi complessi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genere nella implementazione dei WS si richiede un passaggio di trasformazione dei dati dal formato XML di scambio verso il formato gestito dall’applicazione di back-end che deve trattare i dati. Si richiede che la definizione WSDL sia sufficientemente espressiva per supportare la traduzione verso i dati dell’applicazione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singoli tipi di dati possono essere usati da più messaggi, e i messaggi possono essere usati da varie operazioni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– elemento radic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1119960" y="1071720"/>
            <a:ext cx="7772040" cy="51811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SDL fornisce definizioni di servizi: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elemento radice del documento è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&lt;definitions&gt;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a un attributo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he contiene il nome del documento, come forma soprattutto di documentazione.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finisce i namespace utilizzati per consentire di fare riferimento alle estensioni di WSDL o ad altre specifiche.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uò avere come figli 5 elementi: 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241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ypes;</a:t>
            </a: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essage;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ortType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definizioni astratte)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bindings;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ervic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definizioni concrete);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6276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Elementi principali di WSDL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1115640" y="908640"/>
            <a:ext cx="7632360" cy="542808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 documento WSDL utilizza i seguenti elementi per descrivere un servizio ( solo 5 figli di definitions):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ypes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appresenta la sezione dove definire i tipi di dati attraverso un linguaggio come XMLSchema. WSDL non si occupa di definire i tipi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essage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tiene la dichiarazione dei messaggi (e i relativi tipi) che possono essere utilizzati nelle operazioni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operation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appresenta la descrizione astratta di un’azione supportata dal WS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ortType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appresenta un insieme di operazioni supportate dal WS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inding: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efinisce un protocollo da utilizzare per un particolare port type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ort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finisce un singolo endpoint attraverso l’associazione di un binding e di un indirizzo di rete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rvice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un insieme di endpoint correlati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806760" y="19584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ocumentazione in WSDL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1191960" y="1052640"/>
            <a:ext cx="7772040" cy="51811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SDL utilizza l’elemento opzional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ocument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inserire una documentazione human-readable del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ocumen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contenuto di tale elemento può essere testo ed elementi arbitrari insieme.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elemento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ocumen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uò essere inserito in qualunque altro elemento WSDL.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’elemento type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1191960" y="980640"/>
            <a:ext cx="7772040" cy="51811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elemento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ypes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tiene dal definizione di tipi di dati rilevanti per i messaggi che devono essere scambiati. WSDL “preferisce” XSD(XML Schema Definition) come meccanismo di definizione dei tipi.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79"/>
              </a:spcBef>
              <a:buNone/>
              <a:tabLst>
                <a:tab algn="l" pos="952560"/>
              </a:tabLst>
            </a:pP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types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chema .... /&gt;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chema .... /&gt;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types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’elemento messag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1043640" y="908640"/>
            <a:ext cx="7772040" cy="51811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gni messaggio è identificato da un nome unico tra tutti i messaggi del documento WSDL, specificato con l’attribut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name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element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essag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siste di una o più parti logiche. Ad ogni parte è associato un tipo definito secondo un sistema di tipi (ad esempio può essere stato definito nella sezione types). Per gestire questa associazione WSDL definisce due attributi: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fa riferimento a un elemento XSD usando un Qname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ype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a riferimento a un tipo XSD semplice o complesso usando un Qname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•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gni parte è a sua volta identificata da un nome unico all’interno del messaggio di cui fa parte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•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messaggi possono essere definiti con più parti per distinguere unità logiche distinte. In alternativa, si può ricorrere alla definizione di tipi complessi che racchiudano tutte le parti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dt" idx="9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ftr" idx="10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escrivere 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Rendere “usabili” i WS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bbiamo visto come realizzare un Web Service basato su SOAP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desso introdurremo le tecnologie necessarie per rendere semplice l’utilizzo dei WS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particolare decsriveremo il Web Service Description Language (WSDL), che rende possibile la semplificazione dei clients per WS già esistenti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’elemento messag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1150920" y="1196640"/>
            <a:ext cx="7597080" cy="3803400"/>
          </a:xfrm>
          <a:prstGeom prst="rect">
            <a:avLst/>
          </a:prstGeom>
          <a:solidFill>
            <a:srgbClr val="d9d9d9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sempio di messaggio con più parti: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&lt;types&gt;…&lt;element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name="PO"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type="tns:POType"/&gt; 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&lt;element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name="Invoice"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type="tns:InvoiceType"/&gt; … &lt;/types&gt;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message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name="PO"&gt; 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&lt;part name="po"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element="PO"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/&gt;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&lt;part name="invoice" 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element="Invoice"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/&gt; 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it-IT" sz="1400" spc="-1" strike="noStrike">
                <a:solidFill>
                  <a:srgbClr val="ff3300"/>
                </a:solidFill>
                <a:latin typeface="Courier New"/>
              </a:rPr>
              <a:t>message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sempio di messaggio con una parte sola: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&lt;types&gt;…&lt;complexType name="Composite"&gt; … &lt;/types&gt;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&lt;message name="PO"&gt; 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&lt;part name="composite" type="Composite"/&gt; &lt;/message&gt;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it-IT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’elemento portTyp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047960" y="836640"/>
            <a:ext cx="7772040" cy="53575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elemen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ortTyp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ppresenta un insieme di operazione supportate dal servizio. Ad esempio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wsdl: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portType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name=“myPortType"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wsdl: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name=“op1" .... /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wsdl: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name=“op2" .... /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wsdl:portType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attribu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dentifica univocamente nel documento la portType definita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loro volta le operazione sono identificate univocamente nel documento dall’attribu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ssiamo pensare al portType come a una libreria di funzioni (specifica il tipo degli argomenti passati e dei dati che ritornano)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9076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– operazion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1047960" y="980640"/>
            <a:ext cx="7772040" cy="51811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finiti i formati di scambio, si passa a definire le operazioni che il WS implementa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SDL consente di definire 4 tipi di operazioni: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ne-Way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l messaggio viene spedito senza obbligo di risposta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quest/Response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eccanismo simile alle RPC. Il mittente spedisce un messaggio e il destinatario invia in seguito un messaggio di risposta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olicit response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ene inviato un messaggio di risposta senza dati di input. E’ la richiesta di avere un messaggio e non comporta l’invio di un messaggio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otification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esto tipo di operazione definisce molti destinatari per un messaggio (similmente al broadcast)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80676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– operazion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119960" y="836640"/>
            <a:ext cx="7772040" cy="51811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tipo di interazione request/response e solicit/response benchè siano modellabili utilizzando 2 volte il meccanismo one-way sono state definite per fornire dei meccanismi di scambio di messaggi molto comuni senza tuttavia dover ricorrere a linguaggi di definizione di workflow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95256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definire modelli di scambio di messaggi più complessi di quelli definiti precedentemente, WSDL non è più sufficiente e si deve ricorrere alla composizione di tali elementari operazioni utilizzando linguaggi per la definizione di workflow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95256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tipo di interazione adottata è implicitamente definita dalla presenza o meno dei parametri d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utput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 quindi dei relativi elementi)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1119960" y="193320"/>
            <a:ext cx="7772040" cy="571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– operazion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1115640" y="980640"/>
            <a:ext cx="7848360" cy="53463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definizione delle operazioni deve specificare i messaggi che devono essere scambiati. Gli element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put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utput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pecificano i messaggi da utilizzare nelle fasi di request/response, rispettivamente. Per fare questo è definito un attribu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egli element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l cui valore fa riferimento a un messaggio precedentemente definito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empio di operazione request/response: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wsdl:portType .... &gt; 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wsdl:operation name=“PO"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wsdl: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input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name=“a" 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message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=“PORequest"/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wsdl: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output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name=“" </a:t>
            </a:r>
            <a:r>
              <a:rPr b="1" lang="it-IT" sz="1800" spc="-1" strike="noStrike">
                <a:solidFill>
                  <a:srgbClr val="ff0000"/>
                </a:solidFill>
                <a:latin typeface="Courier New"/>
              </a:rPr>
              <a:t>message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=“POResponse"/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wsdl:</a:t>
            </a:r>
            <a:r>
              <a:rPr b="1" lang="it-IT" sz="1800" spc="-1" strike="noStrike">
                <a:solidFill>
                  <a:srgbClr val="ff0000"/>
                </a:solidFill>
                <a:latin typeface="Courier New"/>
              </a:rPr>
              <a:t>fault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name=“c" </a:t>
            </a:r>
            <a:r>
              <a:rPr b="1" lang="it-IT" sz="1800" spc="-1" strike="noStrike">
                <a:solidFill>
                  <a:srgbClr val="ff0000"/>
                </a:solidFill>
                <a:latin typeface="Courier New"/>
              </a:rPr>
              <a:t>message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=“POError"/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wsdl:operation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wsdl:portType 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1047960" y="64080"/>
            <a:ext cx="7772040" cy="628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– operazion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1259640" y="836640"/>
            <a:ext cx="7632360" cy="51843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elemen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aul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pecific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l messaggio da inviare in output come risultato in caso di errore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attribu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gli element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aul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ono identificatori univoci opzionali per tali elementi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95256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ale definizione delle operazioni richiede ancora la specifica di un binding particolare per determinare come i messaggi devono realmente essere inviati: se utilizzando una singola connessione ( ad esempio una sessione HTTP request/response) oppure attraverso due distinte connessioni ( es. due session HTTP request)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lla definizione di un’operazione, nel caso questa debba essere intesa come una RPC, si può specificare ( nel caso request-response o solicit-response) la lista dei parametri  con l’attribu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rameterOrder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cui valore è composto da un lista di nomi di parti di messaggio separate da spazi singoli. Questo parametro (opzionale) agisce come suggerimento nel caso di chiamate RPC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831960" y="209520"/>
            <a:ext cx="7772040" cy="50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– binding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1115640" y="908640"/>
            <a:ext cx="7848360" cy="51357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1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binding fornisce i dettagli sul protocollo da usare per le operazioni e messaggi definiti da una particolare portType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contenuto di questa sezione del documento WSDL dipende dal protocollo utilizzato e quindi dalle estensioni WSDL adottate. 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me al solito, l’attribut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dentifica con un nome univoco tutti i binding che vengono definiti in un documento WSDL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attribut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yp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a riferimento all’ elemento portType a cui il binding si riferisce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ossono essere specificate informazioni di binding sia su determinate operazioni che su determinate portType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ei bindings possono essere usati vari meccanismi di trasporto: HTTP GET, HTTP POST, SOAP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binding per una operazione fa comunque sempre riferimento all’operazione descritta dalla portType specificata nell’attributo type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 caso ci siano operazioni con lo stesso nome, quella corretta deve essere identificata fornendo il nome  degli attributi di input e output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903960" y="142920"/>
            <a:ext cx="7772040" cy="490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– service e port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1187640" y="836640"/>
            <a:ext cx="7488360" cy="52797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elemen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rvic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cchiude un insieme di porte per il servizio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elemen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ort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ssocia un indirizzo (endpoint) a un ben definito binding da utilizzare nella comunicazione. Cambia anch’esso in base all’estensione adottata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wsdl: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service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.... &gt; *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wsdl: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port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name="nmtoken" 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binding="qname"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gt; *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-- extensibility element (1) --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wsdl:port&gt;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wsdl:service&gt;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dentifica in maniera univoca la porta nel documento WSDL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inding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a riferimento a un elemento binding definito nel documento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’elemento di estens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erve per identificare l’indirizzo per la porta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– port e servic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1101240" y="1101240"/>
            <a:ext cx="7647120" cy="46317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porte definite per un servizio sono correlate fra di loro in questo modo: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ssuna delle porte comunica con le altre (i parametri di output di una non possono essere usati come parametri di input di un’altra)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 un servizio ha varie porte, le quali tutte condividono una determinata portType, specificando però diversi meccanismi di binding e indirizzi, le porte sono da considerarsi alternative fra di loro: ognuna di esse fornisce infatti servizi semanticamente equivalenti. Un client può scegliere quale porta utilizzare nella sua richiesta al servizio.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6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lla porta si può risalire alla relativa portType utilizzata. In questo modo il client di un servizio, dipendentemente dal fatto che possa utilizzare (tutti) i tipi di porta disponibili,  può sapere se tale servizio è per lui realmente disponibile o no. Ciò specialmente nel caso di servizi che sfruttano varie porte.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80676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 – binding con SOAP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234800" y="980640"/>
            <a:ext cx="7513200" cy="47829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WSDL fornisce delle estensioni che permettono di specificare il binding di un servizio con i protocolli: una di queste estensioni descrive il binding con SOAP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ale estensione definisce i seguenti elementi: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20"/>
              </a:spcBef>
              <a:buNone/>
              <a:tabLst>
                <a:tab algn="l" pos="952560"/>
              </a:tabLst>
            </a:pP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indings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pecifica che viene utilizzato il formato del protocollo SOAP: Envelope, Header e Body. L’attribut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ransport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specifica il protocollo di trasporto, l’attribut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può assumere i valori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pc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ocument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per identificare il paradigma di comunicazione 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operation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ornisce informazioni su una determinata operazione: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ody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pecifica come le parti del messaggio devono apparire nel corpo del messaggio SOAP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ault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pecifica il contenuto dell’elemento fault del messaggio SOAP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header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pecifica il contenuto di un elemento header di un messaggio SOAP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525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ddress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pecifica la porta (URI) da utilizzare per la connessione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scrivere W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a caratteristica dei WS è che possono essere resi “auto descriventi”. Adesso vedremo come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’applicazione “espone” delle funzionalità, e per usare ciascuna funzionalità il client deve invocare determinate operazioni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operazioni comportano l’invio da parte del client di “pezzetti” di informazione, e in risposta all’operazione altra informazione può essere restituita al client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gni volta che l’implementazione dell’applicazione cambia, occorre ricompilare tutto: scarsa flessibilità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1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1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escrivere 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62760" y="19584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iferiment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1173240" y="1052640"/>
            <a:ext cx="7575120" cy="47037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OAP: </a:t>
            </a:r>
            <a:r>
              <a:rPr b="1" lang="it-IT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3.org/2000/xp/Group/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WSDL: </a:t>
            </a:r>
            <a:r>
              <a:rPr b="1" lang="it-IT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3.org/TR/wsd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9525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WEBService: http://www.w3.org/2002/ws/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672480" y="568800"/>
            <a:ext cx="7808760" cy="1145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ools: editor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083240" y="1906920"/>
            <a:ext cx="7808760" cy="4320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e si scrivono i files WSDL?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mano: alcuni editor hanno supporti speciali perWSDL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 si scrivono: generazione automatica (in pochi passi)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795240" y="-27360"/>
            <a:ext cx="7808760" cy="1145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ools: validation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1115640" y="908640"/>
            <a:ext cx="7738200" cy="56163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documenti WSDL documents possono essere di grandi dimensioni (il documento WSDL Amazon E-Commerce Service ha 2432 linee di codice ed oltre 100KB)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ols per validare(analizzare documenti WSDL: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ccccff"/>
              </a:buClr>
              <a:buFont typeface="Symbol" charset="2"/>
              <a:buChar char="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xmethods.net/ve2/Tools.po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ccccff"/>
              </a:buClr>
              <a:buFont typeface="Symbol" charset="2"/>
              <a:buChar char="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oftwaresecretweapons.com/jspwiki/</a:t>
            </a:r>
            <a:br>
              <a:rPr sz="1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ices/oy-lm-1.3/generator.jsp 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1155240" y="194400"/>
            <a:ext cx="7808760" cy="1145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ools: WSDL generation and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lient generation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1083240" y="1628640"/>
            <a:ext cx="7808760" cy="4176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re manualmente un file WSDL per un WS è un task difficile e soggetto ad errori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 un file WSDL, generare un client per interagire con il servizio è un task ripetitivo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istono toolkits per tutti i più importanti linguaggi che permettono di automatizzare entrambi i task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72480" y="44640"/>
            <a:ext cx="7808760" cy="1145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SDL toolkit: Java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1083240" y="1016640"/>
            <a:ext cx="7808760" cy="52923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xis: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s.apache.org/axis/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s stubs, skeleton and data types from WSDL 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ndaleMono"/>
              </a:rPr>
              <a:t>java org.apache.axis.wsdl.WSDL2Java AWSECommerceService.wsd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ndaleMono"/>
              </a:rPr>
              <a:t>Builds WSDL from Java code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ndaleMono"/>
              </a:rPr>
              <a:t>java org.apache.axis.wsdl.Java2WSDL -o wp.wsdl -l "</a:t>
            </a:r>
            <a:r>
              <a:rPr b="1" i="1" lang="en-GB" sz="2400" spc="-1" strike="noStrike" u="sng">
                <a:solidFill>
                  <a:srgbClr val="009999"/>
                </a:solidFill>
                <a:uFillTx/>
                <a:latin typeface="Arial"/>
                <a:ea typeface="AndaleMono"/>
                <a:hlinkClick r:id="rId2"/>
              </a:rPr>
              <a:t>http://localhost:8080/axis/services/WidgetPrice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ndaleMono"/>
              </a:rPr>
              <a:t> -n"urn:Example6" -p"samples.userguide.example6" "urn:Example6" samples.userguide.example6.WidgetPrice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ndaleMono"/>
              </a:rPr>
              <a:t>Axis2: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ndaleMono"/>
                <a:hlinkClick r:id="rId3"/>
              </a:rPr>
              <a:t>http://ws.apache.org/axis2/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ndaleMono"/>
              </a:rPr>
              <a:t> 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1011240" y="44640"/>
            <a:ext cx="7808760" cy="1145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SDL toolkit: Python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1227240" y="980640"/>
            <a:ext cx="7808760" cy="104508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APpy: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ywebsvcs.sourceforge.net/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rsing a WSDL file: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Text Box 3"/>
          <p:cNvSpPr/>
          <p:nvPr/>
        </p:nvSpPr>
        <p:spPr>
          <a:xfrm>
            <a:off x="1173960" y="2853000"/>
            <a:ext cx="7862040" cy="3106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from SOAPpy import WS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wsdlFile = 'http://webservices.amazon.com/AWSECommerceService/AWSECommerceService.wsdl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server = WSDL.Proxy(wsdl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server.methods.keys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u'SellerListingSearch', u'CartCreate', u'SellerLookup', u'Help', u'TransactionLookup', u'CartAdd', u'ItemLookup', u'MultiOperation', u'SimilarityLookup', u'CartClear', u'ListLookup', u'CartModify', u'CustomerContentLookup', u'ListSearch', u'BrowseNodeLookup', u'CartGet', u'SellerListingLookup', u'CustomerContentSearch', u'ItemSearch'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795240" y="188640"/>
            <a:ext cx="7808760" cy="1145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SDL toolkit: Python – cnt'd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Text Box 2"/>
          <p:cNvSpPr/>
          <p:nvPr/>
        </p:nvSpPr>
        <p:spPr>
          <a:xfrm>
            <a:off x="1259640" y="1196640"/>
            <a:ext cx="7862040" cy="5590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itemSearchM = server.methods['ItemSearch'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for inparams in itemSearchM.inpara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..     print inparams.name, inparams.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dy (u'http://webservices.amazon.com/AWSECommerceService/2005-10-05', u'ItemSearch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for outparams in itemSearchM.outpara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..     print outparams.name, outparams.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dy (u'http://webservices.amazon.com/AWSECommerceService/2005-10-05', u'ItemSearchResponse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result = server.ItemSearch({'body': {'SubscriptionId': 'xxxxxxxxxxxxxxxxxxxx', 'SearchIndex': 'Books', 'Request' : {'SearchIndex': 'Books', 'Title': 'restaurant end universe'}}}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result.Items.Total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result['Items'].Total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'18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939240" y="568800"/>
            <a:ext cx="7808760" cy="1145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SDL toolkit: Python – cnt'd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Text Box 2"/>
          <p:cNvSpPr/>
          <p:nvPr/>
        </p:nvSpPr>
        <p:spPr>
          <a:xfrm>
            <a:off x="1044360" y="2117160"/>
            <a:ext cx="7847640" cy="31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&gt; result.Items.Item[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SOAPpy.Types.structType Item at -1214384084&gt;: {'ItemAttributes': &lt;SOAPpy.Types.structType ItemAttributes at -1214386100&gt;: {'Title': 'The Restaurant at the End of the Universe', 'ProductGroup': 'Book', 'Author': 'Douglas Adams'}, 'ASIN': '0345391810', 'DetailPageURL': 'http://www.amazon.com/exec/obidos/redirect?tag=ws%26link_code=sp1%26camp=2025%26creative=165953%26path=http://www.amazon.com/gp/redirect.html%253fASIN=0345391810%2526tag=ws%2526lcode=sp1%2526cID=2025%2526ccmID=165953%2526location=/o/ASIN/0345391810%25253FSubscriptionId=xxxxxxxxxxxxxxxxxxxx'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870120" y="-27360"/>
            <a:ext cx="7805880" cy="1141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In conclusion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1187640" y="1198080"/>
            <a:ext cx="7805880" cy="4318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vorare con i tipi complessi è...complesso e non interoperabile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itare file WSDL a mano è masochistico, e va accuratamente evitato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 qualcosa sembra corretto ma non funziona, fate un double check dei vostri namespaces 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726120" y="188640"/>
            <a:ext cx="7805880" cy="1141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lternativ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1158120" y="1412640"/>
            <a:ext cx="7805880" cy="450864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 momento, WSDL 1.1 è “il” linguaggio di descrizione per WS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SDL 2.0 ridefinisce e precisa la grammatica di WSD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mplificare  lo stack XSD, SOAP/REST, WSDL: SSDL (SOAP Service Description Language), RESEDEL (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tful SErvices DEscription Language)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WRDL (Web Resource Description Language), WADL (Web Application Description Language),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SMEX-D (Simple Message EXchange Descriptor), WDL (Web Description Language)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ggiungere semantica alla descrizione di un servizio: WSDL-S, WSML (Web Service Modeling Languag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Georgia"/>
              </a:rPr>
              <a:t>)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scrivere W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ttraverso i WS, l’applicazione può scoprire dinamicamente le informazioni coinvolte, rendendo così più semplice e flessibile l’uso dell’applicazione stessa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specifica SOAP non copre la problematica descrittiva. Lo standard de facto in questo settore è WSD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SDL permette a un WS di descrivere cosa esso fa, come lo fa e cosa un utente deve fare per utilizzarlo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 type="dt" idx="1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escrivere 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59076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DD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1115640" y="1412640"/>
            <a:ext cx="7765920" cy="36907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UDDI registry è utilizzato con il significato di scoperta dei web service descritti usando WSDL.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idea è che l’UDDI registry può essere cercato in vari modi per ottenere il contatto dell’informazione e la disponibilità dei web service per varie organizzazioni. 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UDDI potrebbe essere un modo di tenere aggiornato il web service che l’organizzazione ha appena utilizzato.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</a:pP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734760" y="19584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DD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7" name="Picture 3" descr=""/>
          <p:cNvPicPr/>
          <p:nvPr/>
        </p:nvPicPr>
        <p:blipFill>
          <a:blip r:embed="rId1"/>
          <a:stretch/>
        </p:blipFill>
        <p:spPr>
          <a:xfrm>
            <a:off x="1116000" y="1600200"/>
            <a:ext cx="7570440" cy="4525560"/>
          </a:xfrm>
          <a:prstGeom prst="rect">
            <a:avLst/>
          </a:prstGeom>
          <a:ln w="9525">
            <a:noFill/>
          </a:ln>
        </p:spPr>
      </p:pic>
      <p:sp>
        <p:nvSpPr>
          <p:cNvPr id="1378" name="Oval 4"/>
          <p:cNvSpPr/>
          <p:nvPr/>
        </p:nvSpPr>
        <p:spPr>
          <a:xfrm>
            <a:off x="2843280" y="1844640"/>
            <a:ext cx="1080720" cy="863280"/>
          </a:xfrm>
          <a:prstGeom prst="ellipse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DD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4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DDI=Universal Description, Discovery, and Integration </a:t>
            </a:r>
            <a:endParaRPr b="0" lang="it-IT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</a:pPr>
            <a:endParaRPr b="0" lang="it-IT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The definition of a set of services supporting </a:t>
            </a:r>
            <a:endParaRPr b="0" lang="it-IT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e description and discovery of 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usinesses, Organizations and other Web services providers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he Web services they make available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he technical interfaces which may be used to access those services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0">
              <a:lnSpc>
                <a:spcPct val="9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 be interrogated via SOAP</a:t>
            </a:r>
            <a:endParaRPr b="0" lang="it-IT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it-IT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fined by OASIS, version 3 (2005)</a:t>
            </a:r>
            <a:endParaRPr b="0" lang="it-IT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it-IT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Rectangle 4"/>
          <p:cNvSpPr/>
          <p:nvPr/>
        </p:nvSpPr>
        <p:spPr>
          <a:xfrm>
            <a:off x="1701360" y="5516640"/>
            <a:ext cx="2186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ttp://www.uddi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DD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1105200" y="1556640"/>
            <a:ext cx="7210800" cy="4176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Accepts and organizes three types of information into three broad categories: </a:t>
            </a:r>
            <a:endParaRPr b="0" lang="it-IT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</a:pPr>
            <a:endParaRPr b="0" lang="it-IT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hite Pages — address, contact, and known identifiers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Yellow Pages — industrial categorizations based on standard taxonomies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reen Pages — technical information about services exposed by the business. including references and interfaces to the services a company can deliver. 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</a:pPr>
            <a:endParaRPr b="0" lang="it-IT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DD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1331640" y="908640"/>
            <a:ext cx="7354800" cy="52563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ften people identifies Web Services core technologies as WSDL + SOAP + UDDI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he real core is WSDL + SOAP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he Grid community 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d not adopt UDDI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t relies on the Information Service 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to be explaine in a future lesson)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Vantaggi nell’usare WSDL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SDL permette di rendere più semplice l’utilizzo dei WS, specificando con esattezza le interfacce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SDL rende più semplice la scrittura dell’applicazione client, richiedendo meno codice per il client stesso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SDL permette che gli eventuali cambiamenti al WS possano essere gestiti dal client semplicemente “scoprendo” tali cambiamenti a run time nella descrizione WSDL, senza dover modificare il client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 type="dt" idx="15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 type="ftr" idx="16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escrivere 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ltro su WSDL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SDL non è perfetto.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c’è supporto al “versioning”, quindi se delle modifiche si fanno all’interfaccia, non c’è modo di propagarle al client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interfaccia WSDL è quindi simile a quella che si usa nella OOP, e deve essere considerata “immutabile”, pena la modifica del client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istono tool per generare automaticamente descrizioni WSDL. Esempi: Web Services Toolkit e WSIF di IBM, Apache Axis, Toolkit di .NET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 type="dt" idx="1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 type="ftr" idx="1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escrivere 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72480" y="568800"/>
            <a:ext cx="7808760" cy="1145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720"/>
                <a:tab algn="l" pos="829440"/>
                <a:tab algn="l" pos="1244160"/>
                <a:tab algn="l" pos="1658880"/>
                <a:tab algn="l" pos="2073600"/>
                <a:tab algn="l" pos="2488320"/>
                <a:tab algn="l" pos="2903040"/>
                <a:tab algn="l" pos="3317760"/>
                <a:tab algn="l" pos="3732480"/>
                <a:tab algn="l" pos="4147200"/>
                <a:tab algn="l" pos="4561920"/>
                <a:tab algn="l" pos="4976640"/>
                <a:tab algn="l" pos="5391360"/>
                <a:tab algn="l" pos="5806080"/>
                <a:tab algn="l" pos="6220800"/>
                <a:tab algn="l" pos="6635520"/>
                <a:tab algn="l" pos="7050240"/>
                <a:tab algn="l" pos="7464960"/>
                <a:tab algn="l" pos="7879680"/>
                <a:tab algn="l" pos="8294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ommari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1979640" y="2349000"/>
            <a:ext cx="6501600" cy="387792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zioni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che WSDL e un esempio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411840"/>
                <a:tab algn="l" pos="826560"/>
                <a:tab algn="l" pos="1241280"/>
                <a:tab algn="l" pos="1656000"/>
                <a:tab algn="l" pos="2070720"/>
                <a:tab algn="l" pos="2485440"/>
                <a:tab algn="l" pos="2900160"/>
                <a:tab algn="l" pos="3314880"/>
                <a:tab algn="l" pos="3729600"/>
                <a:tab algn="l" pos="4144320"/>
                <a:tab algn="l" pos="4559040"/>
                <a:tab algn="l" pos="4973760"/>
                <a:tab algn="l" pos="5388480"/>
                <a:tab algn="l" pos="5803200"/>
                <a:tab algn="l" pos="6217920"/>
                <a:tab algn="l" pos="6632640"/>
                <a:tab algn="l" pos="7047360"/>
                <a:tab algn="l" pos="7462080"/>
                <a:tab algn="l" pos="7876800"/>
                <a:tab algn="l" pos="8291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ternative WSDL 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543440" cy="448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WSDL…Utilizz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1259640" y="908640"/>
            <a:ext cx="7488360" cy="48963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Web Service Description Language (WSDL) costituisce una base per i web service. 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figura presenta l’utilizzo dei WSDL. I passi di fornitura e consumo dei servizi implicano…</a:t>
            </a: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service provider descrive il suo servizio usando WSDL. Questa definizione viene pubblicata nella directory dei servizi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 service consumer emette una o più query alla directory per localizzare un servizio e stabilire come comunicare con quel servizio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a parte del WSDL fornito dal service provider è passata al service consumer. La directory raccoglie le richieste e le risposte del service provider e le fornisce al service consumer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service consumer utilizza il WSDL per mandare una richiesta al service provider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service provider fornisce la risposta attesa al service consumer.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903960" y="116640"/>
            <a:ext cx="7772040" cy="12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WSDL…Utilizz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5" name="Picture 7" descr="Web Services basics"/>
          <p:cNvPicPr/>
          <p:nvPr/>
        </p:nvPicPr>
        <p:blipFill>
          <a:blip r:embed="rId1"/>
          <a:stretch/>
        </p:blipFill>
        <p:spPr>
          <a:xfrm>
            <a:off x="1907640" y="1340640"/>
            <a:ext cx="5904360" cy="46011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</TotalTime>
  <Application>LibreOffice/7.4.7.2$Linux_X86_64 LibreOffice_project/40$Build-2</Application>
  <AppVersion>15.0000</AppVersion>
  <Words>3640</Words>
  <Paragraphs>331</Paragraphs>
  <Company>DIME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5:01:40Z</dcterms:created>
  <dc:creator>Domenico Rosaci</dc:creator>
  <dc:description/>
  <dc:language>en-US</dc:language>
  <cp:lastModifiedBy>Domenico Rosaci</cp:lastModifiedBy>
  <dcterms:modified xsi:type="dcterms:W3CDTF">2017-09-24T21:11:21Z</dcterms:modified>
  <cp:revision>50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2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44</vt:r8>
  </property>
</Properties>
</file>