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378-2C8C-4987-AFBD-C6964101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808-F8AE-4CC8-8CC8-EB6C9F6F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F9A-089C-453E-B7A2-FFE20E97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3C6-D1D0-4B33-B856-A8A9CFE1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967-6BFB-4582-87FB-831DC6DC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C9C-BED4-4A00-AAE9-56F53850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05D-A0B5-4C78-9A33-B10D20F7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0A1-6E58-4DCB-A55D-0CC27E12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570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599-7E7F-4809-AEEA-76B0333F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211-2C09-4253-AF83-D3BF89B4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5AD-A8EB-4759-A2A5-A5711AC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6C7-9764-4CB9-9357-88B0049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9ACBE284-08D4-405E-824C-4E73AA214BA5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B13956-8113-45BA-A1E9-1F846B3A66E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8101080" y="6237360"/>
            <a:ext cx="9489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B84F6E86-4CE4-4154-BD53-08A3665C28E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764720" y="119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Ingegneria del Web e Applicazion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Patterns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di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Tahoma"/>
              </a:rPr>
              <a:t>E-Business</a:t>
            </a:r>
            <a:endParaRPr b="0" lang="it-IT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12000" y="1413000"/>
            <a:ext cx="1331640" cy="502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volta definito il business pattern, occorre identificare le componenti logiche ad alto livello per realizzarlo: queste costituiscono l’application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istono più application pattern per realizzare un business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’application pattern può avere un presentation tier, un application tier ed un back-end application ti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: Directly Integrated Single Channel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575720" y="1845000"/>
            <a:ext cx="6945120" cy="367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: altro esempio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niamo che le polizze automobilistiche e le polizze sulla casa siano contenute in back end different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ora le richieste degli user, che possono riguardare dati differenti, devono essere decompos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tion pattern sarà diverso dal caso preceden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pplic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599120" y="1412640"/>
            <a:ext cx="6756120" cy="36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untime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pplication pattern può essere ulteriormente raffinato nelle funzioni che lo compongono. Ogni funzione costituisce un runtime nod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nodi possono coesistere sulla singola macchina, o essere distribuiti su più macchine (non è rilevante)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:L’utente ha determinato che la sua soluzione si adatta ad un self-service business pattern realizzato con una Directly Integrated Single Channel application pattern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i runtime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3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051640" y="1266480"/>
            <a:ext cx="5616360" cy="481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uoli dei nodi di runtime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ion and application tier: implementati con un Web application server, che combina sia la funzione di HTTP server che quelle di application server: gestisce pagine Web statiche e dinamich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variante può essere data dallo split del Web application server in un HTTP server ed in un application server: altro runtime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Altro runtime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3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3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79640" y="1282320"/>
            <a:ext cx="5722560" cy="47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duct mapp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gni nodo di runtime, si individuano i prodotti adatti a realizzarlo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3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duct mapping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4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95560" y="1556640"/>
            <a:ext cx="7127640" cy="410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-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luzioni aziendali già esistenti, strutturate a layer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ntono il riuso di software concepito per risolvere una data tipologia di problem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livello di dettaglio è costruito sul livello preceden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sempio, la collezione di Pattern IBM comprende sette livell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est Practice Guideline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attern fin qui mostrati servono a definire le specifiche del sistema e l’ambiente di rete. Nulla è detto sull’effettivo svilupp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guideline pattern definisce le tecniche idonee a sviluppare un application pattern, sulla base di: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ign guideli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lop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 Manage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velopment guideline</a:t>
            </a:r>
            <a:endParaRPr b="0" lang="it-IT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4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 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atterns: identificano le interazioni tra utenti, business e dati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patterns: collegano più Business patterns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patterns: rappresentano combinazioni di Business ed Integration patterns di usale ricorrenza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atterns: Forniscono un layer concettuale che descrive come interagiscono le componenti applicative e I dati in un Business o Integration pattern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patterns: definiscono la struttura logica middleware che supporta un Application pattern.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mappings: identifica implementazioni software provate e testate per og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untime pattern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practice guidelines: guidano nello sviluppo.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atterns per l’E Busines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02160" y="1182600"/>
            <a:ext cx="6388560" cy="4982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usiness patterns primari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1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91640" y="1237680"/>
            <a:ext cx="6336360" cy="4820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’uso di un patter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440" cy="452556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agnia assicurativa: si supponga che voglia ridurre i costi dei call centeer, permettendo ai clienti di accedere alle proprie polizze sul Web ed effettuando le modifiche volute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lf-service pattern si adatta perfettamente a questo caso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lf-service pattern è adatto quando è necessario consentire l’accesso diretto degli utenti alle applicazioni e ai dati</a:t>
            </a: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1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gration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21720" y="1845000"/>
            <a:ext cx="7286040" cy="309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11664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binazione Business- Integration: Custom Design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1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0280" y="1485360"/>
            <a:ext cx="6219720" cy="381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posite Patterns</a:t>
            </a: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2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Web Services - Introd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90880" y="1192320"/>
            <a:ext cx="5289120" cy="511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Personalizza struttura">
  <a:themeElements>
    <a:clrScheme name="2_Personalizza struttura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  <Words>645</Words>
  <Paragraphs>90</Paragraphs>
  <Company>DIM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3:35Z</dcterms:modified>
  <cp:revision>19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20</vt:r8>
  </property>
</Properties>
</file>