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6.wmf" ContentType="image/x-wmf"/>
  <Override PartName="/ppt/media/image25.png" ContentType="image/png"/>
  <Override PartName="/ppt/media/image19.jpeg" ContentType="image/jpeg"/>
  <Override PartName="/ppt/media/image7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5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8.png" ContentType="image/png"/>
  <Override PartName="/ppt/media/image21.wmf" ContentType="image/x-wmf"/>
  <Override PartName="/ppt/media/image22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5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6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7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6856-365B-402B-9339-C69C7B14972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DE5-6514-4580-9B71-41427D2AAF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076-CBE3-4C81-98E4-D845C73CE15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E4B-DD22-4EF1-8707-F81BFECB59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1CEB-9D56-4CFA-9F5D-FB2992C79B0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7A87-9AC6-458F-8B7E-D30EB5DDDB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A0A-CF38-48CA-A7E0-C721D60734C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57BC-556D-4715-A121-BE71CE1075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2B8-35B5-4B2E-8927-6C3258FB2B9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B34-BAE0-48A8-A483-35E527AF18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0775-1F18-4D14-A41C-49F8857990C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02A-25F5-4631-AD5A-3368C7DD19E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D5E-FF37-4C74-A6E1-B455B26FD23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C5E-A546-41A4-A538-A6BA5F2B89B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423-71D9-4C37-AC79-B06373D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D5D-3AF5-46F8-B361-9DFC5636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0E3-AA0E-42CD-822F-49A295D4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CC9-207F-4D9B-97D6-B37C4329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267EA-DD52-4E7C-B8E2-D06549AE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D4B58-072D-458D-9DB1-C65BA2E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523A-20A6-41E4-A5A3-39D5478D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EC874-ED42-455C-9A18-B3FAE8D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923B7-698D-46C5-8040-CFDD8DD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30E37-68F3-4D56-BB9C-FDB5703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DFC77-6696-446D-9247-914ECD4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7BB3E-EDDD-4EAD-86E7-389164C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F292C-25DF-4EE4-A444-D61041A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9ACB0-5ACD-4A1D-8AB7-B225970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2660C-8B8B-4478-851C-E36BD33D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251F-A9DB-4134-86DB-1A68F4A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706A4-DCB3-4309-B24A-6216EF48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60A4D6-1529-4550-BA98-FB2DA2B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1B659A-496E-4433-AF37-A653171B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014B6-FB76-4C02-B9DA-EA5F30E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FA9BC-E9AE-4549-9B05-9D14E2E9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3EF07-BF2F-4A7D-B997-256C368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769CD6-CA18-4750-BC4C-1FE62AE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B62-3299-452B-8C60-DF00EE5B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227FF-80E1-45C4-BF52-E49E1A3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49B94-6E8A-411B-B8A8-BB22567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45A29-6921-4E57-8563-9E2B91F7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63D986-E175-4425-850E-FC37E4D3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9593A-5387-4705-B721-857F6695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6EF349-B802-4AAD-AE07-6F2F0AE0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446E90-7BA5-40CB-AC5B-65BF417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269A05-65F7-4B41-9896-3C61C0C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32008A-7E1A-4DFB-ABAF-F716EC2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DA982D-4B8E-413B-A804-08D6B70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A55981-0341-437F-9850-AA9A67DF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07AF00-D95B-4AE3-B7A6-B5EAC2D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E7C410-E87C-4EEB-B7F3-60D55CD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F417AA-8B9A-45EB-9A5D-2A6A3CD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F3CF22-DFA6-453A-ACEB-88D2027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3685FE-1AD1-42D2-8C17-56B05F91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0240C9-24E3-44CD-BFC2-B2D300B9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C420B0-44D4-4BBC-B33E-FD5ACA6A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3545E6-A10C-4BA6-AD24-4BDACF5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BB44BE-F94A-465B-B450-4D00BA4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765CF5-CB57-403D-A284-DD4EB413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48B435-E77D-4F29-B2CD-348CBFF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E0FCB9-2DBA-4E73-8291-88DDCAA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65FAD4-B831-4FBF-AA96-E133E90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CC9DAA-CAA0-4D45-B589-BC6E41D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02A8DA-5D95-4AF9-9975-70DD830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1E4FCF-5DD1-4358-976D-E40E7A1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FEA11E-F556-4A94-B1B4-37E5A8F0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454739-CE9F-49F6-AAD5-3ED823FD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8AE-016C-4BD3-89C5-218804F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9F13C-1318-4CB9-8A5B-D5F67061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2E539-F0FE-4371-B892-E3F435C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5D147-66F1-4376-A191-DBF218D7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1AA-425E-467A-BD07-767AC55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C6395-606D-42E0-A339-9BCE52C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7BAB4-FE65-4BA4-AF8E-52DC9FE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B233-508F-4712-8151-5D29B68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F3CE0-29FC-43A8-8316-E624499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63253-66B9-4E23-8CA8-3FD2A72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34C7E-00C5-41E8-BD3E-F938794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73387-72E5-4628-AB0D-DCE533B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03DB8-85B9-4685-94FE-9744F46F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EDBF4-C0BA-43F8-89A9-857EEDC7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E5B-EF0A-450D-8EE1-E9AAF72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9F6-88BC-4F54-B4F8-31AD040E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264-7D97-45BA-B78E-E28CD8F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09D-D178-4CB2-80A1-B3D3147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3A6-61CD-4DD4-9525-556CECA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5242-B31E-4068-8654-7134AC66F5BA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9051-0F84-4464-AF73-AD39A472D1B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E124-4F4B-427A-93F5-DBB3DC5FC75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51BA-4F0B-4FD2-B773-063F04D5132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4684-1050-40DB-A389-4648806C54C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BDC6-C004-400B-8C39-21496A59183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6399-9309-4863-A22B-86999525713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46B8-2B16-478D-A172-101EBBC68AA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27EC-1FA3-45C0-913A-1795B0E5226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9EB-3741-42D3-AFB7-2FCDDC9EE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5A66-A06E-4B28-84C4-99F9BBFAC4E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2AE8-2453-45F4-97CC-213B2B374EFE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247-6695-4A88-B83F-4D43B14F92A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4A7-F1FF-4AD2-8E61-DBFC82053E12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370C-C784-4209-8446-54016A82DA0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07AF-2318-48E6-92A5-948FB83E4D9A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9320" cy="476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C98-5E8B-4B14-A35C-FCE9B53D7101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. Ros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02D4-4B39-45E1-B930-AD457051FB9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E745-6C20-49FE-94DE-5F80168803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8129-5274-433B-97BB-C7F8BB41A8D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E35D-392F-4701-8B87-F35A59E2AF3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85CC-BEF3-4A84-9E1D-D0653DF80C4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5770-5D42-4347-865A-295E87B53B2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639-83AA-4563-81B7-4529C80AB75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cebook.com/" TargetMode="External"/><Relationship Id="rId2" Type="http://schemas.openxmlformats.org/officeDocument/2006/relationships/hyperlink" Target="http://www.qq.com/" TargetMode="External"/><Relationship Id="rId3" Type="http://schemas.openxmlformats.org/officeDocument/2006/relationships/hyperlink" Target="http://www.myspace.com/" TargetMode="External"/><Relationship Id="rId4" Type="http://schemas.openxmlformats.org/officeDocument/2006/relationships/hyperlink" Target="http://vkontakte.ru/" TargetMode="External"/><Relationship Id="rId5" Type="http://schemas.openxmlformats.org/officeDocument/2006/relationships/hyperlink" Target="http://www.orkut.com/" TargetMode="External"/><Relationship Id="rId6" Type="http://schemas.openxmlformats.org/officeDocument/2006/relationships/hyperlink" Target="http://hi5.com/" TargetMode="External"/><Relationship Id="rId7" Type="http://schemas.openxmlformats.org/officeDocument/2006/relationships/hyperlink" Target="http://www.odnoklassniki.ru/" TargetMode="External"/><Relationship Id="rId8" Type="http://schemas.openxmlformats.org/officeDocument/2006/relationships/hyperlink" Target="http://www.maktoob.com/" TargetMode="External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0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6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6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gegneria del Web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7812000" y="1413000"/>
            <a:ext cx="13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4"/>
          <p:cNvSpPr/>
          <p:nvPr/>
        </p:nvSpPr>
        <p:spPr>
          <a:xfrm>
            <a:off x="755640" y="2421000"/>
            <a:ext cx="2808360" cy="2232000"/>
          </a:xfrm>
          <a:prstGeom prst="ellipse">
            <a:avLst/>
          </a:prstGeom>
          <a:solidFill>
            <a:srgbClr val="f99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5"/>
          <p:cNvSpPr/>
          <p:nvPr/>
        </p:nvSpPr>
        <p:spPr>
          <a:xfrm>
            <a:off x="3059280" y="2060640"/>
            <a:ext cx="2376360" cy="1490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6"/>
          <p:cNvSpPr/>
          <p:nvPr/>
        </p:nvSpPr>
        <p:spPr>
          <a:xfrm>
            <a:off x="4716360" y="2708280"/>
            <a:ext cx="2592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154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2124000" y="458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0"/>
          <p:cNvSpPr/>
          <p:nvPr/>
        </p:nvSpPr>
        <p:spPr>
          <a:xfrm>
            <a:off x="684360" y="3213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1"/>
          <p:cNvSpPr/>
          <p:nvPr/>
        </p:nvSpPr>
        <p:spPr>
          <a:xfrm>
            <a:off x="10429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2"/>
          <p:cNvSpPr/>
          <p:nvPr/>
        </p:nvSpPr>
        <p:spPr>
          <a:xfrm>
            <a:off x="205092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4"/>
          <p:cNvSpPr/>
          <p:nvPr/>
        </p:nvSpPr>
        <p:spPr>
          <a:xfrm>
            <a:off x="198756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29955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47898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7"/>
          <p:cNvSpPr/>
          <p:nvPr/>
        </p:nvSpPr>
        <p:spPr>
          <a:xfrm>
            <a:off x="7021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3780000" y="3357720"/>
            <a:ext cx="215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9"/>
          <p:cNvSpPr/>
          <p:nvPr/>
        </p:nvSpPr>
        <p:spPr>
          <a:xfrm>
            <a:off x="3348000" y="2205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4067280" y="198900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4643280" y="206064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4356000" y="3429000"/>
            <a:ext cx="21600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3"/>
          <p:cNvSpPr/>
          <p:nvPr/>
        </p:nvSpPr>
        <p:spPr>
          <a:xfrm>
            <a:off x="5003640" y="414972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4"/>
          <p:cNvSpPr/>
          <p:nvPr/>
        </p:nvSpPr>
        <p:spPr>
          <a:xfrm>
            <a:off x="5940360" y="2637000"/>
            <a:ext cx="216000" cy="21564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5"/>
          <p:cNvSpPr/>
          <p:nvPr/>
        </p:nvSpPr>
        <p:spPr>
          <a:xfrm>
            <a:off x="6084720" y="4437000"/>
            <a:ext cx="21600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6"/>
          <p:cNvSpPr/>
          <p:nvPr/>
        </p:nvSpPr>
        <p:spPr>
          <a:xfrm>
            <a:off x="7093080" y="3141720"/>
            <a:ext cx="215640" cy="216000"/>
          </a:xfrm>
          <a:prstGeom prst="ellipse">
            <a:avLst/>
          </a:prstGeom>
          <a:solidFill>
            <a:srgbClr val="c61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7"/>
          <p:cNvSpPr/>
          <p:nvPr/>
        </p:nvSpPr>
        <p:spPr>
          <a:xfrm>
            <a:off x="3059280" y="299736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8"/>
          <p:cNvSpPr/>
          <p:nvPr/>
        </p:nvSpPr>
        <p:spPr>
          <a:xfrm>
            <a:off x="4932360" y="2924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9"/>
          <p:cNvSpPr/>
          <p:nvPr/>
        </p:nvSpPr>
        <p:spPr>
          <a:xfrm>
            <a:off x="7093080" y="3933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0"/>
          <p:cNvSpPr/>
          <p:nvPr/>
        </p:nvSpPr>
        <p:spPr>
          <a:xfrm flipV="1">
            <a:off x="1692360" y="371592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1"/>
          <p:cNvSpPr/>
          <p:nvPr/>
        </p:nvSpPr>
        <p:spPr>
          <a:xfrm flipH="1" flipV="1">
            <a:off x="2195640" y="371592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2"/>
          <p:cNvSpPr/>
          <p:nvPr/>
        </p:nvSpPr>
        <p:spPr>
          <a:xfrm flipV="1">
            <a:off x="1042920" y="35733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3"/>
          <p:cNvSpPr/>
          <p:nvPr/>
        </p:nvSpPr>
        <p:spPr>
          <a:xfrm>
            <a:off x="900000" y="3357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4"/>
          <p:cNvSpPr/>
          <p:nvPr/>
        </p:nvSpPr>
        <p:spPr>
          <a:xfrm>
            <a:off x="1258920" y="2924280"/>
            <a:ext cx="865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6"/>
          <p:cNvSpPr/>
          <p:nvPr/>
        </p:nvSpPr>
        <p:spPr>
          <a:xfrm flipV="1">
            <a:off x="2268360" y="3141360"/>
            <a:ext cx="790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8"/>
          <p:cNvSpPr/>
          <p:nvPr/>
        </p:nvSpPr>
        <p:spPr>
          <a:xfrm flipV="1">
            <a:off x="3203640" y="2349360"/>
            <a:ext cx="216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9"/>
          <p:cNvSpPr/>
          <p:nvPr/>
        </p:nvSpPr>
        <p:spPr>
          <a:xfrm flipV="1">
            <a:off x="3276720" y="213336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0"/>
          <p:cNvSpPr/>
          <p:nvPr/>
        </p:nvSpPr>
        <p:spPr>
          <a:xfrm flipV="1">
            <a:off x="3203640" y="2204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1"/>
          <p:cNvSpPr/>
          <p:nvPr/>
        </p:nvSpPr>
        <p:spPr>
          <a:xfrm>
            <a:off x="3276720" y="3141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"/>
          <p:cNvSpPr/>
          <p:nvPr/>
        </p:nvSpPr>
        <p:spPr>
          <a:xfrm>
            <a:off x="3203640" y="306864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3"/>
          <p:cNvSpPr/>
          <p:nvPr/>
        </p:nvSpPr>
        <p:spPr>
          <a:xfrm flipV="1">
            <a:off x="3276720" y="3068280"/>
            <a:ext cx="1726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4"/>
          <p:cNvSpPr/>
          <p:nvPr/>
        </p:nvSpPr>
        <p:spPr>
          <a:xfrm>
            <a:off x="5076720" y="3141720"/>
            <a:ext cx="71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5"/>
          <p:cNvSpPr/>
          <p:nvPr/>
        </p:nvSpPr>
        <p:spPr>
          <a:xfrm flipV="1">
            <a:off x="5076720" y="278136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6"/>
          <p:cNvSpPr/>
          <p:nvPr/>
        </p:nvSpPr>
        <p:spPr>
          <a:xfrm>
            <a:off x="5076720" y="3068640"/>
            <a:ext cx="1079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7"/>
          <p:cNvSpPr/>
          <p:nvPr/>
        </p:nvSpPr>
        <p:spPr>
          <a:xfrm>
            <a:off x="5148360" y="3068640"/>
            <a:ext cx="20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8"/>
          <p:cNvSpPr/>
          <p:nvPr/>
        </p:nvSpPr>
        <p:spPr>
          <a:xfrm>
            <a:off x="5148360" y="3068640"/>
            <a:ext cx="20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9"/>
          <p:cNvSpPr/>
          <p:nvPr/>
        </p:nvSpPr>
        <p:spPr>
          <a:xfrm>
            <a:off x="2637720" y="530064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a A e D tre gradi di sepa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i gradi di separa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1967 una ricerca di Stanley Milgram dimostrò che ogni abitante degli Stati Uniti aveva in media tre gradi di separazione da ogni altro abi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erche più recenti hanno rivelato come oggi tra gli abitanti del pianeta i gradi di separazione siano tra sei e 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e comunità virtuali: un po’ di st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4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gruppi di discussione sono una sorta di “comunità virtuale”* (una sorta di connubio tra la mail e i forum odierni) nacquero in Usa alla fine degli anni 70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ora oggi considerato il “seme” da cui è nata e si è diffusa la cultur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senet i messagg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ono categorizzati i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grou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sviluppano in discussioni definit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hread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ando un programma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ws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ogle groups ha raccolto l’eredità di Usenet (di cui detiene l’archiv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956880" y="6184800"/>
            <a:ext cx="54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* Concetto introdotto da Howard Rheingold nel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BB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Bullettin Board System) sono stati i primi network soc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seguito giunser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ocitie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Tripo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i primi che consentirono agli utenti di caricare pagine web e di chattare in rooms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 po’ di sto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imo social network ufficialmente riconosciuto è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Sixdegre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anciato nel 1997 fu chiuso nel 2000 per lasciare il passo a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Friends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2002) che per primo introdusse dettagli sul profilo e la possibilità di caricare immag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8" descr="sixdegrees%20logo.jpg"/>
          <p:cNvPicPr/>
          <p:nvPr/>
        </p:nvPicPr>
        <p:blipFill>
          <a:blip r:embed="rId1"/>
          <a:stretch/>
        </p:blipFill>
        <p:spPr>
          <a:xfrm>
            <a:off x="5292720" y="1628640"/>
            <a:ext cx="301608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lle comunità online ai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95480" y="1700280"/>
            <a:ext cx="82296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nascita degli SNS indica un cambiamento nella organizzazione delle comunità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comunità online iniziali (come Usenet e i forum di discussione) erano strutturati per argomenti o per gerarchie di argomenti, gli SNS, invece, sono strutturati come </a:t>
            </a: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reti person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o “egocentriche”), con l’individuo al centro della propria comunità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sa sono 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yd ed Ellison* definiscono i social network come: “servizi web che permettono agli utenti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ire un profilo pubblico o semi pubblico all’interno di un perimetro circoscri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colare una lista di altri utenti con i quali condividere un legame/conn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ere e incrociare la propria lista di contatti e quelli fatti da altri all’interno del siste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834840" y="587700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.M.Boyd and N. Ellison - (2007). Social network sites: Defi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history, and scholarship. Journal of Computer-Mediate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imenti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70580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ocial network possono essere definiti come “spazi sociali basati su Internet, o device mobili, disegnati per facilitare la comunicazione, collaborazione e scambi di contenuti attraverso una rete di contatt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Qualcosa in com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22400" y="1341360"/>
            <a:ext cx="77263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social network più diffusi hanno comunque della </a:t>
            </a:r>
            <a:r>
              <a:rPr b="0" lang="it-IT" sz="2000" spc="-1" strike="noStrike" u="sng">
                <a:solidFill>
                  <a:srgbClr val="c6100c"/>
                </a:solidFill>
                <a:uFillTx/>
                <a:latin typeface="Arial"/>
              </a:rPr>
              <a:t>caratteristiche tip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cco le princi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Profil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generalmente costituito da una hp personale o di gruppo con testi, immagini è lista degli “amici”. Possono esistere diversi template da adottare, con maggiore o minore libertà di struttur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a rete di relazioni può assumere diverse denominazioni. Previsti inviti e accettazioni per farne parte. Le reti in genere sono permeabili (posso navigare nella rete di un am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610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Comunic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essaggi e commenti sono il flusso comunicativo della rete (integrati da foto e vi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tipologia d’u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09160" y="1341000"/>
            <a:ext cx="4038840" cy="34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re o sviluppare amici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rcare contenuti 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re e condividere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5148360" y="1370160"/>
            <a:ext cx="40384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reare confidenza/fiducia nel mar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Reclutare clienti e dipen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109520" y="4826160"/>
            <a:ext cx="77104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6100c"/>
                </a:solidFill>
                <a:latin typeface="Arial"/>
                <a:ea typeface="Arial"/>
              </a:rPr>
              <a:t>DIDAT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zione tra studenti, docenti e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ve si parla di Netwo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1258920" y="2492280"/>
            <a:ext cx="990720" cy="609840"/>
          </a:xfrm>
          <a:prstGeom prst="wedgeRoundRectCallout">
            <a:avLst>
              <a:gd name="adj1" fmla="val 1921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ed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"/>
          <p:cNvSpPr/>
          <p:nvPr/>
        </p:nvSpPr>
        <p:spPr>
          <a:xfrm>
            <a:off x="3809880" y="51055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igrant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6"/>
          <p:cNvSpPr/>
          <p:nvPr/>
        </p:nvSpPr>
        <p:spPr>
          <a:xfrm>
            <a:off x="1219320" y="4495680"/>
            <a:ext cx="914400" cy="609840"/>
          </a:xfrm>
          <a:prstGeom prst="wedgeRoundRectCallout">
            <a:avLst>
              <a:gd name="adj1" fmla="val 47569"/>
              <a:gd name="adj2" fmla="val 9166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 Innovation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5562720" y="2666880"/>
            <a:ext cx="914400" cy="609840"/>
          </a:xfrm>
          <a:prstGeom prst="wedgeRoundRectCallout">
            <a:avLst>
              <a:gd name="adj1" fmla="val 64583"/>
              <a:gd name="adj2" fmla="val 825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5867280" y="4495680"/>
            <a:ext cx="1219320" cy="609840"/>
          </a:xfrm>
          <a:prstGeom prst="wedgeRoundRectCallout">
            <a:avLst>
              <a:gd name="adj1" fmla="val -45310"/>
              <a:gd name="adj2" fmla="val 70050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2895480" y="2590920"/>
            <a:ext cx="914400" cy="609480"/>
          </a:xfrm>
          <a:prstGeom prst="wedgeRoundRectCallout">
            <a:avLst>
              <a:gd name="adj1" fmla="val -20657"/>
              <a:gd name="adj2" fmla="val 108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go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696080" y="27432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on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7467480" y="5105520"/>
            <a:ext cx="1067040" cy="609480"/>
          </a:xfrm>
          <a:prstGeom prst="wedgeRoundRectCallout">
            <a:avLst>
              <a:gd name="adj1" fmla="val -30356"/>
              <a:gd name="adj2" fmla="val 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4191120" y="350532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cial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person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/sviluppare contatti e amici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ovare contenuti/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re con altr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laborare e condividere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stare aggiornamenti sulla propria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re affezione al mar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stione della reputazion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clutamento di clienti e impie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rendimento su tecnologie e 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</a:t>
            </a:r>
            <a:r>
              <a:rPr b="0" lang="it-IT" sz="4400" spc="-1" strike="noStrike">
                <a:solidFill>
                  <a:srgbClr val="c6100c"/>
                </a:solidFill>
                <a:latin typeface="Arial"/>
              </a:rPr>
              <a:t>Educ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llaborazione tra studenti, insegnanti e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o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segnamento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e tipologie d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GENERALIS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Facebook, MySpace che connettono persone di ogni tipo per gli scopi più v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INTERES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Linkedin, Flickr, Youtube, Delicious: alla base c’è sempre un interesse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1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I SCOP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accolgono persone che hanno uno scopo di azione specifico (spesso politico o associ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2118960" y="638172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Vincos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3" descr="social_net_world_users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05620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4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op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15440" y="611352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Vincos, giugn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li Outsi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ocial network brasiliano (operato da Google) registra la penetrazione domestica più elevata (70%) di qualsiasi social network n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ltre a essere primo in classifica, detiene anche il più elevato Average Time per Visitor tra i 75 brand più popolari del mondo. Il tempo passato dagli utenti su FB è cresciuto più del 566% in un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9" descr="facebook.jpg"/>
          <p:cNvPicPr/>
          <p:nvPr/>
        </p:nvPicPr>
        <p:blipFill>
          <a:blip r:embed="rId1"/>
          <a:stretch/>
        </p:blipFill>
        <p:spPr>
          <a:xfrm>
            <a:off x="5651640" y="1268280"/>
            <a:ext cx="1800000" cy="561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8" descr="orkut-logo.jpg"/>
          <p:cNvPicPr/>
          <p:nvPr/>
        </p:nvPicPr>
        <p:blipFill>
          <a:blip r:embed="rId2"/>
          <a:stretch/>
        </p:blipFill>
        <p:spPr>
          <a:xfrm>
            <a:off x="1476360" y="1268280"/>
            <a:ext cx="1873440" cy="68760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8"/>
          <p:cNvSpPr/>
          <p:nvPr/>
        </p:nvSpPr>
        <p:spPr>
          <a:xfrm>
            <a:off x="2991240" y="63086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rci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la conquista di nuovi territori non accenna a fermarsi (sono 111 su 131 le nazioni in cui risulta dominante). In questi mesi ha avuto la meglio su reti sociali locali che sembravano difficili da scavalcare com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iends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e Filippin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ret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aiwan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Lituania 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i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Portogallo, Peru, Romania, Tailan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ku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strappato l’Estonia e forse l’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esi che resistono sono quelli dell’ex Unione Sovietica, affezionat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dnoklassnik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 Kontak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in Europa l’Ungheria, la Polonia e l’Ol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ader nel mo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s almost colonized Europe and it’s extending its domination with more than 500 millions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Q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eader in China, is the largest social network of the world (300 millions active accounts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ySp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ost its leadership everywhere (except in Guam)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 Kontak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s the most popular in Russian territories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k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India and Brazil</a:t>
            </a:r>
            <a:br>
              <a:rPr sz="1800"/>
            </a:br>
            <a:br>
              <a:rPr sz="1800"/>
            </a:b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i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ill leading in Peru, Colombia, Ecuador and other scattered countries such as Portugal, Mongolia, Roman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dnoklassnik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strong in some former territories of the Soviet Un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ktoo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 the most important Arab community/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sono le SN? Cos’è la Social Network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homenetwork"/>
          <p:cNvPicPr/>
          <p:nvPr/>
        </p:nvPicPr>
        <p:blipFill>
          <a:blip r:embed="rId1"/>
          <a:stretch/>
        </p:blipFill>
        <p:spPr>
          <a:xfrm>
            <a:off x="1316160" y="299412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697640" y="3581280"/>
            <a:ext cx="38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Analysis è una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 il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ercatori, politici e persone d’og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 parlano di Reti attorno a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 cos’è una Re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6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rappresentano il segmento con la crescita più veloce di Internet. Circa 3 volte il tasso di crescita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stanno crescendo al tasso annuale del 47% e raggiungono il 45% del totale degli uten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ocial network e i blog sono al 4° posto delle attività online più popolar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11 minuti si registra un nuovo membro online sui soci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i da Facebook e Twitter, il tempo globale trascorso sui siti social network aumenta dell’82% l’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opolarità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74508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obalmente, i social networks e i blog sono le categorie più popolari online se considerate </a:t>
            </a:r>
            <a:r>
              <a:rPr b="0" lang="it-IT" sz="2000" spc="-1" strike="noStrike">
                <a:solidFill>
                  <a:srgbClr val="c6100c"/>
                </a:solidFill>
                <a:latin typeface="Arial"/>
              </a:rPr>
              <a:t>dal punto di vista del tempo trascor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gli utenti nel dicembre 2009. Seguono i giochi e l’instant mess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oltre 300 milioni di visitatori unici, Facebook era a dicembre 2009 il social network più visitato e il 67% degli utenti globali dei social media ha visitato il sito nel corso de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sce anche il tempo in cui mediamente l’utente si collega a Facebook: 6 ore al 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social-media-time1"/>
          <p:cNvPicPr/>
          <p:nvPr/>
        </p:nvPicPr>
        <p:blipFill>
          <a:blip r:embed="rId1"/>
          <a:stretch/>
        </p:blipFill>
        <p:spPr>
          <a:xfrm>
            <a:off x="3635280" y="1916280"/>
            <a:ext cx="523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Percentuale dei contatti quotidi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3" descr="graph"/>
          <p:cNvPicPr/>
          <p:nvPr/>
        </p:nvPicPr>
        <p:blipFill>
          <a:blip r:embed="rId1"/>
          <a:stretch/>
        </p:blipFill>
        <p:spPr>
          <a:xfrm>
            <a:off x="1042920" y="1700280"/>
            <a:ext cx="7234200" cy="397980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4"/>
          <p:cNvSpPr/>
          <p:nvPr/>
        </p:nvSpPr>
        <p:spPr>
          <a:xfrm>
            <a:off x="2201760" y="6093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elaborazione dati Alexa.com, april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permanenza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social_network_unique audience_nielsen"/>
          <p:cNvPicPr/>
          <p:nvPr/>
        </p:nvPicPr>
        <p:blipFill>
          <a:blip r:embed="rId1"/>
          <a:stretch/>
        </p:blipFill>
        <p:spPr>
          <a:xfrm>
            <a:off x="1042920" y="1413000"/>
            <a:ext cx="7632720" cy="41004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2756160" y="6040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te: Nielsen, gennai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so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5" descr="social_net_vs_email"/>
          <p:cNvPicPr/>
          <p:nvPr/>
        </p:nvPicPr>
        <p:blipFill>
          <a:blip r:embed="rId1"/>
          <a:stretch/>
        </p:blipFill>
        <p:spPr>
          <a:xfrm>
            <a:off x="539640" y="1397160"/>
            <a:ext cx="8136000" cy="48812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2107800" y="6381720"/>
            <a:ext cx="44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Fonte: Morgan Stanley – 2010 Internet Trend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4 da Mark Zuckerberg,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acebook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ra originariamente utilizzato e limitato nell’ambito del campus universitario di Harvard come ret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erto a tutti nel 2006 (&gt;13 an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oggi il primo social network del mondo per numero di ac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9" descr="facebook.jpg"/>
          <p:cNvPicPr/>
          <p:nvPr/>
        </p:nvPicPr>
        <p:blipFill>
          <a:blip r:embed="rId1"/>
          <a:stretch/>
        </p:blipFill>
        <p:spPr>
          <a:xfrm>
            <a:off x="2771640" y="333360"/>
            <a:ext cx="3600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209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00 mln di utenti a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 mln di uten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ioni in 70 lingue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 miliardi di foto caricate al m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4 milioni di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75 milioni di accessi giornalieri al profil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cia d’età con il maggiore tasso di crescita: 3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pendenti: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09: 435 milioni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lta pubblicitaria 2010: 605 mln di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9" descr="facebook.jpg"/>
          <p:cNvPicPr/>
          <p:nvPr/>
        </p:nvPicPr>
        <p:blipFill>
          <a:blip r:embed="rId1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universo di Face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5" descr="Facebook_facilities"/>
          <p:cNvPicPr/>
          <p:nvPr/>
        </p:nvPicPr>
        <p:blipFill>
          <a:blip r:embed="rId1"/>
          <a:stretch/>
        </p:blipFill>
        <p:spPr>
          <a:xfrm>
            <a:off x="468360" y="1557360"/>
            <a:ext cx="82994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8" name="Object 2"/>
          <p:cNvGraphicFramePr/>
          <p:nvPr/>
        </p:nvGraphicFramePr>
        <p:xfrm>
          <a:off x="723960" y="1600200"/>
          <a:ext cx="814212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00200"/>
                    <a:ext cx="81421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Picture 9" descr="facebook.jpg"/>
          <p:cNvPicPr/>
          <p:nvPr/>
        </p:nvPicPr>
        <p:blipFill>
          <a:blip r:embed="rId3"/>
          <a:stretch/>
        </p:blipFill>
        <p:spPr>
          <a:xfrm>
            <a:off x="1835280" y="549360"/>
            <a:ext cx="1800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2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crescita d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4" descr="facebook_growth"/>
          <p:cNvPicPr/>
          <p:nvPr/>
        </p:nvPicPr>
        <p:blipFill>
          <a:blip r:embed="rId1"/>
          <a:stretch/>
        </p:blipFill>
        <p:spPr>
          <a:xfrm>
            <a:off x="1187280" y="1268280"/>
            <a:ext cx="6266160" cy="52279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9" descr="facebook.jpg"/>
          <p:cNvPicPr/>
          <p:nvPr/>
        </p:nvPicPr>
        <p:blipFill>
          <a:blip r:embed="rId2"/>
          <a:stretch/>
        </p:blipFill>
        <p:spPr>
          <a:xfrm>
            <a:off x="5724360" y="549360"/>
            <a:ext cx="1800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’è una Re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Diagram 7"/>
          <p:cNvGrpSpPr/>
          <p:nvPr/>
        </p:nvGrpSpPr>
        <p:grpSpPr>
          <a:xfrm>
            <a:off x="2131560" y="2239920"/>
            <a:ext cx="1453680" cy="1952640"/>
            <a:chOff x="2131560" y="2239920"/>
            <a:chExt cx="1453680" cy="1952640"/>
          </a:xfrm>
        </p:grpSpPr>
        <p:sp>
          <p:nvSpPr>
            <p:cNvPr id="810" name="_s1028"/>
            <p:cNvSpPr/>
            <p:nvPr/>
          </p:nvSpPr>
          <p:spPr>
            <a:xfrm flipH="1" flipV="1">
              <a:off x="2566440" y="2936520"/>
              <a:ext cx="1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_s1029"/>
            <p:cNvSpPr/>
            <p:nvPr/>
          </p:nvSpPr>
          <p:spPr>
            <a:xfrm>
              <a:off x="2238120" y="252576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_s1030"/>
            <p:cNvSpPr/>
            <p:nvPr/>
          </p:nvSpPr>
          <p:spPr>
            <a:xfrm flipH="1">
              <a:off x="2495160" y="3310200"/>
              <a:ext cx="181800" cy="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_s1031"/>
            <p:cNvSpPr/>
            <p:nvPr/>
          </p:nvSpPr>
          <p:spPr>
            <a:xfrm>
              <a:off x="213156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_s1032"/>
            <p:cNvSpPr/>
            <p:nvPr/>
          </p:nvSpPr>
          <p:spPr>
            <a:xfrm flipH="1">
              <a:off x="2696760" y="3481560"/>
              <a:ext cx="810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_s1033"/>
            <p:cNvSpPr/>
            <p:nvPr/>
          </p:nvSpPr>
          <p:spPr>
            <a:xfrm>
              <a:off x="2431800" y="368640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_s1034"/>
            <p:cNvSpPr/>
            <p:nvPr/>
          </p:nvSpPr>
          <p:spPr>
            <a:xfrm>
              <a:off x="2938680" y="3479760"/>
              <a:ext cx="8064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_s1035"/>
            <p:cNvSpPr/>
            <p:nvPr/>
          </p:nvSpPr>
          <p:spPr>
            <a:xfrm>
              <a:off x="2914200" y="3686400"/>
              <a:ext cx="36972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_s1036"/>
            <p:cNvSpPr/>
            <p:nvPr/>
          </p:nvSpPr>
          <p:spPr>
            <a:xfrm>
              <a:off x="3037320" y="3308400"/>
              <a:ext cx="182880" cy="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1037"/>
            <p:cNvSpPr/>
            <p:nvPr/>
          </p:nvSpPr>
          <p:spPr>
            <a:xfrm>
              <a:off x="3215880" y="3170520"/>
              <a:ext cx="369360" cy="50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1038"/>
            <p:cNvSpPr/>
            <p:nvPr/>
          </p:nvSpPr>
          <p:spPr>
            <a:xfrm flipV="1">
              <a:off x="3001320" y="2935080"/>
              <a:ext cx="14580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_s1039"/>
            <p:cNvSpPr/>
            <p:nvPr/>
          </p:nvSpPr>
          <p:spPr>
            <a:xfrm>
              <a:off x="3107880" y="2525760"/>
              <a:ext cx="36936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_s1040"/>
            <p:cNvSpPr/>
            <p:nvPr/>
          </p:nvSpPr>
          <p:spPr>
            <a:xfrm flipV="1">
              <a:off x="2857320" y="27450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_s1041"/>
            <p:cNvSpPr/>
            <p:nvPr/>
          </p:nvSpPr>
          <p:spPr>
            <a:xfrm>
              <a:off x="2673000" y="223992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_s1042"/>
            <p:cNvSpPr/>
            <p:nvPr/>
          </p:nvSpPr>
          <p:spPr>
            <a:xfrm>
              <a:off x="2673000" y="3002040"/>
              <a:ext cx="369720" cy="50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Diagram 43"/>
          <p:cNvGrpSpPr/>
          <p:nvPr/>
        </p:nvGrpSpPr>
        <p:grpSpPr>
          <a:xfrm>
            <a:off x="5911200" y="2265120"/>
            <a:ext cx="1131120" cy="1691640"/>
            <a:chOff x="5911200" y="2265120"/>
            <a:chExt cx="1131120" cy="1691640"/>
          </a:xfrm>
        </p:grpSpPr>
        <p:sp>
          <p:nvSpPr>
            <p:cNvPr id="826" name="_s1045"/>
            <p:cNvSpPr/>
            <p:nvPr/>
          </p:nvSpPr>
          <p:spPr>
            <a:xfrm flipH="1">
              <a:off x="6203160" y="3434040"/>
              <a:ext cx="137880" cy="1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_s1046"/>
            <p:cNvSpPr/>
            <p:nvPr/>
          </p:nvSpPr>
          <p:spPr>
            <a:xfrm>
              <a:off x="5911200" y="343584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1047"/>
            <p:cNvSpPr/>
            <p:nvPr/>
          </p:nvSpPr>
          <p:spPr>
            <a:xfrm>
              <a:off x="6612120" y="3434040"/>
              <a:ext cx="13680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_s1048"/>
            <p:cNvSpPr/>
            <p:nvPr/>
          </p:nvSpPr>
          <p:spPr>
            <a:xfrm>
              <a:off x="6729120" y="343728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_s1049"/>
            <p:cNvSpPr/>
            <p:nvPr/>
          </p:nvSpPr>
          <p:spPr>
            <a:xfrm flipV="1">
              <a:off x="6476760" y="278280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_s1050"/>
            <p:cNvSpPr/>
            <p:nvPr/>
          </p:nvSpPr>
          <p:spPr>
            <a:xfrm>
              <a:off x="6320520" y="22651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_s1051"/>
            <p:cNvSpPr/>
            <p:nvPr/>
          </p:nvSpPr>
          <p:spPr>
            <a:xfrm>
              <a:off x="6320520" y="3046320"/>
              <a:ext cx="313200" cy="51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Diagram 121"/>
          <p:cNvGrpSpPr/>
          <p:nvPr/>
        </p:nvGrpSpPr>
        <p:grpSpPr>
          <a:xfrm>
            <a:off x="4245480" y="1273320"/>
            <a:ext cx="1034280" cy="2102760"/>
            <a:chOff x="4245480" y="1273320"/>
            <a:chExt cx="1034280" cy="2102760"/>
          </a:xfrm>
        </p:grpSpPr>
        <p:sp>
          <p:nvSpPr>
            <p:cNvPr id="834" name="_s1054"/>
            <p:cNvSpPr/>
            <p:nvPr/>
          </p:nvSpPr>
          <p:spPr>
            <a:xfrm flipH="1">
              <a:off x="4502880" y="2323800"/>
              <a:ext cx="1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_s1055"/>
            <p:cNvSpPr/>
            <p:nvPr/>
          </p:nvSpPr>
          <p:spPr>
            <a:xfrm>
              <a:off x="424548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_s1056"/>
            <p:cNvSpPr/>
            <p:nvPr/>
          </p:nvSpPr>
          <p:spPr>
            <a:xfrm>
              <a:off x="4762440" y="258552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_s1057"/>
            <p:cNvSpPr/>
            <p:nvPr/>
          </p:nvSpPr>
          <p:spPr>
            <a:xfrm>
              <a:off x="4633920" y="285156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_s1058"/>
            <p:cNvSpPr/>
            <p:nvPr/>
          </p:nvSpPr>
          <p:spPr>
            <a:xfrm>
              <a:off x="4890960" y="2323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_s1059"/>
            <p:cNvSpPr/>
            <p:nvPr/>
          </p:nvSpPr>
          <p:spPr>
            <a:xfrm>
              <a:off x="502200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_s1060"/>
            <p:cNvSpPr/>
            <p:nvPr/>
          </p:nvSpPr>
          <p:spPr>
            <a:xfrm flipV="1">
              <a:off x="4762440" y="17960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_s1061"/>
            <p:cNvSpPr/>
            <p:nvPr/>
          </p:nvSpPr>
          <p:spPr>
            <a:xfrm>
              <a:off x="4633920" y="1273320"/>
              <a:ext cx="257760" cy="52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_s1062"/>
            <p:cNvSpPr/>
            <p:nvPr/>
          </p:nvSpPr>
          <p:spPr>
            <a:xfrm>
              <a:off x="4633920" y="2062440"/>
              <a:ext cx="257760" cy="524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Text Box 136"/>
          <p:cNvSpPr/>
          <p:nvPr/>
        </p:nvSpPr>
        <p:spPr>
          <a:xfrm>
            <a:off x="838080" y="4724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37"/>
          <p:cNvSpPr/>
          <p:nvPr/>
        </p:nvSpPr>
        <p:spPr>
          <a:xfrm flipV="1">
            <a:off x="3352680" y="15238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39"/>
          <p:cNvSpPr/>
          <p:nvPr/>
        </p:nvSpPr>
        <p:spPr>
          <a:xfrm>
            <a:off x="4876920" y="1371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40"/>
          <p:cNvSpPr/>
          <p:nvPr/>
        </p:nvSpPr>
        <p:spPr>
          <a:xfrm>
            <a:off x="1174680" y="4888080"/>
            <a:ext cx="7429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nodi, punti o luoghi collegati per mezzo di comunicazione dati, voce e video con lo scopo della “condivision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42"/>
          <p:cNvSpPr/>
          <p:nvPr/>
        </p:nvSpPr>
        <p:spPr>
          <a:xfrm rot="1823400">
            <a:off x="5256720" y="1752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empre più su Facebook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e Youtu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Picture 4" descr="Untitled-2"/>
          <p:cNvPicPr/>
          <p:nvPr/>
        </p:nvPicPr>
        <p:blipFill>
          <a:blip r:embed="rId1"/>
          <a:stretch/>
        </p:blipFill>
        <p:spPr>
          <a:xfrm>
            <a:off x="1116000" y="1327320"/>
            <a:ext cx="69134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ato nel 2002 utilizzò inizialmente gli account di Friendster. Permise per primo la customizzazione della pagina e divenne ben presto il primo social network per numero di u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l luglio 2005 è di proprietà della News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2009 11° sito più popolare a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5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08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nato nel 2003 come social network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to anche per reclutare personale, avviare contatti commerciali o comunque legati al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50 milioni di account in 200 Paes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3" descr="linkedin_logo.jpg"/>
          <p:cNvPicPr/>
          <p:nvPr/>
        </p:nvPicPr>
        <p:blipFill>
          <a:blip r:embed="rId1"/>
          <a:stretch/>
        </p:blipFill>
        <p:spPr>
          <a:xfrm>
            <a:off x="3203640" y="333360"/>
            <a:ext cx="25923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 stato di salute dei S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79480" y="1413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% degli utenti dei SN produce il 90% dei contenut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asso di abbandono (quelli che hanno un account su Twitter, ma non postano nulla, è del 60% a un mese dalla sottoscrizione), e 90% per periodi più lun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ta affermando una élite di comunicatori digitali: maschi, bianchi, di cultura ele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etention rate a un mese dalla sottoscrizione è più elevato su Facebook e MySpace rispetto a Twitter ritenuto culturalmente più sofisticat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c1f08"/>
                </a:solidFill>
                <a:latin typeface="Arial"/>
              </a:rPr>
              <a:t>Pochi comunicatori reclutano migliaia di lettori: la maggioranza degli utenti del web 2.0 regredisce in tempi brevi dallo status di produttore/consumatore al mero status di consum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2179800" y="618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Fonte: 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2010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le Social Networks hanno a che fare con i K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Diagram 5"/>
          <p:cNvGrpSpPr/>
          <p:nvPr/>
        </p:nvGrpSpPr>
        <p:grpSpPr>
          <a:xfrm>
            <a:off x="2400120" y="1826280"/>
            <a:ext cx="4267080" cy="3632760"/>
            <a:chOff x="2400120" y="1826280"/>
            <a:chExt cx="4267080" cy="3632760"/>
          </a:xfrm>
        </p:grpSpPr>
        <p:sp>
          <p:nvSpPr>
            <p:cNvPr id="1006" name="_s2052"/>
            <p:cNvSpPr/>
            <p:nvPr/>
          </p:nvSpPr>
          <p:spPr>
            <a:xfrm>
              <a:off x="3576600" y="2470680"/>
              <a:ext cx="1914120" cy="18453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2053"/>
            <p:cNvSpPr/>
            <p:nvPr/>
          </p:nvSpPr>
          <p:spPr>
            <a:xfrm>
              <a:off x="4278600" y="1826280"/>
              <a:ext cx="509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2054"/>
            <p:cNvSpPr/>
            <p:nvPr/>
          </p:nvSpPr>
          <p:spPr>
            <a:xfrm>
              <a:off x="4206240" y="3522960"/>
              <a:ext cx="1914480" cy="18453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2055"/>
            <p:cNvSpPr/>
            <p:nvPr/>
          </p:nvSpPr>
          <p:spPr>
            <a:xfrm>
              <a:off x="615708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2056"/>
            <p:cNvSpPr/>
            <p:nvPr/>
          </p:nvSpPr>
          <p:spPr>
            <a:xfrm>
              <a:off x="2946240" y="3522960"/>
              <a:ext cx="1914480" cy="18453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2057"/>
            <p:cNvSpPr/>
            <p:nvPr/>
          </p:nvSpPr>
          <p:spPr>
            <a:xfrm>
              <a:off x="2400120" y="4998600"/>
              <a:ext cx="510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Text Box 13"/>
          <p:cNvSpPr/>
          <p:nvPr/>
        </p:nvSpPr>
        <p:spPr>
          <a:xfrm>
            <a:off x="4122360" y="2971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2895480" y="426708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5"/>
          <p:cNvSpPr/>
          <p:nvPr/>
        </p:nvSpPr>
        <p:spPr>
          <a:xfrm>
            <a:off x="4646520" y="41562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4268520" y="3886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7"/>
          <p:cNvSpPr/>
          <p:nvPr/>
        </p:nvSpPr>
        <p:spPr>
          <a:xfrm>
            <a:off x="1159200" y="537372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Knowledge Management Systems coinvolgono persone, tecnologi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 in modo sovra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 e K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3708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hè studiamo le Social Network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7440" y="2565360"/>
            <a:ext cx="359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ò che rende le Information Architecture, il Knowledge Management e la Social Network Analysis più vicine, è la reciproca relazione tra persone e conte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Diagram 6"/>
          <p:cNvGrpSpPr/>
          <p:nvPr/>
        </p:nvGrpSpPr>
        <p:grpSpPr>
          <a:xfrm>
            <a:off x="4851360" y="1843560"/>
            <a:ext cx="3632400" cy="3286800"/>
            <a:chOff x="4851360" y="1843560"/>
            <a:chExt cx="3632400" cy="3286800"/>
          </a:xfrm>
        </p:grpSpPr>
        <p:sp>
          <p:nvSpPr>
            <p:cNvPr id="1021" name="_s3076"/>
            <p:cNvSpPr/>
            <p:nvPr/>
          </p:nvSpPr>
          <p:spPr>
            <a:xfrm flipH="1">
              <a:off x="5794560" y="4117680"/>
              <a:ext cx="43488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_s3077"/>
            <p:cNvSpPr/>
            <p:nvPr/>
          </p:nvSpPr>
          <p:spPr>
            <a:xfrm>
              <a:off x="4851360" y="4119120"/>
              <a:ext cx="1009800" cy="1011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_s3078"/>
            <p:cNvSpPr/>
            <p:nvPr/>
          </p:nvSpPr>
          <p:spPr>
            <a:xfrm>
              <a:off x="7104240" y="4119120"/>
              <a:ext cx="43632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_s3079"/>
            <p:cNvSpPr/>
            <p:nvPr/>
          </p:nvSpPr>
          <p:spPr>
            <a:xfrm>
              <a:off x="7473960" y="4117680"/>
              <a:ext cx="1009800" cy="1010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_s3080"/>
            <p:cNvSpPr/>
            <p:nvPr/>
          </p:nvSpPr>
          <p:spPr>
            <a:xfrm flipV="1">
              <a:off x="6667560" y="285444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_s3081"/>
            <p:cNvSpPr/>
            <p:nvPr/>
          </p:nvSpPr>
          <p:spPr>
            <a:xfrm>
              <a:off x="6162840" y="1843560"/>
              <a:ext cx="1009440" cy="101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_s3082"/>
            <p:cNvSpPr/>
            <p:nvPr/>
          </p:nvSpPr>
          <p:spPr>
            <a:xfrm>
              <a:off x="6162840" y="3360600"/>
              <a:ext cx="1009440" cy="101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8" name="Picture 15" descr="Illustration: Reciprocal Relationship Between People and Content"/>
            <p:cNvPicPr/>
            <p:nvPr/>
          </p:nvPicPr>
          <p:blipFill>
            <a:blip r:embed="rId1"/>
            <a:stretch/>
          </p:blipFill>
          <p:spPr>
            <a:xfrm>
              <a:off x="5964120" y="3077640"/>
              <a:ext cx="1406880" cy="158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39680" y="1599840"/>
            <a:ext cx="7925040" cy="21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ocial network analysis [SNA] consiste nel mappare e misurare relazioni e flussi tra persone, gruppi, organizzazioni, computers ed altre entità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odi della rete sono le persone ed I gruppi mentre gli archi mostrano relazioni o flussi tra I no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4" descr="Social-network"/>
          <p:cNvPicPr/>
          <p:nvPr/>
        </p:nvPicPr>
        <p:blipFill>
          <a:blip r:embed="rId1"/>
          <a:stretch/>
        </p:blipFill>
        <p:spPr>
          <a:xfrm>
            <a:off x="2286000" y="3657600"/>
            <a:ext cx="438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1042920" y="2276640"/>
            <a:ext cx="813456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corpus teorico e i modelli usati per lo studio delle reti sociali sono compresi nella cosiddett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ocial networ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ricerca condotta nell'ambito di diversi approcci disciplinari ha evidenziato come le reti sociali operino a più livelli (dalle famiglie alle comunità nazionali) e svolgano un ruolo cruciale nel determinare le modalità di risoluzione di problemi e i sistemi di gestione delle organizzazioni, nonché le possibilità dei singoli individui di raggiungere i propri obie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a metafora dei social network è stata utilizzata per più di un secolo per rappresentare insiemi di complesse interrelazioni tra i membri di un sistema sociale su varie scale, da quelle interpersonali a quell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alisi dei social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327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Lo studio dei network sociali si è trasformata dall’essere una suggestiva metafora per diventare un approccio analitico vero proprio, con i suoi enunciati teorici, metodi di ricerca specifici e ricercatori specializz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Vengono utilizzati in diversi settori della scienza applicata: antropologia, biologia, studi di comunicazione, economia, geografia, informatica, organizzazione, psicologia sociale e socio-linguist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Metodi di misura nei social netwo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Hanno lo scopo di studiare diverse proprie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, coes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di clustering ('cliquishness‘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S PGothic"/>
              </a:rPr>
              <a:t>Coefficienti struttural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MS PGothic"/>
              </a:rPr>
              <a:t>CENTRA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: indicazione del potere sociale dei nodi basato sulla loro capacità di rendere “connesso” i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26" descr="j0195384"/>
          <p:cNvPicPr/>
          <p:nvPr/>
        </p:nvPicPr>
        <p:blipFill>
          <a:blip r:embed="rId1"/>
          <a:stretch/>
        </p:blipFill>
        <p:spPr>
          <a:xfrm>
            <a:off x="7696080" y="27432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8" descr="j0292020"/>
          <p:cNvPicPr/>
          <p:nvPr/>
        </p:nvPicPr>
        <p:blipFill>
          <a:blip r:embed="rId2"/>
          <a:stretch/>
        </p:blipFill>
        <p:spPr>
          <a:xfrm>
            <a:off x="4191120" y="2973240"/>
            <a:ext cx="1143000" cy="1392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9" descr="j0301252"/>
          <p:cNvPicPr/>
          <p:nvPr/>
        </p:nvPicPr>
        <p:blipFill>
          <a:blip r:embed="rId3"/>
          <a:stretch/>
        </p:blipFill>
        <p:spPr>
          <a:xfrm>
            <a:off x="7543800" y="4419720"/>
            <a:ext cx="1143000" cy="14126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0" descr="j0234687"/>
          <p:cNvPicPr/>
          <p:nvPr/>
        </p:nvPicPr>
        <p:blipFill>
          <a:blip r:embed="rId4"/>
          <a:stretch/>
        </p:blipFill>
        <p:spPr>
          <a:xfrm>
            <a:off x="4191120" y="4594320"/>
            <a:ext cx="1228680" cy="10666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1" descr="j0234657"/>
          <p:cNvPicPr/>
          <p:nvPr/>
        </p:nvPicPr>
        <p:blipFill>
          <a:blip r:embed="rId5"/>
          <a:stretch/>
        </p:blipFill>
        <p:spPr>
          <a:xfrm>
            <a:off x="617220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4" descr="j0302953"/>
          <p:cNvPicPr/>
          <p:nvPr/>
        </p:nvPicPr>
        <p:blipFill>
          <a:blip r:embed="rId6"/>
          <a:stretch/>
        </p:blipFill>
        <p:spPr>
          <a:xfrm>
            <a:off x="6095880" y="13716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855" name="Line 37"/>
          <p:cNvSpPr/>
          <p:nvPr/>
        </p:nvSpPr>
        <p:spPr>
          <a:xfrm flipH="1">
            <a:off x="5409720" y="41148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8"/>
          <p:cNvSpPr/>
          <p:nvPr/>
        </p:nvSpPr>
        <p:spPr>
          <a:xfrm flipH="1" flipV="1">
            <a:off x="5334120" y="3276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9"/>
          <p:cNvSpPr/>
          <p:nvPr/>
        </p:nvSpPr>
        <p:spPr>
          <a:xfrm flipV="1">
            <a:off x="6705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40"/>
          <p:cNvSpPr/>
          <p:nvPr/>
        </p:nvSpPr>
        <p:spPr>
          <a:xfrm flipV="1">
            <a:off x="7238880" y="3504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1"/>
          <p:cNvSpPr/>
          <p:nvPr/>
        </p:nvSpPr>
        <p:spPr>
          <a:xfrm>
            <a:off x="7238880" y="4114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3"/>
          <p:cNvSpPr/>
          <p:nvPr/>
        </p:nvSpPr>
        <p:spPr>
          <a:xfrm>
            <a:off x="1201680" y="1276200"/>
            <a:ext cx="502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ial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è una descrizione di una struttura sociale fra attori, principalmente individui o organizzazioni. Essa specifica il modo in cui gli attori sono connessi attraverso viarie relazioni sociali, che vanno da conoscenze causali fino a rapporti parent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a centralità cerca di misurar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S PGothic"/>
              </a:rPr>
              <a:t>l’importanza di un ver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gra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sono conessi a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vicinanz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o vicino sono a tutti gli altri nod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Centralità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termediazi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: “quanti nodi hanno bisogno di me come intermediario nelle loro comunicazion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Primi studi sulla centr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3"/>
          <p:cNvSpPr/>
          <p:nvPr/>
        </p:nvSpPr>
        <p:spPr>
          <a:xfrm>
            <a:off x="971640" y="1052640"/>
            <a:ext cx="770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’idea di centralità applicata alla comunicazione tra individui fu introdotta dallo studioso di psicosociologia americano Bavelas nel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Studi riguardante la comunicazione in piccoli gruppi di individui: ipotesi di relazione tra centralità strutturale e influenza all’interno di processi di gr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e ricerche evidenziarono legame tra centralità e efficienza del gruppo in processi di problem-solving, percezione della leadership e personale soddisfazione dei partecipanti al grup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Freeman “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  <a:ea typeface="MS PGothic"/>
              </a:rPr>
              <a:t>Centrality in social networks: conceptual clarification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MS PGothic"/>
              </a:rPr>
              <a:t>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1044720" y="1268280"/>
            <a:ext cx="7848360" cy="51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Il sociologo L. Freeman scrive, nel 1979: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L'idea di centralità è viva ed è stata mobilitata in una varietà di applicazioni sempre più ampia. Tutti concordano, a quanto pare, sul fatto che la centralità sia un importante attributo della struttura di un network sociale. Tutti convengono sul fatto che essa sia fortemente legata ad altre importanti proprietà e processi all'interno di un gruppo. Ma qui il consenso finisce. Non vi è sicuramente accordo su cosa sia esattamente la centralità o sulle sue radici concettuali, e vi è poco consenso sulle corrette procedure per la sua misurazione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2846520" y="1215360"/>
            <a:ext cx="3973680" cy="4143600"/>
            <a:chOff x="2846520" y="1215360"/>
            <a:chExt cx="3973680" cy="4143600"/>
          </a:xfrm>
        </p:grpSpPr>
        <p:sp>
          <p:nvSpPr>
            <p:cNvPr id="1045" name="Oval 3"/>
            <p:cNvSpPr/>
            <p:nvPr/>
          </p:nvSpPr>
          <p:spPr>
            <a:xfrm>
              <a:off x="4717080" y="3137400"/>
              <a:ext cx="188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4"/>
            <p:cNvGrpSpPr/>
            <p:nvPr/>
          </p:nvGrpSpPr>
          <p:grpSpPr>
            <a:xfrm>
              <a:off x="3081240" y="1838160"/>
              <a:ext cx="1698120" cy="1356840"/>
              <a:chOff x="3081240" y="1838160"/>
              <a:chExt cx="1698120" cy="1356840"/>
            </a:xfrm>
          </p:grpSpPr>
          <p:sp>
            <p:nvSpPr>
              <p:cNvPr id="1047" name="Oval 5"/>
              <p:cNvSpPr/>
              <p:nvPr/>
            </p:nvSpPr>
            <p:spPr>
              <a:xfrm>
                <a:off x="3081240" y="1838160"/>
                <a:ext cx="188640" cy="17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6"/>
              <p:cNvSpPr/>
              <p:nvPr/>
            </p:nvSpPr>
            <p:spPr>
              <a:xfrm>
                <a:off x="3205800" y="1955520"/>
                <a:ext cx="157356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7"/>
            <p:cNvGrpSpPr/>
            <p:nvPr/>
          </p:nvGrpSpPr>
          <p:grpSpPr>
            <a:xfrm>
              <a:off x="3936600" y="1215360"/>
              <a:ext cx="906480" cy="2012400"/>
              <a:chOff x="3936600" y="1215360"/>
              <a:chExt cx="906480" cy="2012400"/>
            </a:xfrm>
          </p:grpSpPr>
          <p:sp>
            <p:nvSpPr>
              <p:cNvPr id="1050" name="Oval 8"/>
              <p:cNvSpPr/>
              <p:nvPr/>
            </p:nvSpPr>
            <p:spPr>
              <a:xfrm rot="1749000">
                <a:off x="3966840" y="1249920"/>
                <a:ext cx="187920" cy="174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9"/>
              <p:cNvSpPr/>
              <p:nvPr/>
            </p:nvSpPr>
            <p:spPr>
              <a:xfrm>
                <a:off x="4076640" y="1380600"/>
                <a:ext cx="766440" cy="18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4802040" y="1276200"/>
              <a:ext cx="838080" cy="2008800"/>
              <a:chOff x="4802040" y="1276200"/>
              <a:chExt cx="838080" cy="2008800"/>
            </a:xfrm>
          </p:grpSpPr>
          <p:sp>
            <p:nvSpPr>
              <p:cNvPr id="1053" name="Oval 11"/>
              <p:cNvSpPr/>
              <p:nvPr/>
            </p:nvSpPr>
            <p:spPr>
              <a:xfrm rot="4126800">
                <a:off x="5428800" y="1299960"/>
                <a:ext cx="18072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2"/>
              <p:cNvSpPr/>
              <p:nvPr/>
            </p:nvSpPr>
            <p:spPr>
              <a:xfrm flipH="1">
                <a:off x="4802040" y="1428480"/>
                <a:ext cx="700200" cy="18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4816800" y="2335320"/>
              <a:ext cx="2003400" cy="868680"/>
              <a:chOff x="4816800" y="2335320"/>
              <a:chExt cx="2003400" cy="868680"/>
            </a:xfrm>
          </p:grpSpPr>
          <p:sp>
            <p:nvSpPr>
              <p:cNvPr id="1056" name="Oval 14"/>
              <p:cNvSpPr/>
              <p:nvPr/>
            </p:nvSpPr>
            <p:spPr>
              <a:xfrm rot="6981000">
                <a:off x="6609240" y="2360880"/>
                <a:ext cx="1746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"/>
              <p:cNvSpPr/>
              <p:nvPr/>
            </p:nvSpPr>
            <p:spPr>
              <a:xfrm flipH="1">
                <a:off x="4816800" y="2470680"/>
                <a:ext cx="1843200" cy="73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4841640" y="3246840"/>
              <a:ext cx="1793880" cy="1241280"/>
              <a:chOff x="4841640" y="3246840"/>
              <a:chExt cx="1793880" cy="1241280"/>
            </a:xfrm>
          </p:grpSpPr>
          <p:sp>
            <p:nvSpPr>
              <p:cNvPr id="1059" name="Oval 17"/>
              <p:cNvSpPr/>
              <p:nvPr/>
            </p:nvSpPr>
            <p:spPr>
              <a:xfrm rot="10545000">
                <a:off x="6440400" y="4307400"/>
                <a:ext cx="188640" cy="17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8"/>
              <p:cNvSpPr/>
              <p:nvPr/>
            </p:nvSpPr>
            <p:spPr>
              <a:xfrm flipH="1" flipV="1">
                <a:off x="4841640" y="3246840"/>
                <a:ext cx="166464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4543560" y="3215880"/>
              <a:ext cx="303840" cy="2143080"/>
              <a:chOff x="4543560" y="3215880"/>
              <a:chExt cx="303840" cy="2143080"/>
            </a:xfrm>
          </p:grpSpPr>
          <p:sp>
            <p:nvSpPr>
              <p:cNvPr id="1062" name="Oval 20"/>
              <p:cNvSpPr/>
              <p:nvPr/>
            </p:nvSpPr>
            <p:spPr>
              <a:xfrm rot="13981800">
                <a:off x="4583160" y="5139000"/>
                <a:ext cx="175320" cy="18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21"/>
              <p:cNvSpPr/>
              <p:nvPr/>
            </p:nvSpPr>
            <p:spPr>
              <a:xfrm flipV="1">
                <a:off x="4675320" y="3215880"/>
                <a:ext cx="172080" cy="19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2846520" y="3251160"/>
              <a:ext cx="1916280" cy="1044720"/>
              <a:chOff x="2846520" y="3251160"/>
              <a:chExt cx="1916280" cy="1044720"/>
            </a:xfrm>
          </p:grpSpPr>
          <p:sp>
            <p:nvSpPr>
              <p:cNvPr id="1065" name="Oval 23"/>
              <p:cNvSpPr/>
              <p:nvPr/>
            </p:nvSpPr>
            <p:spPr>
              <a:xfrm rot="17441400">
                <a:off x="2875680" y="4085280"/>
                <a:ext cx="179640" cy="18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24"/>
              <p:cNvSpPr/>
              <p:nvPr/>
            </p:nvSpPr>
            <p:spPr>
              <a:xfrm flipV="1">
                <a:off x="3001680" y="3251160"/>
                <a:ext cx="1761120" cy="9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826920" y="5589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Tutte le misure di centralità attribuiscono centralità massima al fulcro di una stella 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hu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MS PGothi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468360" y="270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entralità in un network: misure class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826920" y="90792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Possiede il massimo grado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Giace sul massimo numero di geodetiche che collegano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Si trova alla minima distanza da tutti gli altri ver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Immagine 1" descr="stella.png"/>
          <p:cNvPicPr/>
          <p:nvPr/>
        </p:nvPicPr>
        <p:blipFill>
          <a:blip r:embed="rId1"/>
          <a:stretch/>
        </p:blipFill>
        <p:spPr>
          <a:xfrm>
            <a:off x="5981760" y="400680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2"/>
          <p:cNvSpPr/>
          <p:nvPr/>
        </p:nvSpPr>
        <p:spPr>
          <a:xfrm>
            <a:off x="3636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unica la posizione di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Immagine 1" descr="stella.png"/>
          <p:cNvPicPr/>
          <p:nvPr/>
        </p:nvPicPr>
        <p:blipFill>
          <a:blip r:embed="rId1"/>
          <a:stretch/>
        </p:blipFill>
        <p:spPr>
          <a:xfrm>
            <a:off x="6053040" y="3573360"/>
            <a:ext cx="2766960" cy="273528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3"/>
          <p:cNvSpPr/>
          <p:nvPr/>
        </p:nvSpPr>
        <p:spPr>
          <a:xfrm>
            <a:off x="1150920" y="1125360"/>
            <a:ext cx="4716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s’è che rende centrale un individuo i in un dato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Immagine 1" descr="stella.png"/>
          <p:cNvPicPr/>
          <p:nvPr/>
        </p:nvPicPr>
        <p:blipFill>
          <a:blip r:embed="rId1"/>
          <a:stretch/>
        </p:blipFill>
        <p:spPr>
          <a:xfrm>
            <a:off x="6485040" y="907920"/>
            <a:ext cx="2190600" cy="216720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"/>
          <p:cNvSpPr/>
          <p:nvPr/>
        </p:nvSpPr>
        <p:spPr>
          <a:xfrm>
            <a:off x="71280" y="122400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uò comunicare con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0" y="198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ccia destra 1"/>
          <p:cNvSpPr/>
          <p:nvPr/>
        </p:nvSpPr>
        <p:spPr>
          <a:xfrm>
            <a:off x="1433520" y="258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asellaDiTesto 2"/>
          <p:cNvSpPr/>
          <p:nvPr/>
        </p:nvSpPr>
        <p:spPr>
          <a:xfrm>
            <a:off x="3046320" y="254628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gree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Immagine 5" descr="Schermata 2014-05-04 a 12.05.39.png"/>
          <p:cNvPicPr/>
          <p:nvPr/>
        </p:nvPicPr>
        <p:blipFill>
          <a:blip r:embed="rId2"/>
          <a:stretch/>
        </p:blipFill>
        <p:spPr>
          <a:xfrm>
            <a:off x="179280" y="4022640"/>
            <a:ext cx="88282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Immagine 1" descr="stella.png"/>
          <p:cNvPicPr/>
          <p:nvPr/>
        </p:nvPicPr>
        <p:blipFill>
          <a:blip r:embed="rId1"/>
          <a:stretch/>
        </p:blipFill>
        <p:spPr>
          <a:xfrm>
            <a:off x="6773760" y="1119240"/>
            <a:ext cx="2190960" cy="216540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3"/>
          <p:cNvSpPr/>
          <p:nvPr/>
        </p:nvSpPr>
        <p:spPr>
          <a:xfrm>
            <a:off x="71280" y="863640"/>
            <a:ext cx="8821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Vi sono molti altri nodi che necessitano di i         come intermediario nelle loro 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ccia destra 1"/>
          <p:cNvSpPr/>
          <p:nvPr/>
        </p:nvSpPr>
        <p:spPr>
          <a:xfrm>
            <a:off x="1187280" y="25844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CasellaDiTesto 2"/>
          <p:cNvSpPr/>
          <p:nvPr/>
        </p:nvSpPr>
        <p:spPr>
          <a:xfrm>
            <a:off x="2690280" y="254628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etwe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Immagine 3" descr="Schermata 2014-05-04 a 12.10.16.png"/>
          <p:cNvPicPr/>
          <p:nvPr/>
        </p:nvPicPr>
        <p:blipFill>
          <a:blip r:embed="rId2"/>
          <a:stretch/>
        </p:blipFill>
        <p:spPr>
          <a:xfrm>
            <a:off x="108000" y="3716280"/>
            <a:ext cx="8997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3"/>
          <p:cNvSpPr/>
          <p:nvPr/>
        </p:nvSpPr>
        <p:spPr>
          <a:xfrm>
            <a:off x="71280" y="1008000"/>
            <a:ext cx="8821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È vicino a molti altr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mmagine 1" descr="stella.png"/>
          <p:cNvPicPr/>
          <p:nvPr/>
        </p:nvPicPr>
        <p:blipFill>
          <a:blip r:embed="rId1"/>
          <a:stretch/>
        </p:blipFill>
        <p:spPr>
          <a:xfrm>
            <a:off x="6773760" y="692280"/>
            <a:ext cx="2190960" cy="216684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2"/>
          <p:cNvSpPr/>
          <p:nvPr/>
        </p:nvSpPr>
        <p:spPr>
          <a:xfrm>
            <a:off x="0" y="12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Misure di central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ccia destra 1"/>
          <p:cNvSpPr/>
          <p:nvPr/>
        </p:nvSpPr>
        <p:spPr>
          <a:xfrm>
            <a:off x="1187280" y="1936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CasellaDiTesto 2"/>
          <p:cNvSpPr/>
          <p:nvPr/>
        </p:nvSpPr>
        <p:spPr>
          <a:xfrm>
            <a:off x="2688480" y="18972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oseness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Immagine 4" descr="Schermata 2014-05-04 a 12.15.30.png"/>
          <p:cNvPicPr/>
          <p:nvPr/>
        </p:nvPicPr>
        <p:blipFill>
          <a:blip r:embed="rId2"/>
          <a:stretch/>
        </p:blipFill>
        <p:spPr>
          <a:xfrm>
            <a:off x="179280" y="3278160"/>
            <a:ext cx="88599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09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09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0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1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45"/>
            <p:cNvSpPr/>
            <p:nvPr/>
          </p:nvSpPr>
          <p:spPr>
            <a:xfrm>
              <a:off x="3348000" y="4157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48"/>
          <p:cNvSpPr/>
          <p:nvPr/>
        </p:nvSpPr>
        <p:spPr>
          <a:xfrm>
            <a:off x="2162160" y="189000"/>
            <a:ext cx="383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(Shaw, 1954, and Nieminen, 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Degree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49"/>
          <p:cNvSpPr/>
          <p:nvPr/>
        </p:nvSpPr>
        <p:spPr>
          <a:xfrm>
            <a:off x="6227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i nodi sono connessi a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898560" y="134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Ret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definisce una “rete sociale” come un gruppo di persone connesse da legami sociali (principalmente conoscenze, lavoro e famig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Teoria delle reti sociali studia la società come insieme di relazioni: ogni individuo è condizionato dalle proprie relazioni che sono anche alla base del propri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612720" y="1268280"/>
            <a:ext cx="4967280" cy="4479480"/>
            <a:chOff x="612720" y="1268280"/>
            <a:chExt cx="4967280" cy="4479480"/>
          </a:xfrm>
        </p:grpSpPr>
        <p:grpSp>
          <p:nvGrpSpPr>
            <p:cNvPr id="1144" name="Group 3"/>
            <p:cNvGrpSpPr/>
            <p:nvPr/>
          </p:nvGrpSpPr>
          <p:grpSpPr>
            <a:xfrm>
              <a:off x="971640" y="1284120"/>
              <a:ext cx="1441440" cy="1455840"/>
              <a:chOff x="971640" y="1284120"/>
              <a:chExt cx="1441440" cy="1455840"/>
            </a:xfrm>
          </p:grpSpPr>
          <p:sp>
            <p:nvSpPr>
              <p:cNvPr id="1145" name="AutoShape 4"/>
              <p:cNvSpPr/>
              <p:nvPr/>
            </p:nvSpPr>
            <p:spPr>
              <a:xfrm>
                <a:off x="1059120" y="135576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5"/>
              <p:cNvSpPr/>
              <p:nvPr/>
            </p:nvSpPr>
            <p:spPr>
              <a:xfrm>
                <a:off x="1059120" y="18604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6"/>
              <p:cNvSpPr/>
              <p:nvPr/>
            </p:nvSpPr>
            <p:spPr>
              <a:xfrm flipV="1">
                <a:off x="1347840" y="186012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7"/>
              <p:cNvSpPr/>
              <p:nvPr/>
            </p:nvSpPr>
            <p:spPr>
              <a:xfrm flipV="1">
                <a:off x="1347840" y="135540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8"/>
              <p:cNvSpPr/>
              <p:nvPr/>
            </p:nvSpPr>
            <p:spPr>
              <a:xfrm flipH="1" flipV="1">
                <a:off x="1740240" y="135540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 flipH="1">
                <a:off x="1059120" y="186048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10"/>
              <p:cNvSpPr/>
              <p:nvPr/>
            </p:nvSpPr>
            <p:spPr>
              <a:xfrm>
                <a:off x="1649520" y="128412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Oval 11"/>
              <p:cNvSpPr/>
              <p:nvPr/>
            </p:nvSpPr>
            <p:spPr>
              <a:xfrm>
                <a:off x="2268720" y="17733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12"/>
              <p:cNvSpPr/>
              <p:nvPr/>
            </p:nvSpPr>
            <p:spPr>
              <a:xfrm>
                <a:off x="204804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Oval 13"/>
              <p:cNvSpPr/>
              <p:nvPr/>
            </p:nvSpPr>
            <p:spPr>
              <a:xfrm>
                <a:off x="1256040" y="25956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14"/>
              <p:cNvSpPr/>
              <p:nvPr/>
            </p:nvSpPr>
            <p:spPr>
              <a:xfrm>
                <a:off x="971640" y="178740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15"/>
            <p:cNvGrpSpPr/>
            <p:nvPr/>
          </p:nvGrpSpPr>
          <p:grpSpPr>
            <a:xfrm>
              <a:off x="4138560" y="1268280"/>
              <a:ext cx="1441440" cy="1455840"/>
              <a:chOff x="4138560" y="1268280"/>
              <a:chExt cx="1441440" cy="1455840"/>
            </a:xfrm>
          </p:grpSpPr>
          <p:sp>
            <p:nvSpPr>
              <p:cNvPr id="1157" name="AutoShape 16"/>
              <p:cNvSpPr/>
              <p:nvPr/>
            </p:nvSpPr>
            <p:spPr>
              <a:xfrm>
                <a:off x="4226040" y="1339920"/>
                <a:ext cx="1296720" cy="129708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7"/>
              <p:cNvSpPr/>
              <p:nvPr/>
            </p:nvSpPr>
            <p:spPr>
              <a:xfrm>
                <a:off x="4226040" y="184464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8"/>
              <p:cNvSpPr/>
              <p:nvPr/>
            </p:nvSpPr>
            <p:spPr>
              <a:xfrm flipV="1">
                <a:off x="4514760" y="1844280"/>
                <a:ext cx="100800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 flipV="1">
                <a:off x="4514760" y="1339560"/>
                <a:ext cx="39240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0"/>
              <p:cNvSpPr/>
              <p:nvPr/>
            </p:nvSpPr>
            <p:spPr>
              <a:xfrm flipH="1" flipV="1">
                <a:off x="4907160" y="1339560"/>
                <a:ext cx="3268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1"/>
              <p:cNvSpPr/>
              <p:nvPr/>
            </p:nvSpPr>
            <p:spPr>
              <a:xfrm flipH="1">
                <a:off x="4226040" y="1844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22"/>
              <p:cNvSpPr/>
              <p:nvPr/>
            </p:nvSpPr>
            <p:spPr>
              <a:xfrm>
                <a:off x="4816440" y="126828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23"/>
              <p:cNvSpPr/>
              <p:nvPr/>
            </p:nvSpPr>
            <p:spPr>
              <a:xfrm>
                <a:off x="5435640" y="17575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24"/>
              <p:cNvSpPr/>
              <p:nvPr/>
            </p:nvSpPr>
            <p:spPr>
              <a:xfrm>
                <a:off x="5214960" y="256392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Oval 25"/>
              <p:cNvSpPr/>
              <p:nvPr/>
            </p:nvSpPr>
            <p:spPr>
              <a:xfrm>
                <a:off x="4422960" y="25797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26"/>
              <p:cNvSpPr/>
              <p:nvPr/>
            </p:nvSpPr>
            <p:spPr>
              <a:xfrm>
                <a:off x="4138560" y="1771560"/>
                <a:ext cx="14436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27"/>
            <p:cNvGrpSpPr/>
            <p:nvPr/>
          </p:nvGrpSpPr>
          <p:grpSpPr>
            <a:xfrm>
              <a:off x="2535120" y="4292640"/>
              <a:ext cx="1441440" cy="1455120"/>
              <a:chOff x="2535120" y="4292640"/>
              <a:chExt cx="1441440" cy="1455120"/>
            </a:xfrm>
          </p:grpSpPr>
          <p:sp>
            <p:nvSpPr>
              <p:cNvPr id="1169" name="AutoShape 28"/>
              <p:cNvSpPr/>
              <p:nvPr/>
            </p:nvSpPr>
            <p:spPr>
              <a:xfrm>
                <a:off x="2622600" y="4363920"/>
                <a:ext cx="1296720" cy="1296720"/>
              </a:xfrm>
              <a:prstGeom prst="pentag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9"/>
              <p:cNvSpPr/>
              <p:nvPr/>
            </p:nvSpPr>
            <p:spPr>
              <a:xfrm>
                <a:off x="262260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30"/>
              <p:cNvSpPr/>
              <p:nvPr/>
            </p:nvSpPr>
            <p:spPr>
              <a:xfrm flipV="1">
                <a:off x="2911320" y="4868640"/>
                <a:ext cx="100800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31"/>
              <p:cNvSpPr/>
              <p:nvPr/>
            </p:nvSpPr>
            <p:spPr>
              <a:xfrm flipV="1">
                <a:off x="2911320" y="4363920"/>
                <a:ext cx="39240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32"/>
              <p:cNvSpPr/>
              <p:nvPr/>
            </p:nvSpPr>
            <p:spPr>
              <a:xfrm flipH="1" flipV="1">
                <a:off x="3303720" y="4363920"/>
                <a:ext cx="32688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33"/>
              <p:cNvSpPr/>
              <p:nvPr/>
            </p:nvSpPr>
            <p:spPr>
              <a:xfrm flipH="1">
                <a:off x="2622600" y="4868640"/>
                <a:ext cx="129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Oval 34"/>
              <p:cNvSpPr/>
              <p:nvPr/>
            </p:nvSpPr>
            <p:spPr>
              <a:xfrm>
                <a:off x="3213000" y="42926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5"/>
              <p:cNvSpPr/>
              <p:nvPr/>
            </p:nvSpPr>
            <p:spPr>
              <a:xfrm>
                <a:off x="3832200" y="47815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Oval 36"/>
              <p:cNvSpPr/>
              <p:nvPr/>
            </p:nvSpPr>
            <p:spPr>
              <a:xfrm>
                <a:off x="3611520" y="558792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37"/>
              <p:cNvSpPr/>
              <p:nvPr/>
            </p:nvSpPr>
            <p:spPr>
              <a:xfrm>
                <a:off x="2819520" y="5603760"/>
                <a:ext cx="14436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38"/>
              <p:cNvSpPr/>
              <p:nvPr/>
            </p:nvSpPr>
            <p:spPr>
              <a:xfrm>
                <a:off x="2535120" y="479556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39"/>
            <p:cNvSpPr/>
            <p:nvPr/>
          </p:nvSpPr>
          <p:spPr>
            <a:xfrm>
              <a:off x="2124000" y="265248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0"/>
            <p:cNvSpPr/>
            <p:nvPr/>
          </p:nvSpPr>
          <p:spPr>
            <a:xfrm flipV="1">
              <a:off x="3276720" y="2652480"/>
              <a:ext cx="122400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41"/>
            <p:cNvSpPr/>
            <p:nvPr/>
          </p:nvSpPr>
          <p:spPr>
            <a:xfrm>
              <a:off x="3205080" y="3357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42"/>
            <p:cNvSpPr/>
            <p:nvPr/>
          </p:nvSpPr>
          <p:spPr>
            <a:xfrm>
              <a:off x="612720" y="157140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43"/>
            <p:cNvSpPr/>
            <p:nvPr/>
          </p:nvSpPr>
          <p:spPr>
            <a:xfrm>
              <a:off x="1908000" y="2724120"/>
              <a:ext cx="3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44"/>
            <p:cNvSpPr/>
            <p:nvPr/>
          </p:nvSpPr>
          <p:spPr>
            <a:xfrm>
              <a:off x="3348000" y="34448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45"/>
            <p:cNvSpPr/>
            <p:nvPr/>
          </p:nvSpPr>
          <p:spPr>
            <a:xfrm>
              <a:off x="3348000" y="415764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46"/>
            <p:cNvSpPr/>
            <p:nvPr/>
          </p:nvSpPr>
          <p:spPr>
            <a:xfrm>
              <a:off x="4284720" y="27954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7"/>
            <p:cNvSpPr/>
            <p:nvPr/>
          </p:nvSpPr>
          <p:spPr>
            <a:xfrm>
              <a:off x="3276720" y="3444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Rectangle 48"/>
          <p:cNvSpPr/>
          <p:nvPr/>
        </p:nvSpPr>
        <p:spPr>
          <a:xfrm>
            <a:off x="1487880" y="0"/>
            <a:ext cx="4502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  <a:ea typeface="MS PGothic"/>
              </a:rPr>
              <a:t>Closeness centr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49"/>
          <p:cNvSpPr/>
          <p:nvPr/>
        </p:nvSpPr>
        <p:spPr>
          <a:xfrm>
            <a:off x="6443640" y="404640"/>
            <a:ext cx="2700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PGothic"/>
              </a:rPr>
              <a:t>Quanto vicino sono a tutti gli altri no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50"/>
          <p:cNvSpPr/>
          <p:nvPr/>
        </p:nvSpPr>
        <p:spPr>
          <a:xfrm>
            <a:off x="3059280" y="292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2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1"/>
          <p:cNvSpPr/>
          <p:nvPr/>
        </p:nvSpPr>
        <p:spPr>
          <a:xfrm>
            <a:off x="46656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52"/>
          <p:cNvSpPr/>
          <p:nvPr/>
        </p:nvSpPr>
        <p:spPr>
          <a:xfrm>
            <a:off x="5760" y="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(Beauchamp, 1965 and Sabidussi,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3"/>
          <p:cNvSpPr/>
          <p:nvPr/>
        </p:nvSpPr>
        <p:spPr>
          <a:xfrm>
            <a:off x="2125800" y="2349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[3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125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esempio: misure di centralit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2" descr="C:\Users\User\Dropbox\DOTTORATO\Seminari\Teoria dei Giochi - Collegio Borromeo\immagini\Schermata 2014-05-04 a 14.57.46.png"/>
          <p:cNvPicPr/>
          <p:nvPr/>
        </p:nvPicPr>
        <p:blipFill>
          <a:blip r:embed="rId1"/>
          <a:stretch/>
        </p:blipFill>
        <p:spPr>
          <a:xfrm>
            <a:off x="2556000" y="1268280"/>
            <a:ext cx="4176720" cy="25988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3" descr="C:\Users\User\Desktop\temporary\tabella.JPG"/>
          <p:cNvPicPr/>
          <p:nvPr/>
        </p:nvPicPr>
        <p:blipFill>
          <a:blip r:embed="rId2"/>
          <a:stretch/>
        </p:blipFill>
        <p:spPr>
          <a:xfrm>
            <a:off x="1908000" y="4411800"/>
            <a:ext cx="56167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legami forti e deb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ociologo Mark Granovetter* identifica tre tipi di legami tipici delle reti soc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FOR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stituiti da famigliari, amici e incontri frequ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DEBO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oscenti, incontri occa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gami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ASS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ncontri anoni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768240" y="57531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The Strenght of the weak t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ncetto di “Capitale social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novetter identifica il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capitale soc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me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somma delle risorse (attuali o virtuali) che un individuo (o un gruppo) possiede per il fatto di avere una rete duratura di relazioni più o meno istituzionalizzate di mutua conoscenza e riconosciment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apitale sociale deriva sia dai legami forti, sia dai legami de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 rete sociale “tipic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iando i primati l’antropologo Robin Dunbar ipotizza che esistano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vincoli di carattere cogni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a dimensione di una rete sociale e che la rete sociale “tipica” umana sia composta da </a:t>
            </a:r>
            <a:r>
              <a:rPr b="0" lang="it-IT" sz="3200" spc="-1" strike="noStrike">
                <a:solidFill>
                  <a:srgbClr val="c6100c"/>
                </a:solidFill>
                <a:latin typeface="Arial"/>
              </a:rPr>
              <a:t>150 individui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88200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*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enico</dc:creator>
  <dc:description/>
  <dc:language>en-US</dc:language>
  <cp:lastModifiedBy>Domenico Rosaci</cp:lastModifiedBy>
  <dcterms:modified xsi:type="dcterms:W3CDTF">2017-09-24T21:17:07Z</dcterms:modified>
  <cp:revision>60</cp:revision>
  <dc:subject/>
  <dc:title>Corso di Ingegneria del Web A A. 2014 2015  Domenico Rosaci  Linguaggi di Scripting</dc:title>
</cp:coreProperties>
</file>